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13.png" ContentType="image/png"/>
  <Override PartName="/ppt/media/image8.png" ContentType="image/png"/>
  <Override PartName="/ppt/media/image14.jpeg" ContentType="image/jpeg"/>
  <Override PartName="/ppt/media/image11.png" ContentType="image/png"/>
  <Override PartName="/ppt/media/image7.jpeg" ContentType="image/jpeg"/>
  <Override PartName="/ppt/media/image18.png" ContentType="image/png"/>
  <Override PartName="/ppt/media/image28.jpeg" ContentType="image/jpeg"/>
  <Override PartName="/ppt/media/image6.png" ContentType="image/png"/>
  <Override PartName="/ppt/media/image29.png" ContentType="image/png"/>
  <Override PartName="/ppt/media/image5.jpeg" ContentType="image/jpeg"/>
  <Override PartName="/ppt/media/image4.png" ContentType="image/png"/>
  <Override PartName="/ppt/media/image27.png" ContentType="image/png"/>
  <Override PartName="/ppt/media/image25.jpeg" ContentType="image/jpeg"/>
  <Override PartName="/ppt/media/image2.jpeg" ContentType="image/jpeg"/>
  <Override PartName="/ppt/media/image24.png" ContentType="image/png"/>
  <Override PartName="/ppt/media/image23.png" ContentType="image/png"/>
  <Override PartName="/ppt/media/image22.png" ContentType="image/png"/>
  <Override PartName="/ppt/media/image1.jpeg" ContentType="image/jpeg"/>
  <Override PartName="/ppt/media/image10.png" ContentType="image/png"/>
  <Override PartName="/ppt/media/image21.png" ContentType="image/png"/>
  <Override PartName="/ppt/media/image19.png" ContentType="image/png"/>
  <Override PartName="/ppt/media/image26.png" ContentType="image/png"/>
  <Override PartName="/ppt/media/image17.jpeg" ContentType="image/jpeg"/>
  <Override PartName="/ppt/media/image16.jpeg" ContentType="image/jpeg"/>
  <Override PartName="/ppt/media/image3.jpeg" ContentType="image/jpeg"/>
  <Override PartName="/ppt/media/image1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91E2B3-E795-4B90-9EFD-4544F73DE3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A289BE-5CD3-405A-8D5D-AEA2CD521C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3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3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8C76757-EA66-4498-A20D-7EE27266D1B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D9E7896-369D-4861-843B-0C41C9A26DA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88E80FE-79A0-4F8B-9A61-3D77C8058AF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3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3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3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A1FF99-C62D-4288-9FBE-63834AA385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3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3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3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B7821A-4EA6-46B5-BDEF-9781EFEC20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3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3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3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ABF898-B622-40B2-B77B-BC93F73988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3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3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2BF0199-99EB-490A-A65E-01B73942D41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3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3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3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3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22BA8F8-9E16-47AE-8BC4-43BAAF3B78D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3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3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3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3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3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3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E232EA5-5AD1-47AD-B189-6D87EE3C398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4E72343-6D61-445E-BDAD-70026EFDDD6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0BA45D-9955-49D7-9520-5370B50022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39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3AFD9E6-2538-4FE1-B4EE-CFDEAFE5D53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40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D48B222-4DA5-48CC-BEE9-A4C943C68F3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40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0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535D959-30C6-4865-9BBE-A8D09AA4A20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3DAC16B-5F55-4ADE-AF6C-3B476BD7965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35C0570-4DE0-4E44-9108-A4A444179BF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40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0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1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0A88117-2204-4908-8768-4E3B9D56AFD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41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1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1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2903534-3B37-40BE-88FD-35741D2D721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41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1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1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3A88815-0ED2-478C-9F41-4A3E27A70C3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42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2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802709D-1DE4-4BBB-84AF-47DD80B9733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42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2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2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2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CC0B558-56F8-4CA9-A569-81118338C57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B83AEE-1DAE-45BA-93D7-55B71923AC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42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2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3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3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3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3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C7C7325-5D65-4282-8224-119A9B6014F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9518482-6DA0-4A4E-9116-0A5973F9156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4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947A127-CEDC-47A7-A718-315886CDE1E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4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788B1CF-7B4F-4775-8F69-6C59F31B1AB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4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32B3F56-CC7B-457E-9B6A-C8A595DDFEC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4E50194-6090-408E-B14C-CE88EF6D919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BB6505D-BB4A-4381-905B-9137C05E498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4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BDE9D1E-F47B-4757-B932-E30EB7E1E89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4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1765FB9-19A2-4E04-97B7-0752B62900A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4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4EC5418-78DA-4EDC-80D3-62B0CD76802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C74D3D-08A0-4C07-B33A-029EDB9773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4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7E57E35-DBEF-4B9A-8EA9-30B162C8FD4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4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82E7469-84C7-4116-A3A4-33C69B83775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4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9FA11F1-BC3B-4D29-B7FD-BE67EEF405C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9E0C3C2-A573-406F-8BCD-68423007E53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48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7281F61-4915-4B1C-8C38-3A4CDD0741A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48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CE32519-C6BA-4804-ACFB-99524288DC4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48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8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8C127CB-9335-4485-B105-239CE9193BD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5CBBCE4-C532-4AD2-BBAA-82EFB50A0C0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C6ECFD1-9A2F-435C-9A9D-73DA1B97A6D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4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9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ACB30B3-1D9F-4A5E-98B5-E9BD5CA5346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5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2218FF-4DBA-4D2E-8607-FA3053E0D8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49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9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9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9831B85-4B80-4A6B-9EF3-0D02CA08195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50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0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0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581B2E9-DE73-40E8-98A1-AF95185A886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50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0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98FC7D5-C072-4A4F-84B7-141941BDB9C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50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0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1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1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650B35D-C75A-4341-BAFE-DFD7017B6FB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51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1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1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1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1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1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08D8931-5665-40AD-8F23-DFCD4388226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01B2153-5508-4A9C-BB49-F8F9770430D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52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6240CCC-E232-425B-8773-AE9A82B9DEC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52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6D3A3C3-9036-4E7C-9B51-6E4485EEC8C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52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3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CBAD230-B245-4175-9C20-5421E15EC48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D269E8F-BDCC-45EA-91FA-DF8F04BD044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5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15A06B-1223-4AE0-8374-4A5FE1D8C6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AAB0230-1CE4-4099-B347-105C7F47A1B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5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3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3CEE795-C9EC-454A-94D1-77891EFEC13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5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3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4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0E04932-443B-4B97-AC81-3696A4FBB7F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54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4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4FC1F1A-0CAA-4630-B8A4-C92909BEB62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54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4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485DB49-9DD7-4F6B-87C2-83AE7A00FBB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54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5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5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5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EAE0B93-429A-467F-9322-FF249C8129F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55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5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5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5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5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5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F5A39F9-5F00-4C87-B96D-A188381EAB9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C16B23B-56BC-4000-B613-EF60F787333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56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2EDC1A4-6289-409B-9180-0235ADC2EE3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56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7D75CB1-B7F9-48EC-8525-8004D7B6162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5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10F90B-3395-454C-A4DD-DB7F22BB56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57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7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BD32605-4DA1-4445-84DA-A0407179237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5BD997A-863A-4354-9087-3CDF2533289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BC7B188-CB95-4C1A-BD96-4C2731C9381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57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7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7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0A753AF-261F-48EF-906D-4AB241744B8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57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8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8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B2989C9-7B0A-448D-8979-AD119CF1AB0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58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8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8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8EAB846-1032-47C9-B2BE-F85230DE3F2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58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8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8376B30-E270-4A77-8D1E-3614D93A593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59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9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9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9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0AF8E546-CA09-404F-97F8-8171A24E921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59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9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9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9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9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60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EC77E853-4357-49CD-B18C-DF1D34CBC29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5209F5-F99E-4C02-A43B-DE1D69D7E2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68A0E7-3442-407A-B24C-BE27B68B8F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6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6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6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7DDC0D-41DB-4CC0-A13C-534710E6AD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F19029-F7E3-4D32-BBDF-951D803787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6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6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6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C3C8C1-04B8-4177-81A1-991D067733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7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7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7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A9CA3D-8C56-4565-B193-C4A3EA83B7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7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7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144B3F-C4E7-4AE0-BA9B-F7CB494885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7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7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7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8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AEBBDA-B6B0-4A91-8338-F93DE81C62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8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8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8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8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8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8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4205E4-9B1A-4D96-A7FC-C9F471A0E1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254F098-56D1-471D-B297-1F02C226374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42AC1F-037C-40AC-88C0-48AAAB30A1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E20CA4-9A9C-4D16-8652-21F318BAB1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8BF309-A6CC-420E-AAD7-F42D8B98E4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C96C69-3059-47B1-AE7E-CF2334968B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1E850D-219D-4C7A-830A-F8A255357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DDBDE9-DF3C-4EC4-B177-2AA88AE4A3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CA088A-9D76-44C2-8BF7-C4188E7D64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4FBFDA-D99D-4F75-A5EF-B2E952F679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237CE3-C9DA-476C-B492-1CB2C9A16C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A24AE3-FC97-44A8-9231-3D548ACDD9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3C623A9-BBC3-451B-BA84-67EFB438DCB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F50479F-2EA9-4625-A7DA-F96CC8652D0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B2F13E4-82C3-46F5-A87A-E27F7D7CA06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142"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887E3A-5301-4BAA-B4CF-345A53B54D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144"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B00273-A5D0-4B16-B5CA-CB858F3B5B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8D58B9-C5C4-4D89-A479-051265C883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14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147"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2398D9-1409-4B45-B55B-11EBF7A38E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B3CC62-CB9C-4974-9FB5-062743477B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4887F6-3661-4B6D-A796-FD0E248E72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15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152"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153"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A81631-0DF4-4783-A3D2-5ACAF143E2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155"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15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157"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1D59E2-B7C3-45E7-9234-57C75C1D1E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15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16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161"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E901CB-5083-48FC-BA86-052F249260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163"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164"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61EE98-635E-43B0-B6F9-FD3F5D224B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16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16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168"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169"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1D5F296-D882-44D6-8CFC-BD6D6863951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171"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172"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173"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174"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175"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176"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BD3763B-414E-45F2-ACFB-9E43C74DFD0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3AD705F-1AE6-4E9B-8F3B-5EE3AFFC8E9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0A4C55-DB29-411E-9CB0-80E8FAF76A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18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663F21-36A4-406D-9B48-3BE40F235D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18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42E91E-EBCC-42C4-AE0E-07A9805D6E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18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18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5A525B-9748-4429-9275-5193EDFA30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310A3A-972B-4466-89D4-CC73D59797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565DCB-DC74-47B5-A942-997443F6FB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19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19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19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135EB0-9772-4794-9C92-9FC969D4A0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19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19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19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1E3683-81E3-49D1-9EE1-79B869D699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20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20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20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E22591-6628-441D-8616-AA4E018D55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20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20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AB66A0-484C-409C-9997-4179CC7919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2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20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2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21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0A8307C-C516-4C83-B087-96A09873D2D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4103CC-BE22-4031-9636-96484B426C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21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21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21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21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21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21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29F6B39-C93F-4C3A-9345-45DF5B4EE30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2770819-BCC6-4993-BE84-E3E5A55CE0D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22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B5A318-A059-4C3B-8FC3-011C92CD39D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22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1DE480E-8527-4527-B662-B21D19B613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22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22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4A8F73-0F14-4ADE-AA51-DC3B600173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7FCB01-636A-4DC9-AF57-186D78A761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68D8F8-FD68-429A-9A1A-6D4C5993C8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2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23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2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EE3F0A-0E4D-46E5-A3B5-D6B465B216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23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23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23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4008FC-7F5F-4670-A5F0-CC5DC1CC50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24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24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24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606595-3100-4388-A8F6-705A6AE74E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49226-BFCB-422A-86E1-65C0F7D7EC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24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24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752F90-D5F1-4052-B3B9-B81270AED6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24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24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25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25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8FED566-E114-4966-9C78-6B672A2E835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25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25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25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25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25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25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94F6390-F6CE-4DB2-B296-586C1155735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0A882ED-C66C-4FE0-9249-E7A6162A143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26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EA53973-4B20-4612-8A3B-8F2DA31C02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26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99112F6-5647-4A55-87FC-442F5E41AC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26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27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F5FC71-4C91-44C7-8BAE-F7F59F89FF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46BE09C-9BD4-44D8-9254-1327818663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282BCE-7485-4701-82E1-053D0573A6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27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27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27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B40C3D-4C8B-40EC-9479-D8F05E50E8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6DF10-6A21-4A9F-9A06-602A644C45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27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2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28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50C483-0061-4DAA-A9F2-886BE2B32F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28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28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28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555D90-9D33-4A37-84D2-5BC791C476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28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28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63BF618-26CB-48CD-825C-5BB46A04013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28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29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29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29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ADEE535-5A47-40C6-B87A-D0CE2F8F172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29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29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29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29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29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29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AC4745C-C30C-4F8E-A028-44242526AF3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C681539-7ECF-4BF5-A879-EFA857419B2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310"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41CC1D0-20D4-4345-82B7-DCE91306E60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312"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F3C712F-405C-4492-8CAA-A6B106D772F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314"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31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65B51C4-C51A-465E-AE6C-BA867A6AD5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37302E1-E4AD-4B3A-A4B8-4CA5154FE2F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8EAB7-3AC0-4843-90E5-78A24B1AA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CFF212A-13D4-4047-A498-A18FE17C41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31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32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32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109F12-35E8-4EF8-AC0F-F117765594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32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32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325"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883D9B-D11A-418D-8C48-2DFB10027E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32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32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329"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740014-F85F-41E6-ADDC-44D77D65DF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331"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332"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7D0EC7-C31F-47BC-A3C8-9B75FD8DE7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3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33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3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337"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4E78C21-E54E-42E2-9E4F-34DFE63C566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339"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340"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341"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342"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343"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344"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4257B8E-AE3E-45EA-8B52-2A68A63B262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E61DA56-6EB8-43F0-9C82-531B71747E8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3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A1BFE33-9D57-45D0-8F2F-62A96DA0EEC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ndara"/>
            </a:endParaRPr>
          </a:p>
        </p:txBody>
      </p:sp>
      <p:sp>
        <p:nvSpPr>
          <p:cNvPr id="3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C98E2D7-8AE2-4767-8515-1A061C34512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0" name="Dik Üçgen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1" name="Düz Bağlayıcı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ndara"/>
            </a:endParaRPr>
          </a:p>
        </p:txBody>
      </p:sp>
      <p:sp>
        <p:nvSpPr>
          <p:cNvPr id="2" name="Düz Bağlayıcı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ndara"/>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andara"/>
              </a:rPr>
              <a:t>Click to edit the title text format</a:t>
            </a:r>
            <a:endParaRPr b="0" lang="en-US" sz="4200" spc="-1" strike="noStrike">
              <a:solidFill>
                <a:srgbClr val="ff5c9c"/>
              </a:solidFill>
              <a:latin typeface="Candara"/>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Click to edit the outline text format</a:t>
            </a:r>
            <a:endParaRPr b="0" lang="en-US" sz="3000" spc="-1" strike="noStrike">
              <a:solidFill>
                <a:srgbClr val="ffffff"/>
              </a:solidFill>
              <a:latin typeface="Candara"/>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Second Outline Level</a:t>
            </a:r>
            <a:endParaRPr b="0" lang="en-US" sz="3000" spc="-1" strike="noStrike">
              <a:solidFill>
                <a:srgbClr val="ffffff"/>
              </a:solidFill>
              <a:latin typeface="Candara"/>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Third Outline Level</a:t>
            </a:r>
            <a:endParaRPr b="0" lang="en-US" sz="3000" spc="-1" strike="noStrike">
              <a:solidFill>
                <a:srgbClr val="ffffff"/>
              </a:solidFill>
              <a:latin typeface="Candara"/>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Fourth Outline Level</a:t>
            </a:r>
            <a:endParaRPr b="0" lang="en-US" sz="3000" spc="-1" strike="noStrike">
              <a:solidFill>
                <a:srgbClr val="ffffff"/>
              </a:solidFill>
              <a:latin typeface="Candara"/>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Fifth Outline Level</a:t>
            </a:r>
            <a:endParaRPr b="0" lang="en-US" sz="3000" spc="-1" strike="noStrike">
              <a:solidFill>
                <a:srgbClr val="ffffff"/>
              </a:solidFill>
              <a:latin typeface="Candara"/>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Sixth Outline Level</a:t>
            </a:r>
            <a:endParaRPr b="0" lang="en-US" sz="3000" spc="-1" strike="noStrike">
              <a:solidFill>
                <a:srgbClr val="ffffff"/>
              </a:solidFill>
              <a:latin typeface="Candara"/>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Seventh Outline Level</a:t>
            </a:r>
            <a:endParaRPr b="0" lang="en-US" sz="3000" spc="-1" strike="noStrike">
              <a:solidFill>
                <a:srgbClr val="ffffff"/>
              </a:solidFill>
              <a:latin typeface="Candara"/>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A995C-6901-4891-8E54-138A98C478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389" name="Dik Üçgen 8"/>
          <p:cNvSpPr/>
          <p:nvPr/>
        </p:nvSpPr>
        <p:spPr>
          <a:xfrm flipV="1">
            <a:off x="6480" y="612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390" name="İkizkenar Üçgen 7"/>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391" name="Düz Bağlayıcı 10"/>
          <p:cNvSpPr/>
          <p:nvPr/>
        </p:nvSpPr>
        <p:spPr>
          <a:xfrm flipH="1" flipV="1">
            <a:off x="6469200" y="900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ndara"/>
            </a:endParaRPr>
          </a:p>
        </p:txBody>
      </p:sp>
      <p:sp>
        <p:nvSpPr>
          <p:cNvPr id="392" name="Düz Bağlayıcı 9"/>
          <p:cNvSpPr/>
          <p:nvPr/>
        </p:nvSpPr>
        <p:spPr>
          <a:xfrm flipV="1">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ndara"/>
            </a:endParaRPr>
          </a:p>
        </p:txBody>
      </p:sp>
      <p:sp>
        <p:nvSpPr>
          <p:cNvPr id="39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andara"/>
              </a:rPr>
              <a:t>Click to edit the title text format</a:t>
            </a:r>
            <a:endParaRPr b="0" lang="en-US" sz="4200" spc="-1" strike="noStrike">
              <a:solidFill>
                <a:srgbClr val="ff5c9c"/>
              </a:solidFill>
              <a:latin typeface="Candara"/>
            </a:endParaRPr>
          </a:p>
        </p:txBody>
      </p:sp>
      <p:sp>
        <p:nvSpPr>
          <p:cNvPr id="39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Click to edit the outline text format</a:t>
            </a:r>
            <a:endParaRPr b="0" lang="en-US" sz="3000" spc="-1" strike="noStrike">
              <a:solidFill>
                <a:srgbClr val="ffffff"/>
              </a:solidFill>
              <a:latin typeface="Candara"/>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Second Outline Level</a:t>
            </a:r>
            <a:endParaRPr b="0" lang="en-US" sz="3000" spc="-1" strike="noStrike">
              <a:solidFill>
                <a:srgbClr val="ffffff"/>
              </a:solidFill>
              <a:latin typeface="Candara"/>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Third Outline Level</a:t>
            </a:r>
            <a:endParaRPr b="0" lang="en-US" sz="3000" spc="-1" strike="noStrike">
              <a:solidFill>
                <a:srgbClr val="ffffff"/>
              </a:solidFill>
              <a:latin typeface="Candara"/>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Fourth Outline Level</a:t>
            </a:r>
            <a:endParaRPr b="0" lang="en-US" sz="3000" spc="-1" strike="noStrike">
              <a:solidFill>
                <a:srgbClr val="ffffff"/>
              </a:solidFill>
              <a:latin typeface="Candara"/>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Fifth Outline Level</a:t>
            </a:r>
            <a:endParaRPr b="0" lang="en-US" sz="3000" spc="-1" strike="noStrike">
              <a:solidFill>
                <a:srgbClr val="ffffff"/>
              </a:solidFill>
              <a:latin typeface="Candara"/>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Sixth Outline Level</a:t>
            </a:r>
            <a:endParaRPr b="0" lang="en-US" sz="3000" spc="-1" strike="noStrike">
              <a:solidFill>
                <a:srgbClr val="ffffff"/>
              </a:solidFill>
              <a:latin typeface="Candara"/>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Seventh Outline Level</a:t>
            </a:r>
            <a:endParaRPr b="0" lang="en-US" sz="3000" spc="-1" strike="noStrike">
              <a:solidFill>
                <a:srgbClr val="ffffff"/>
              </a:solidFill>
              <a:latin typeface="Candara"/>
            </a:endParaRPr>
          </a:p>
        </p:txBody>
      </p:sp>
      <p:sp>
        <p:nvSpPr>
          <p:cNvPr id="395" name="PlaceHolder 3"/>
          <p:cNvSpPr>
            <a:spLocks noGrp="1"/>
          </p:cNvSpPr>
          <p:nvPr>
            <p:ph type="dt" idx="28"/>
          </p:nvPr>
        </p:nvSpPr>
        <p:spPr>
          <a:xfrm>
            <a:off x="6955920" y="6477120"/>
            <a:ext cx="2133720" cy="3045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396" name="PlaceHolder 4"/>
          <p:cNvSpPr>
            <a:spLocks noGrp="1"/>
          </p:cNvSpPr>
          <p:nvPr>
            <p:ph type="ftr" idx="29"/>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397" name="PlaceHolder 5"/>
          <p:cNvSpPr>
            <a:spLocks noGrp="1"/>
          </p:cNvSpPr>
          <p:nvPr>
            <p:ph type="sldNum" idx="30"/>
          </p:nvPr>
        </p:nvSpPr>
        <p:spPr>
          <a:xfrm>
            <a:off x="8450280" y="809280"/>
            <a:ext cx="503280" cy="2998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3CE21-4FD1-43A3-90F4-0810CA1DD13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434" name="Dik Üçgen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435" name="Düz Bağlayıcı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ndara"/>
            </a:endParaRPr>
          </a:p>
        </p:txBody>
      </p:sp>
      <p:sp>
        <p:nvSpPr>
          <p:cNvPr id="436" name="Düz Bağlayıcı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ndara"/>
            </a:endParaRPr>
          </a:p>
        </p:txBody>
      </p:sp>
      <p:sp>
        <p:nvSpPr>
          <p:cNvPr id="4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andara"/>
              </a:rPr>
              <a:t>Click to edit the title text format</a:t>
            </a:r>
            <a:endParaRPr b="0" lang="en-US" sz="4200" spc="-1" strike="noStrike">
              <a:solidFill>
                <a:srgbClr val="ff5c9c"/>
              </a:solidFill>
              <a:latin typeface="Candara"/>
            </a:endParaRPr>
          </a:p>
        </p:txBody>
      </p:sp>
      <p:sp>
        <p:nvSpPr>
          <p:cNvPr id="4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Click to edit the outline text format</a:t>
            </a:r>
            <a:endParaRPr b="0" lang="en-US" sz="3000" spc="-1" strike="noStrike">
              <a:solidFill>
                <a:srgbClr val="ffffff"/>
              </a:solidFill>
              <a:latin typeface="Candara"/>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Second Outline Level</a:t>
            </a:r>
            <a:endParaRPr b="0" lang="en-US" sz="3000" spc="-1" strike="noStrike">
              <a:solidFill>
                <a:srgbClr val="ffffff"/>
              </a:solidFill>
              <a:latin typeface="Candara"/>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Third Outline Level</a:t>
            </a:r>
            <a:endParaRPr b="0" lang="en-US" sz="3000" spc="-1" strike="noStrike">
              <a:solidFill>
                <a:srgbClr val="ffffff"/>
              </a:solidFill>
              <a:latin typeface="Candara"/>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Fourth Outline Level</a:t>
            </a:r>
            <a:endParaRPr b="0" lang="en-US" sz="3000" spc="-1" strike="noStrike">
              <a:solidFill>
                <a:srgbClr val="ffffff"/>
              </a:solidFill>
              <a:latin typeface="Candara"/>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Fifth Outline Level</a:t>
            </a:r>
            <a:endParaRPr b="0" lang="en-US" sz="3000" spc="-1" strike="noStrike">
              <a:solidFill>
                <a:srgbClr val="ffffff"/>
              </a:solidFill>
              <a:latin typeface="Candara"/>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Sixth Outline Level</a:t>
            </a:r>
            <a:endParaRPr b="0" lang="en-US" sz="3000" spc="-1" strike="noStrike">
              <a:solidFill>
                <a:srgbClr val="ffffff"/>
              </a:solidFill>
              <a:latin typeface="Candara"/>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Seventh Outline Level</a:t>
            </a:r>
            <a:endParaRPr b="0" lang="en-US" sz="3000" spc="-1" strike="noStrike">
              <a:solidFill>
                <a:srgbClr val="ffffff"/>
              </a:solidFill>
              <a:latin typeface="Candara"/>
            </a:endParaRPr>
          </a:p>
        </p:txBody>
      </p:sp>
      <p:sp>
        <p:nvSpPr>
          <p:cNvPr id="439" name="PlaceHolder 3"/>
          <p:cNvSpPr>
            <a:spLocks noGrp="1"/>
          </p:cNvSpPr>
          <p:nvPr>
            <p:ph type="dt" idx="31"/>
          </p:nvPr>
        </p:nvSpPr>
        <p:spPr>
          <a:xfrm>
            <a:off x="4791240" y="6481800"/>
            <a:ext cx="2133360" cy="3016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440" name="PlaceHolder 4"/>
          <p:cNvSpPr>
            <a:spLocks noGrp="1"/>
          </p:cNvSpPr>
          <p:nvPr>
            <p:ph type="ftr" idx="3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441" name="PlaceHolder 5"/>
          <p:cNvSpPr>
            <a:spLocks noGrp="1"/>
          </p:cNvSpPr>
          <p:nvPr>
            <p:ph type="sldNum" idx="33"/>
          </p:nvPr>
        </p:nvSpPr>
        <p:spPr>
          <a:xfrm>
            <a:off x="7589880" y="6481800"/>
            <a:ext cx="503280" cy="3016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73608-A504-42F4-8A40-6B3B03E36F3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andara"/>
              </a:rPr>
              <a:t>Click to edit the title text format</a:t>
            </a:r>
            <a:endParaRPr b="0" lang="en-US" sz="4200" spc="-1" strike="noStrike">
              <a:solidFill>
                <a:srgbClr val="ff5c9c"/>
              </a:solidFill>
              <a:latin typeface="Candara"/>
            </a:endParaRPr>
          </a:p>
        </p:txBody>
      </p:sp>
      <p:sp>
        <p:nvSpPr>
          <p:cNvPr id="47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Click to edit the outline text format</a:t>
            </a:r>
            <a:endParaRPr b="0" lang="en-US" sz="3000" spc="-1" strike="noStrike">
              <a:solidFill>
                <a:srgbClr val="ffffff"/>
              </a:solidFill>
              <a:latin typeface="Candara"/>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Second Outline Level</a:t>
            </a:r>
            <a:endParaRPr b="0" lang="en-US" sz="3000" spc="-1" strike="noStrike">
              <a:solidFill>
                <a:srgbClr val="ffffff"/>
              </a:solidFill>
              <a:latin typeface="Candara"/>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Third Outline Level</a:t>
            </a:r>
            <a:endParaRPr b="0" lang="en-US" sz="3000" spc="-1" strike="noStrike">
              <a:solidFill>
                <a:srgbClr val="ffffff"/>
              </a:solidFill>
              <a:latin typeface="Candara"/>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Fourth Outline Level</a:t>
            </a:r>
            <a:endParaRPr b="0" lang="en-US" sz="3000" spc="-1" strike="noStrike">
              <a:solidFill>
                <a:srgbClr val="ffffff"/>
              </a:solidFill>
              <a:latin typeface="Candara"/>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Fifth Outline Level</a:t>
            </a:r>
            <a:endParaRPr b="0" lang="en-US" sz="3000" spc="-1" strike="noStrike">
              <a:solidFill>
                <a:srgbClr val="ffffff"/>
              </a:solidFill>
              <a:latin typeface="Candara"/>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Sixth Outline Level</a:t>
            </a:r>
            <a:endParaRPr b="0" lang="en-US" sz="3000" spc="-1" strike="noStrike">
              <a:solidFill>
                <a:srgbClr val="ffffff"/>
              </a:solidFill>
              <a:latin typeface="Candara"/>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Seventh Outline Level</a:t>
            </a:r>
            <a:endParaRPr b="0" lang="en-US" sz="3000" spc="-1" strike="noStrike">
              <a:solidFill>
                <a:srgbClr val="ffffff"/>
              </a:solidFill>
              <a:latin typeface="Candara"/>
            </a:endParaRPr>
          </a:p>
        </p:txBody>
      </p:sp>
      <p:sp>
        <p:nvSpPr>
          <p:cNvPr id="480" name="PlaceHolder 3"/>
          <p:cNvSpPr>
            <a:spLocks noGrp="1"/>
          </p:cNvSpPr>
          <p:nvPr>
            <p:ph type="dt" idx="34"/>
          </p:nvPr>
        </p:nvSpPr>
        <p:spPr>
          <a:xfrm>
            <a:off x="4790880" y="6481800"/>
            <a:ext cx="2130120" cy="3016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481" name="PlaceHolder 4"/>
          <p:cNvSpPr>
            <a:spLocks noGrp="1"/>
          </p:cNvSpPr>
          <p:nvPr>
            <p:ph type="ftr" idx="35"/>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482" name="PlaceHolder 5"/>
          <p:cNvSpPr>
            <a:spLocks noGrp="1"/>
          </p:cNvSpPr>
          <p:nvPr>
            <p:ph type="sldNum" idx="36"/>
          </p:nvPr>
        </p:nvSpPr>
        <p:spPr>
          <a:xfrm>
            <a:off x="7589880" y="6483240"/>
            <a:ext cx="503280" cy="3016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9C31E-D643-45A7-98E7-1BCFAF3D5D3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andara"/>
              </a:rPr>
              <a:t>Click to edit the title text format</a:t>
            </a:r>
            <a:endParaRPr b="0" lang="en-US" sz="4200" spc="-1" strike="noStrike">
              <a:solidFill>
                <a:srgbClr val="ff5c9c"/>
              </a:solidFill>
              <a:latin typeface="Candara"/>
            </a:endParaRPr>
          </a:p>
        </p:txBody>
      </p:sp>
      <p:sp>
        <p:nvSpPr>
          <p:cNvPr id="52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Click to edit the outline text format</a:t>
            </a:r>
            <a:endParaRPr b="0" lang="en-US" sz="3000" spc="-1" strike="noStrike">
              <a:solidFill>
                <a:srgbClr val="ffffff"/>
              </a:solidFill>
              <a:latin typeface="Candara"/>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Second Outline Level</a:t>
            </a:r>
            <a:endParaRPr b="0" lang="en-US" sz="3000" spc="-1" strike="noStrike">
              <a:solidFill>
                <a:srgbClr val="ffffff"/>
              </a:solidFill>
              <a:latin typeface="Candara"/>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Third Outline Level</a:t>
            </a:r>
            <a:endParaRPr b="0" lang="en-US" sz="3000" spc="-1" strike="noStrike">
              <a:solidFill>
                <a:srgbClr val="ffffff"/>
              </a:solidFill>
              <a:latin typeface="Candara"/>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Fourth Outline Level</a:t>
            </a:r>
            <a:endParaRPr b="0" lang="en-US" sz="3000" spc="-1" strike="noStrike">
              <a:solidFill>
                <a:srgbClr val="ffffff"/>
              </a:solidFill>
              <a:latin typeface="Candara"/>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Fifth Outline Level</a:t>
            </a:r>
            <a:endParaRPr b="0" lang="en-US" sz="3000" spc="-1" strike="noStrike">
              <a:solidFill>
                <a:srgbClr val="ffffff"/>
              </a:solidFill>
              <a:latin typeface="Candara"/>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Sixth Outline Level</a:t>
            </a:r>
            <a:endParaRPr b="0" lang="en-US" sz="3000" spc="-1" strike="noStrike">
              <a:solidFill>
                <a:srgbClr val="ffffff"/>
              </a:solidFill>
              <a:latin typeface="Candara"/>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Seventh Outline Level</a:t>
            </a:r>
            <a:endParaRPr b="0" lang="en-US" sz="3000" spc="-1" strike="noStrike">
              <a:solidFill>
                <a:srgbClr val="ffffff"/>
              </a:solidFill>
              <a:latin typeface="Candara"/>
            </a:endParaRPr>
          </a:p>
        </p:txBody>
      </p:sp>
      <p:sp>
        <p:nvSpPr>
          <p:cNvPr id="521" name="PlaceHolder 3"/>
          <p:cNvSpPr>
            <a:spLocks noGrp="1"/>
          </p:cNvSpPr>
          <p:nvPr>
            <p:ph type="dt" idx="37"/>
          </p:nvPr>
        </p:nvSpPr>
        <p:spPr>
          <a:xfrm>
            <a:off x="6278040" y="6556320"/>
            <a:ext cx="2133720" cy="3016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522" name="PlaceHolder 4"/>
          <p:cNvSpPr>
            <a:spLocks noGrp="1"/>
          </p:cNvSpPr>
          <p:nvPr>
            <p:ph type="ftr" idx="38"/>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523" name="PlaceHolder 5"/>
          <p:cNvSpPr>
            <a:spLocks noGrp="1"/>
          </p:cNvSpPr>
          <p:nvPr>
            <p:ph type="sldNum" idx="39"/>
          </p:nvPr>
        </p:nvSpPr>
        <p:spPr>
          <a:xfrm>
            <a:off x="8410680" y="6556320"/>
            <a:ext cx="503280" cy="3016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8CDF1-6F12-4993-9EB0-E729384A1A11}" type="slidenum">
              <a:rPr b="0" lang="en-US"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andara"/>
              </a:rPr>
              <a:t>Click to edit the title text format</a:t>
            </a:r>
            <a:endParaRPr b="0" lang="en-US" sz="4200" spc="-1" strike="noStrike">
              <a:solidFill>
                <a:srgbClr val="ff5c9c"/>
              </a:solidFill>
              <a:latin typeface="Candara"/>
            </a:endParaRPr>
          </a:p>
        </p:txBody>
      </p:sp>
      <p:sp>
        <p:nvSpPr>
          <p:cNvPr id="56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Click to edit the outline text format</a:t>
            </a:r>
            <a:endParaRPr b="0" lang="en-US" sz="3000" spc="-1" strike="noStrike">
              <a:solidFill>
                <a:srgbClr val="ffffff"/>
              </a:solidFill>
              <a:latin typeface="Candara"/>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Second Outline Level</a:t>
            </a:r>
            <a:endParaRPr b="0" lang="en-US" sz="3000" spc="-1" strike="noStrike">
              <a:solidFill>
                <a:srgbClr val="ffffff"/>
              </a:solidFill>
              <a:latin typeface="Candara"/>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Third Outline Level</a:t>
            </a:r>
            <a:endParaRPr b="0" lang="en-US" sz="3000" spc="-1" strike="noStrike">
              <a:solidFill>
                <a:srgbClr val="ffffff"/>
              </a:solidFill>
              <a:latin typeface="Candara"/>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Fourth Outline Level</a:t>
            </a:r>
            <a:endParaRPr b="0" lang="en-US" sz="3000" spc="-1" strike="noStrike">
              <a:solidFill>
                <a:srgbClr val="ffffff"/>
              </a:solidFill>
              <a:latin typeface="Candara"/>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Fifth Outline Level</a:t>
            </a:r>
            <a:endParaRPr b="0" lang="en-US" sz="3000" spc="-1" strike="noStrike">
              <a:solidFill>
                <a:srgbClr val="ffffff"/>
              </a:solidFill>
              <a:latin typeface="Candara"/>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Sixth Outline Level</a:t>
            </a:r>
            <a:endParaRPr b="0" lang="en-US" sz="3000" spc="-1" strike="noStrike">
              <a:solidFill>
                <a:srgbClr val="ffffff"/>
              </a:solidFill>
              <a:latin typeface="Candara"/>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Seventh Outline Level</a:t>
            </a:r>
            <a:endParaRPr b="0" lang="en-US" sz="3000" spc="-1" strike="noStrike">
              <a:solidFill>
                <a:srgbClr val="ffffff"/>
              </a:solidFill>
              <a:latin typeface="Candara"/>
            </a:endParaRPr>
          </a:p>
        </p:txBody>
      </p:sp>
      <p:sp>
        <p:nvSpPr>
          <p:cNvPr id="562" name="PlaceHolder 3"/>
          <p:cNvSpPr>
            <a:spLocks noGrp="1"/>
          </p:cNvSpPr>
          <p:nvPr>
            <p:ph type="dt" idx="40"/>
          </p:nvPr>
        </p:nvSpPr>
        <p:spPr>
          <a:xfrm>
            <a:off x="6108840" y="6556320"/>
            <a:ext cx="2101680" cy="3016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563" name="PlaceHolder 4"/>
          <p:cNvSpPr>
            <a:spLocks noGrp="1"/>
          </p:cNvSpPr>
          <p:nvPr>
            <p:ph type="ftr" idx="41"/>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564" name="PlaceHolder 5"/>
          <p:cNvSpPr>
            <a:spLocks noGrp="1"/>
          </p:cNvSpPr>
          <p:nvPr>
            <p:ph type="sldNum" idx="42"/>
          </p:nvPr>
        </p:nvSpPr>
        <p:spPr>
          <a:xfrm>
            <a:off x="8217000" y="6556320"/>
            <a:ext cx="366480" cy="3016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C6C64-82A3-4195-8134-186F82C1A637}" type="slidenum">
              <a:rPr b="0" lang="en-US" sz="900" spc="-1" strike="noStrike">
                <a:solidFill>
                  <a:srgbClr val="ffffff"/>
                </a:solidFill>
                <a:latin typeface="Times New Roman"/>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44" name="Dik Üçgen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45" name="Düz Bağlayıcı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ndara"/>
            </a:endParaRPr>
          </a:p>
        </p:txBody>
      </p:sp>
      <p:sp>
        <p:nvSpPr>
          <p:cNvPr id="46" name="Düz Bağlayıcı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ndara"/>
            </a:endParaRPr>
          </a:p>
        </p:txBody>
      </p:sp>
      <p:sp>
        <p:nvSpPr>
          <p:cNvPr id="4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andara"/>
              </a:rPr>
              <a:t>Click to edit the title text format</a:t>
            </a:r>
            <a:endParaRPr b="0" lang="en-US" sz="4200" spc="-1" strike="noStrike">
              <a:solidFill>
                <a:srgbClr val="ff5c9c"/>
              </a:solidFill>
              <a:latin typeface="Candara"/>
            </a:endParaRPr>
          </a:p>
        </p:txBody>
      </p:sp>
      <p:sp>
        <p:nvSpPr>
          <p:cNvPr id="4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Click to edit the outline text format</a:t>
            </a:r>
            <a:endParaRPr b="0" lang="en-US" sz="3000" spc="-1" strike="noStrike">
              <a:solidFill>
                <a:srgbClr val="ffffff"/>
              </a:solidFill>
              <a:latin typeface="Candara"/>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Second Outline Level</a:t>
            </a:r>
            <a:endParaRPr b="0" lang="en-US" sz="3000" spc="-1" strike="noStrike">
              <a:solidFill>
                <a:srgbClr val="ffffff"/>
              </a:solidFill>
              <a:latin typeface="Candara"/>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Third Outline Level</a:t>
            </a:r>
            <a:endParaRPr b="0" lang="en-US" sz="3000" spc="-1" strike="noStrike">
              <a:solidFill>
                <a:srgbClr val="ffffff"/>
              </a:solidFill>
              <a:latin typeface="Candara"/>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Fourth Outline Level</a:t>
            </a:r>
            <a:endParaRPr b="0" lang="en-US" sz="3000" spc="-1" strike="noStrike">
              <a:solidFill>
                <a:srgbClr val="ffffff"/>
              </a:solidFill>
              <a:latin typeface="Candara"/>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Fifth Outline Level</a:t>
            </a:r>
            <a:endParaRPr b="0" lang="en-US" sz="3000" spc="-1" strike="noStrike">
              <a:solidFill>
                <a:srgbClr val="ffffff"/>
              </a:solidFill>
              <a:latin typeface="Candara"/>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Sixth Outline Level</a:t>
            </a:r>
            <a:endParaRPr b="0" lang="en-US" sz="3000" spc="-1" strike="noStrike">
              <a:solidFill>
                <a:srgbClr val="ffffff"/>
              </a:solidFill>
              <a:latin typeface="Candara"/>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Seventh Outline Level</a:t>
            </a:r>
            <a:endParaRPr b="0" lang="en-US" sz="3000" spc="-1" strike="noStrike">
              <a:solidFill>
                <a:srgbClr val="ffffff"/>
              </a:solidFill>
              <a:latin typeface="Candara"/>
            </a:endParaRPr>
          </a:p>
        </p:txBody>
      </p:sp>
      <p:sp>
        <p:nvSpPr>
          <p:cNvPr id="49" name="PlaceHolder 3"/>
          <p:cNvSpPr>
            <a:spLocks noGrp="1"/>
          </p:cNvSpPr>
          <p:nvPr>
            <p:ph type="dt" idx="4"/>
          </p:nvPr>
        </p:nvSpPr>
        <p:spPr>
          <a:xfrm>
            <a:off x="4791240" y="6481800"/>
            <a:ext cx="2133360" cy="3016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0" name="PlaceHolder 4"/>
          <p:cNvSpPr>
            <a:spLocks noGrp="1"/>
          </p:cNvSpPr>
          <p:nvPr>
            <p:ph type="ftr" idx="5"/>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51" name="PlaceHolder 5"/>
          <p:cNvSpPr>
            <a:spLocks noGrp="1"/>
          </p:cNvSpPr>
          <p:nvPr>
            <p:ph type="sldNum" idx="6"/>
          </p:nvPr>
        </p:nvSpPr>
        <p:spPr>
          <a:xfrm>
            <a:off x="7589880" y="6481800"/>
            <a:ext cx="503280" cy="3016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67313-F3C5-46A4-9DAC-107E6C7B888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88" name="Dik Üçgen 8"/>
          <p:cNvSpPr/>
          <p:nvPr/>
        </p:nvSpPr>
        <p:spPr>
          <a:xfrm flipV="1">
            <a:off x="6480" y="612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89" name="İkizkenar Üçgen 7"/>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90" name="Düz Bağlayıcı 10"/>
          <p:cNvSpPr/>
          <p:nvPr/>
        </p:nvSpPr>
        <p:spPr>
          <a:xfrm flipH="1" flipV="1">
            <a:off x="6469200" y="900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ndara"/>
            </a:endParaRPr>
          </a:p>
        </p:txBody>
      </p:sp>
      <p:sp>
        <p:nvSpPr>
          <p:cNvPr id="91" name="Düz Bağlayıcı 9"/>
          <p:cNvSpPr/>
          <p:nvPr/>
        </p:nvSpPr>
        <p:spPr>
          <a:xfrm flipV="1">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ndara"/>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andara"/>
              </a:rPr>
              <a:t>Click to edit the title text format</a:t>
            </a:r>
            <a:endParaRPr b="0" lang="en-US" sz="4200" spc="-1" strike="noStrike">
              <a:solidFill>
                <a:srgbClr val="ff5c9c"/>
              </a:solidFill>
              <a:latin typeface="Candara"/>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Click to edit the outline text format</a:t>
            </a:r>
            <a:endParaRPr b="0" lang="en-US" sz="3000" spc="-1" strike="noStrike">
              <a:solidFill>
                <a:srgbClr val="ffffff"/>
              </a:solidFill>
              <a:latin typeface="Candara"/>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Second Outline Level</a:t>
            </a:r>
            <a:endParaRPr b="0" lang="en-US" sz="3000" spc="-1" strike="noStrike">
              <a:solidFill>
                <a:srgbClr val="ffffff"/>
              </a:solidFill>
              <a:latin typeface="Candara"/>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Third Outline Level</a:t>
            </a:r>
            <a:endParaRPr b="0" lang="en-US" sz="3000" spc="-1" strike="noStrike">
              <a:solidFill>
                <a:srgbClr val="ffffff"/>
              </a:solidFill>
              <a:latin typeface="Candara"/>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Fourth Outline Level</a:t>
            </a:r>
            <a:endParaRPr b="0" lang="en-US" sz="3000" spc="-1" strike="noStrike">
              <a:solidFill>
                <a:srgbClr val="ffffff"/>
              </a:solidFill>
              <a:latin typeface="Candara"/>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Fifth Outline Level</a:t>
            </a:r>
            <a:endParaRPr b="0" lang="en-US" sz="3000" spc="-1" strike="noStrike">
              <a:solidFill>
                <a:srgbClr val="ffffff"/>
              </a:solidFill>
              <a:latin typeface="Candara"/>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Sixth Outline Level</a:t>
            </a:r>
            <a:endParaRPr b="0" lang="en-US" sz="3000" spc="-1" strike="noStrike">
              <a:solidFill>
                <a:srgbClr val="ffffff"/>
              </a:solidFill>
              <a:latin typeface="Candara"/>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Seventh Outline Level</a:t>
            </a:r>
            <a:endParaRPr b="0" lang="en-US" sz="3000" spc="-1" strike="noStrike">
              <a:solidFill>
                <a:srgbClr val="ffffff"/>
              </a:solidFill>
              <a:latin typeface="Candara"/>
            </a:endParaRPr>
          </a:p>
        </p:txBody>
      </p:sp>
      <p:sp>
        <p:nvSpPr>
          <p:cNvPr id="94" name="PlaceHolder 3"/>
          <p:cNvSpPr>
            <a:spLocks noGrp="1"/>
          </p:cNvSpPr>
          <p:nvPr>
            <p:ph type="dt" idx="7"/>
          </p:nvPr>
        </p:nvSpPr>
        <p:spPr>
          <a:xfrm>
            <a:off x="6955920" y="6477120"/>
            <a:ext cx="2133720" cy="304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95" name="PlaceHolder 4"/>
          <p:cNvSpPr>
            <a:spLocks noGrp="1"/>
          </p:cNvSpPr>
          <p:nvPr>
            <p:ph type="ftr" idx="8"/>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96" name="PlaceHolder 5"/>
          <p:cNvSpPr>
            <a:spLocks noGrp="1"/>
          </p:cNvSpPr>
          <p:nvPr>
            <p:ph type="sldNum" idx="9"/>
          </p:nvPr>
        </p:nvSpPr>
        <p:spPr>
          <a:xfrm>
            <a:off x="8450280" y="809280"/>
            <a:ext cx="503280" cy="2998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ADC30-F6B9-4A89-81E8-58AAA692430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133" name="Dik Üçgen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134" name="Düz Bağlayıcı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ndara"/>
            </a:endParaRPr>
          </a:p>
        </p:txBody>
      </p:sp>
      <p:sp>
        <p:nvSpPr>
          <p:cNvPr id="135" name="Düz Bağlayıcı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ndara"/>
            </a:endParaRPr>
          </a:p>
        </p:txBody>
      </p:sp>
      <p:sp>
        <p:nvSpPr>
          <p:cNvPr id="13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andara"/>
              </a:rPr>
              <a:t>Click to edit the title text format</a:t>
            </a:r>
            <a:endParaRPr b="0" lang="en-US" sz="4200" spc="-1" strike="noStrike">
              <a:solidFill>
                <a:srgbClr val="ff5c9c"/>
              </a:solidFill>
              <a:latin typeface="Candara"/>
            </a:endParaRPr>
          </a:p>
        </p:txBody>
      </p:sp>
      <p:sp>
        <p:nvSpPr>
          <p:cNvPr id="137"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Click to edit the outline text format</a:t>
            </a:r>
            <a:endParaRPr b="0" lang="en-US" sz="3000" spc="-1" strike="noStrike">
              <a:solidFill>
                <a:srgbClr val="ffffff"/>
              </a:solidFill>
              <a:latin typeface="Candara"/>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Second Outline Level</a:t>
            </a:r>
            <a:endParaRPr b="0" lang="en-US" sz="3000" spc="-1" strike="noStrike">
              <a:solidFill>
                <a:srgbClr val="ffffff"/>
              </a:solidFill>
              <a:latin typeface="Candara"/>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Third Outline Level</a:t>
            </a:r>
            <a:endParaRPr b="0" lang="en-US" sz="3000" spc="-1" strike="noStrike">
              <a:solidFill>
                <a:srgbClr val="ffffff"/>
              </a:solidFill>
              <a:latin typeface="Candara"/>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Fourth Outline Level</a:t>
            </a:r>
            <a:endParaRPr b="0" lang="en-US" sz="3000" spc="-1" strike="noStrike">
              <a:solidFill>
                <a:srgbClr val="ffffff"/>
              </a:solidFill>
              <a:latin typeface="Candara"/>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Fifth Outline Level</a:t>
            </a:r>
            <a:endParaRPr b="0" lang="en-US" sz="3000" spc="-1" strike="noStrike">
              <a:solidFill>
                <a:srgbClr val="ffffff"/>
              </a:solidFill>
              <a:latin typeface="Candara"/>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Sixth Outline Level</a:t>
            </a:r>
            <a:endParaRPr b="0" lang="en-US" sz="3000" spc="-1" strike="noStrike">
              <a:solidFill>
                <a:srgbClr val="ffffff"/>
              </a:solidFill>
              <a:latin typeface="Candara"/>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Seventh Outline Level</a:t>
            </a:r>
            <a:endParaRPr b="0" lang="en-US" sz="3000" spc="-1" strike="noStrike">
              <a:solidFill>
                <a:srgbClr val="ffffff"/>
              </a:solidFill>
              <a:latin typeface="Candara"/>
            </a:endParaRPr>
          </a:p>
        </p:txBody>
      </p:sp>
      <p:sp>
        <p:nvSpPr>
          <p:cNvPr id="138" name="PlaceHolder 3"/>
          <p:cNvSpPr>
            <a:spLocks noGrp="1"/>
          </p:cNvSpPr>
          <p:nvPr>
            <p:ph type="dt" idx="10"/>
          </p:nvPr>
        </p:nvSpPr>
        <p:spPr>
          <a:xfrm>
            <a:off x="4791240" y="64818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140" name="PlaceHolder 5"/>
          <p:cNvSpPr>
            <a:spLocks noGrp="1"/>
          </p:cNvSpPr>
          <p:nvPr>
            <p:ph type="sldNum" idx="12"/>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E80CC-BBBA-41FE-AE4F-4A36760CCA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andara"/>
              </a:rPr>
              <a:t>Click to edit the title text format</a:t>
            </a:r>
            <a:endParaRPr b="0" lang="en-US" sz="4200" spc="-1" strike="noStrike">
              <a:solidFill>
                <a:srgbClr val="ff5c9c"/>
              </a:solidFill>
              <a:latin typeface="Candara"/>
            </a:endParaRPr>
          </a:p>
        </p:txBody>
      </p:sp>
      <p:sp>
        <p:nvSpPr>
          <p:cNvPr id="17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Click to edit the outline text format</a:t>
            </a:r>
            <a:endParaRPr b="0" lang="en-US" sz="3000" spc="-1" strike="noStrike">
              <a:solidFill>
                <a:srgbClr val="ffffff"/>
              </a:solidFill>
              <a:latin typeface="Candara"/>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Second Outline Level</a:t>
            </a:r>
            <a:endParaRPr b="0" lang="en-US" sz="3000" spc="-1" strike="noStrike">
              <a:solidFill>
                <a:srgbClr val="ffffff"/>
              </a:solidFill>
              <a:latin typeface="Candara"/>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Third Outline Level</a:t>
            </a:r>
            <a:endParaRPr b="0" lang="en-US" sz="3000" spc="-1" strike="noStrike">
              <a:solidFill>
                <a:srgbClr val="ffffff"/>
              </a:solidFill>
              <a:latin typeface="Candara"/>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Fourth Outline Level</a:t>
            </a:r>
            <a:endParaRPr b="0" lang="en-US" sz="3000" spc="-1" strike="noStrike">
              <a:solidFill>
                <a:srgbClr val="ffffff"/>
              </a:solidFill>
              <a:latin typeface="Candara"/>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Fifth Outline Level</a:t>
            </a:r>
            <a:endParaRPr b="0" lang="en-US" sz="3000" spc="-1" strike="noStrike">
              <a:solidFill>
                <a:srgbClr val="ffffff"/>
              </a:solidFill>
              <a:latin typeface="Candara"/>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Sixth Outline Level</a:t>
            </a:r>
            <a:endParaRPr b="0" lang="en-US" sz="3000" spc="-1" strike="noStrike">
              <a:solidFill>
                <a:srgbClr val="ffffff"/>
              </a:solidFill>
              <a:latin typeface="Candara"/>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Seventh Outline Level</a:t>
            </a:r>
            <a:endParaRPr b="0" lang="en-US" sz="3000" spc="-1" strike="noStrike">
              <a:solidFill>
                <a:srgbClr val="ffffff"/>
              </a:solidFill>
              <a:latin typeface="Candara"/>
            </a:endParaRPr>
          </a:p>
        </p:txBody>
      </p:sp>
      <p:sp>
        <p:nvSpPr>
          <p:cNvPr id="179"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80"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181"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79A61-9EA4-431D-8801-A44833B583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andara"/>
              </a:rPr>
              <a:t>Click to edit the title text format</a:t>
            </a:r>
            <a:endParaRPr b="0" lang="en-US" sz="4200" spc="-1" strike="noStrike">
              <a:solidFill>
                <a:srgbClr val="ff5c9c"/>
              </a:solidFill>
              <a:latin typeface="Candara"/>
            </a:endParaRPr>
          </a:p>
        </p:txBody>
      </p:sp>
      <p:sp>
        <p:nvSpPr>
          <p:cNvPr id="21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Click to edit the outline text format</a:t>
            </a:r>
            <a:endParaRPr b="0" lang="en-US" sz="3000" spc="-1" strike="noStrike">
              <a:solidFill>
                <a:srgbClr val="ffffff"/>
              </a:solidFill>
              <a:latin typeface="Candara"/>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Second Outline Level</a:t>
            </a:r>
            <a:endParaRPr b="0" lang="en-US" sz="3000" spc="-1" strike="noStrike">
              <a:solidFill>
                <a:srgbClr val="ffffff"/>
              </a:solidFill>
              <a:latin typeface="Candara"/>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Third Outline Level</a:t>
            </a:r>
            <a:endParaRPr b="0" lang="en-US" sz="3000" spc="-1" strike="noStrike">
              <a:solidFill>
                <a:srgbClr val="ffffff"/>
              </a:solidFill>
              <a:latin typeface="Candara"/>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Fourth Outline Level</a:t>
            </a:r>
            <a:endParaRPr b="0" lang="en-US" sz="3000" spc="-1" strike="noStrike">
              <a:solidFill>
                <a:srgbClr val="ffffff"/>
              </a:solidFill>
              <a:latin typeface="Candara"/>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Fifth Outline Level</a:t>
            </a:r>
            <a:endParaRPr b="0" lang="en-US" sz="3000" spc="-1" strike="noStrike">
              <a:solidFill>
                <a:srgbClr val="ffffff"/>
              </a:solidFill>
              <a:latin typeface="Candara"/>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Sixth Outline Level</a:t>
            </a:r>
            <a:endParaRPr b="0" lang="en-US" sz="3000" spc="-1" strike="noStrike">
              <a:solidFill>
                <a:srgbClr val="ffffff"/>
              </a:solidFill>
              <a:latin typeface="Candara"/>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Seventh Outline Level</a:t>
            </a:r>
            <a:endParaRPr b="0" lang="en-US" sz="3000" spc="-1" strike="noStrike">
              <a:solidFill>
                <a:srgbClr val="ffffff"/>
              </a:solidFill>
              <a:latin typeface="Candara"/>
            </a:endParaRPr>
          </a:p>
        </p:txBody>
      </p:sp>
      <p:sp>
        <p:nvSpPr>
          <p:cNvPr id="220"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221"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222"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79C17-34F0-42B5-94BE-F7DC3E57865F}"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andara"/>
              </a:rPr>
              <a:t>Click to edit the title text format</a:t>
            </a:r>
            <a:endParaRPr b="0" lang="en-US" sz="4200" spc="-1" strike="noStrike">
              <a:solidFill>
                <a:srgbClr val="ff5c9c"/>
              </a:solidFill>
              <a:latin typeface="Candara"/>
            </a:endParaRPr>
          </a:p>
        </p:txBody>
      </p:sp>
      <p:sp>
        <p:nvSpPr>
          <p:cNvPr id="26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Click to edit the outline text format</a:t>
            </a:r>
            <a:endParaRPr b="0" lang="en-US" sz="3000" spc="-1" strike="noStrike">
              <a:solidFill>
                <a:srgbClr val="ffffff"/>
              </a:solidFill>
              <a:latin typeface="Candara"/>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Second Outline Level</a:t>
            </a:r>
            <a:endParaRPr b="0" lang="en-US" sz="3000" spc="-1" strike="noStrike">
              <a:solidFill>
                <a:srgbClr val="ffffff"/>
              </a:solidFill>
              <a:latin typeface="Candara"/>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Third Outline Level</a:t>
            </a:r>
            <a:endParaRPr b="0" lang="en-US" sz="3000" spc="-1" strike="noStrike">
              <a:solidFill>
                <a:srgbClr val="ffffff"/>
              </a:solidFill>
              <a:latin typeface="Candara"/>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Fourth Outline Level</a:t>
            </a:r>
            <a:endParaRPr b="0" lang="en-US" sz="3000" spc="-1" strike="noStrike">
              <a:solidFill>
                <a:srgbClr val="ffffff"/>
              </a:solidFill>
              <a:latin typeface="Candara"/>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Fifth Outline Level</a:t>
            </a:r>
            <a:endParaRPr b="0" lang="en-US" sz="3000" spc="-1" strike="noStrike">
              <a:solidFill>
                <a:srgbClr val="ffffff"/>
              </a:solidFill>
              <a:latin typeface="Candara"/>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Sixth Outline Level</a:t>
            </a:r>
            <a:endParaRPr b="0" lang="en-US" sz="3000" spc="-1" strike="noStrike">
              <a:solidFill>
                <a:srgbClr val="ffffff"/>
              </a:solidFill>
              <a:latin typeface="Candara"/>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Seventh Outline Level</a:t>
            </a:r>
            <a:endParaRPr b="0" lang="en-US" sz="3000" spc="-1" strike="noStrike">
              <a:solidFill>
                <a:srgbClr val="ffffff"/>
              </a:solidFill>
              <a:latin typeface="Candara"/>
            </a:endParaRPr>
          </a:p>
        </p:txBody>
      </p:sp>
      <p:sp>
        <p:nvSpPr>
          <p:cNvPr id="261"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262"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263"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F928E-95EC-4DCC-B291-796CFF96B2FE}" type="slidenum">
              <a:rPr b="0" lang="en-US" sz="900" spc="-1" strike="noStrike">
                <a:solidFill>
                  <a:srgbClr val="ffffff"/>
                </a:solidFill>
                <a:latin typeface="Times New Roman"/>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300" name="Dik Üçgen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301" name="Düz Bağlayıcı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ndara"/>
            </a:endParaRPr>
          </a:p>
        </p:txBody>
      </p:sp>
      <p:sp>
        <p:nvSpPr>
          <p:cNvPr id="302" name="Düz Bağlayıcı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ndara"/>
            </a:endParaRPr>
          </a:p>
        </p:txBody>
      </p:sp>
      <p:sp>
        <p:nvSpPr>
          <p:cNvPr id="303" name="İkizkenar Üçgen 6"/>
          <p:cNvSpPr/>
          <p:nvPr/>
        </p:nvSpPr>
        <p:spPr>
          <a:xfrm rot="16200000">
            <a:off x="7553160" y="525420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3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andara"/>
              </a:rPr>
              <a:t>Click to edit the title text format</a:t>
            </a:r>
            <a:endParaRPr b="0" lang="en-US" sz="4200" spc="-1" strike="noStrike">
              <a:solidFill>
                <a:srgbClr val="ff5c9c"/>
              </a:solidFill>
              <a:latin typeface="Candara"/>
            </a:endParaRPr>
          </a:p>
        </p:txBody>
      </p:sp>
      <p:sp>
        <p:nvSpPr>
          <p:cNvPr id="305"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Click to edit the outline text format</a:t>
            </a:r>
            <a:endParaRPr b="0" lang="en-US" sz="3000" spc="-1" strike="noStrike">
              <a:solidFill>
                <a:srgbClr val="ffffff"/>
              </a:solidFill>
              <a:latin typeface="Candara"/>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Second Outline Level</a:t>
            </a:r>
            <a:endParaRPr b="0" lang="en-US" sz="3000" spc="-1" strike="noStrike">
              <a:solidFill>
                <a:srgbClr val="ffffff"/>
              </a:solidFill>
              <a:latin typeface="Candara"/>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Third Outline Level</a:t>
            </a:r>
            <a:endParaRPr b="0" lang="en-US" sz="3000" spc="-1" strike="noStrike">
              <a:solidFill>
                <a:srgbClr val="ffffff"/>
              </a:solidFill>
              <a:latin typeface="Candara"/>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Fourth Outline Level</a:t>
            </a:r>
            <a:endParaRPr b="0" lang="en-US" sz="3000" spc="-1" strike="noStrike">
              <a:solidFill>
                <a:srgbClr val="ffffff"/>
              </a:solidFill>
              <a:latin typeface="Candara"/>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Fifth Outline Level</a:t>
            </a:r>
            <a:endParaRPr b="0" lang="en-US" sz="3000" spc="-1" strike="noStrike">
              <a:solidFill>
                <a:srgbClr val="ffffff"/>
              </a:solidFill>
              <a:latin typeface="Candara"/>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Sixth Outline Level</a:t>
            </a:r>
            <a:endParaRPr b="0" lang="en-US" sz="3000" spc="-1" strike="noStrike">
              <a:solidFill>
                <a:srgbClr val="ffffff"/>
              </a:solidFill>
              <a:latin typeface="Candara"/>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Seventh Outline Level</a:t>
            </a:r>
            <a:endParaRPr b="0" lang="en-US" sz="3000" spc="-1" strike="noStrike">
              <a:solidFill>
                <a:srgbClr val="ffffff"/>
              </a:solidFill>
              <a:latin typeface="Candara"/>
            </a:endParaRPr>
          </a:p>
        </p:txBody>
      </p:sp>
      <p:sp>
        <p:nvSpPr>
          <p:cNvPr id="306" name="PlaceHolder 3"/>
          <p:cNvSpPr>
            <a:spLocks noGrp="1"/>
          </p:cNvSpPr>
          <p:nvPr>
            <p:ph type="dt" idx="22"/>
          </p:nvPr>
        </p:nvSpPr>
        <p:spPr>
          <a:xfrm>
            <a:off x="1371240" y="6012000"/>
            <a:ext cx="5791320" cy="365040"/>
          </a:xfrm>
          <a:prstGeom prst="rect">
            <a:avLst/>
          </a:prstGeom>
          <a:noFill/>
          <a:ln w="0">
            <a:noFill/>
          </a:ln>
        </p:spPr>
        <p:txBody>
          <a:bodyPr lIns="90000" rIns="9000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07" name="PlaceHolder 4"/>
          <p:cNvSpPr>
            <a:spLocks noGrp="1"/>
          </p:cNvSpPr>
          <p:nvPr>
            <p:ph type="ftr" idx="23"/>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308" name="PlaceHolder 5"/>
          <p:cNvSpPr>
            <a:spLocks noGrp="1"/>
          </p:cNvSpPr>
          <p:nvPr>
            <p:ph type="sldNum" idx="24"/>
          </p:nvPr>
        </p:nvSpPr>
        <p:spPr>
          <a:xfrm>
            <a:off x="8391600" y="5753160"/>
            <a:ext cx="5032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2B49F-96C3-4EFB-8CE2-EDCAA09B498B}" type="slidenum">
              <a:rPr b="0" lang="en-US" sz="1300" spc="-1" strike="noStrike">
                <a:solidFill>
                  <a:srgbClr val="ffffff"/>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345" name="Dik Üçgen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346" name="Düz Bağlayıcı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ndara"/>
            </a:endParaRPr>
          </a:p>
        </p:txBody>
      </p:sp>
      <p:sp>
        <p:nvSpPr>
          <p:cNvPr id="347" name="Düz Bağlayıcı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ndara"/>
            </a:endParaRPr>
          </a:p>
        </p:txBody>
      </p:sp>
      <p:sp>
        <p:nvSpPr>
          <p:cNvPr id="3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andara"/>
              </a:rPr>
              <a:t>Click to edit the title text format</a:t>
            </a:r>
            <a:endParaRPr b="0" lang="en-US" sz="4200" spc="-1" strike="noStrike">
              <a:solidFill>
                <a:srgbClr val="ff5c9c"/>
              </a:solidFill>
              <a:latin typeface="Candara"/>
            </a:endParaRPr>
          </a:p>
        </p:txBody>
      </p:sp>
      <p:sp>
        <p:nvSpPr>
          <p:cNvPr id="3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Click to edit the outline text format</a:t>
            </a:r>
            <a:endParaRPr b="0" lang="en-US" sz="3000" spc="-1" strike="noStrike">
              <a:solidFill>
                <a:srgbClr val="ffffff"/>
              </a:solidFill>
              <a:latin typeface="Candara"/>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Second Outline Level</a:t>
            </a:r>
            <a:endParaRPr b="0" lang="en-US" sz="3000" spc="-1" strike="noStrike">
              <a:solidFill>
                <a:srgbClr val="ffffff"/>
              </a:solidFill>
              <a:latin typeface="Candara"/>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Third Outline Level</a:t>
            </a:r>
            <a:endParaRPr b="0" lang="en-US" sz="3000" spc="-1" strike="noStrike">
              <a:solidFill>
                <a:srgbClr val="ffffff"/>
              </a:solidFill>
              <a:latin typeface="Candara"/>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Fourth Outline Level</a:t>
            </a:r>
            <a:endParaRPr b="0" lang="en-US" sz="3000" spc="-1" strike="noStrike">
              <a:solidFill>
                <a:srgbClr val="ffffff"/>
              </a:solidFill>
              <a:latin typeface="Candara"/>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Fifth Outline Level</a:t>
            </a:r>
            <a:endParaRPr b="0" lang="en-US" sz="3000" spc="-1" strike="noStrike">
              <a:solidFill>
                <a:srgbClr val="ffffff"/>
              </a:solidFill>
              <a:latin typeface="Candara"/>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Sixth Outline Level</a:t>
            </a:r>
            <a:endParaRPr b="0" lang="en-US" sz="3000" spc="-1" strike="noStrike">
              <a:solidFill>
                <a:srgbClr val="ffffff"/>
              </a:solidFill>
              <a:latin typeface="Candara"/>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Seventh Outline Level</a:t>
            </a:r>
            <a:endParaRPr b="0" lang="en-US" sz="3000" spc="-1" strike="noStrike">
              <a:solidFill>
                <a:srgbClr val="ffffff"/>
              </a:solidFill>
              <a:latin typeface="Candara"/>
            </a:endParaRPr>
          </a:p>
        </p:txBody>
      </p:sp>
      <p:sp>
        <p:nvSpPr>
          <p:cNvPr id="350" name="PlaceHolder 3"/>
          <p:cNvSpPr>
            <a:spLocks noGrp="1"/>
          </p:cNvSpPr>
          <p:nvPr>
            <p:ph type="dt" idx="25"/>
          </p:nvPr>
        </p:nvSpPr>
        <p:spPr>
          <a:xfrm>
            <a:off x="4791240" y="6480000"/>
            <a:ext cx="2133360" cy="3016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51" name="PlaceHolder 4"/>
          <p:cNvSpPr>
            <a:spLocks noGrp="1"/>
          </p:cNvSpPr>
          <p:nvPr>
            <p:ph type="ftr" idx="26"/>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352" name="PlaceHolder 5"/>
          <p:cNvSpPr>
            <a:spLocks noGrp="1"/>
          </p:cNvSpPr>
          <p:nvPr>
            <p:ph type="sldNum" idx="27"/>
          </p:nvPr>
        </p:nvSpPr>
        <p:spPr>
          <a:xfrm>
            <a:off x="7589880" y="6481800"/>
            <a:ext cx="503280" cy="3016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0EEBC-6F18-4A0A-A18B-87A73708219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6.xml"/><Relationship Id="rId5" Type="http://schemas.openxmlformats.org/officeDocument/2006/relationships/slide" Target="slide9.xml"/><Relationship Id="rId6" Type="http://schemas.openxmlformats.org/officeDocument/2006/relationships/slide" Target="slide10.xml"/><Relationship Id="rId7" Type="http://schemas.openxmlformats.org/officeDocument/2006/relationships/slide" Target="slide14.xml"/><Relationship Id="rId8" Type="http://schemas.openxmlformats.org/officeDocument/2006/relationships/slide" Target="slide18.xml"/><Relationship Id="rId9" Type="http://schemas.openxmlformats.org/officeDocument/2006/relationships/slide" Target="slide21.xml"/><Relationship Id="rId10" Type="http://schemas.openxmlformats.org/officeDocument/2006/relationships/slide" Target="slide25.xml"/><Relationship Id="rId11" Type="http://schemas.openxmlformats.org/officeDocument/2006/relationships/slide" Target="slide28.xml"/><Relationship Id="rId12" Type="http://schemas.openxmlformats.org/officeDocument/2006/relationships/slide" Target="slide31.xml"/><Relationship Id="rId13" Type="http://schemas.openxmlformats.org/officeDocument/2006/relationships/slide" Target="slide32.xml"/><Relationship Id="rId14" Type="http://schemas.openxmlformats.org/officeDocument/2006/relationships/slideLayout" Target="../slideLayouts/slideLayout99.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99.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99.xml"/>
</Relationships>
</file>

<file path=ppt/slides/_rels/slide3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hyperlink" Target="http://www.turkceciler.com/Dersnotlari/siirbilgisi.htm" TargetMode="External"/><Relationship Id="rId4" Type="http://schemas.openxmlformats.org/officeDocument/2006/relationships/hyperlink" Target="http://edebiyatgunlugu.wordpress.com/2007/04/11/konularina-gore-siir-turleri/" TargetMode="External"/><Relationship Id="rId5"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ndara"/>
              </a:rPr>
              <a:t>                 </a:t>
            </a:r>
            <a:br>
              <a:rPr sz="4400"/>
            </a:br>
            <a:r>
              <a:rPr b="1" lang="en-US" sz="4400" spc="-1" strike="noStrike">
                <a:solidFill>
                  <a:srgbClr val="ffffff"/>
                </a:solidFill>
                <a:latin typeface="Candara"/>
              </a:rPr>
              <a:t>                </a:t>
            </a:r>
            <a:r>
              <a:rPr b="1" lang="en-US" sz="4400" spc="-1" strike="noStrike">
                <a:solidFill>
                  <a:srgbClr val="ffffff"/>
                </a:solidFill>
                <a:latin typeface="Candara"/>
              </a:rPr>
              <a:t>İÇİNDEKİLER:</a:t>
            </a:r>
            <a:br>
              <a:rPr sz="4400"/>
            </a:br>
            <a:br>
              <a:rPr sz="4400"/>
            </a:br>
            <a:endParaRPr b="0" lang="en-US" sz="4400" spc="-1" strike="noStrike">
              <a:solidFill>
                <a:srgbClr val="ff5c9c"/>
              </a:solidFill>
              <a:latin typeface="Candara"/>
            </a:endParaRPr>
          </a:p>
        </p:txBody>
      </p:sp>
      <p:sp>
        <p:nvSpPr>
          <p:cNvPr id="602" name="PlaceHolder 2"/>
          <p:cNvSpPr>
            <a:spLocks noGrp="1"/>
          </p:cNvSpPr>
          <p:nvPr>
            <p:ph/>
          </p:nvPr>
        </p:nvSpPr>
        <p:spPr>
          <a:xfrm>
            <a:off x="457200" y="1052640"/>
            <a:ext cx="8229600" cy="5402160"/>
          </a:xfrm>
          <a:prstGeom prst="rect">
            <a:avLst/>
          </a:prstGeom>
          <a:noFill/>
          <a:ln w="0">
            <a:noFill/>
          </a:ln>
        </p:spPr>
        <p:txBody>
          <a:bodyPr lIns="90000" rIns="90000" tIns="46800" bIns="46800" anchor="t">
            <a:normAutofit fontScale="92000"/>
          </a:bodyPr>
          <a:p>
            <a:pPr marL="585360" indent="-525600">
              <a:lnSpc>
                <a:spcPct val="90000"/>
              </a:lnSpc>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17bbfd"/>
                </a:solidFill>
                <a:uFillTx/>
                <a:latin typeface="Verdana"/>
                <a:hlinkClick r:id="rId2" action="ppaction://hlinksldjump"/>
              </a:rPr>
              <a:t>Amaçlar</a:t>
            </a:r>
            <a:endParaRPr b="0" lang="en-US" sz="2400" spc="-1" strike="noStrike">
              <a:solidFill>
                <a:srgbClr val="ffffff"/>
              </a:solidFill>
              <a:latin typeface="Candara"/>
            </a:endParaRPr>
          </a:p>
          <a:p>
            <a:pPr marL="585360" indent="-525600">
              <a:lnSpc>
                <a:spcPct val="90000"/>
              </a:lnSpc>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17bbfd"/>
                </a:solidFill>
                <a:uFillTx/>
                <a:latin typeface="Verdana"/>
                <a:hlinkClick r:id="rId3" action="ppaction://hlinksldjump"/>
              </a:rPr>
              <a:t>Kazanımlar</a:t>
            </a:r>
            <a:endParaRPr b="0" lang="en-US" sz="2400" spc="-1" strike="noStrike">
              <a:solidFill>
                <a:srgbClr val="ffffff"/>
              </a:solidFill>
              <a:latin typeface="Candara"/>
            </a:endParaRPr>
          </a:p>
          <a:p>
            <a:pPr marL="585360" indent="-525600">
              <a:lnSpc>
                <a:spcPct val="90000"/>
              </a:lnSpc>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17bbfd"/>
                </a:solidFill>
                <a:uFillTx/>
                <a:latin typeface="Verdana"/>
                <a:hlinkClick r:id="rId4" action="ppaction://hlinksldjump"/>
              </a:rPr>
              <a:t>Şiirin tanımı</a:t>
            </a:r>
            <a:endParaRPr b="0" lang="en-US" sz="2400" spc="-1" strike="noStrike">
              <a:solidFill>
                <a:srgbClr val="ffffff"/>
              </a:solidFill>
              <a:latin typeface="Candara"/>
            </a:endParaRPr>
          </a:p>
          <a:p>
            <a:pPr marL="585360" indent="-525600">
              <a:lnSpc>
                <a:spcPct val="90000"/>
              </a:lnSpc>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17bbfd"/>
                </a:solidFill>
                <a:uFillTx/>
                <a:latin typeface="Verdana"/>
                <a:hlinkClick r:id="rId5" action="ppaction://hlinksldjump"/>
              </a:rPr>
              <a:t>Şiir türleri:</a:t>
            </a:r>
            <a:endParaRPr b="0" lang="en-US" sz="2400" spc="-1" strike="noStrike">
              <a:solidFill>
                <a:srgbClr val="ffffff"/>
              </a:solidFill>
              <a:latin typeface="Candara"/>
            </a:endParaRPr>
          </a:p>
          <a:p>
            <a:pPr marL="58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            </a:t>
            </a:r>
            <a:r>
              <a:rPr b="0" lang="en-US" sz="2400" spc="-1" strike="noStrike" u="sng">
                <a:solidFill>
                  <a:srgbClr val="17bbfd"/>
                </a:solidFill>
                <a:uFillTx/>
                <a:latin typeface="Verdana"/>
                <a:hlinkClick r:id="rId6" action="ppaction://hlinksldjump"/>
              </a:rPr>
              <a:t>Lirik şiir</a:t>
            </a:r>
            <a:endParaRPr b="0" lang="en-US" sz="2400" spc="-1" strike="noStrike">
              <a:solidFill>
                <a:srgbClr val="ffffff"/>
              </a:solidFill>
              <a:latin typeface="Candara"/>
            </a:endParaRPr>
          </a:p>
          <a:p>
            <a:pPr marL="58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            </a:t>
            </a:r>
            <a:r>
              <a:rPr b="0" lang="en-US" sz="2400" spc="-1" strike="noStrike" u="sng">
                <a:solidFill>
                  <a:srgbClr val="17bbfd"/>
                </a:solidFill>
                <a:uFillTx/>
                <a:latin typeface="Verdana"/>
                <a:hlinkClick r:id="rId7" action="ppaction://hlinksldjump"/>
              </a:rPr>
              <a:t>Pastoral şiir</a:t>
            </a:r>
            <a:endParaRPr b="0" lang="en-US" sz="2400" spc="-1" strike="noStrike">
              <a:solidFill>
                <a:srgbClr val="ffffff"/>
              </a:solidFill>
              <a:latin typeface="Candara"/>
            </a:endParaRPr>
          </a:p>
          <a:p>
            <a:pPr marL="58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            </a:t>
            </a:r>
            <a:r>
              <a:rPr b="0" lang="en-US" sz="2400" spc="-1" strike="noStrike" u="sng">
                <a:solidFill>
                  <a:srgbClr val="17bbfd"/>
                </a:solidFill>
                <a:uFillTx/>
                <a:latin typeface="Verdana"/>
                <a:hlinkClick r:id="rId8" action="ppaction://hlinksldjump"/>
              </a:rPr>
              <a:t>Epik şiir</a:t>
            </a:r>
            <a:endParaRPr b="0" lang="en-US" sz="2400" spc="-1" strike="noStrike">
              <a:solidFill>
                <a:srgbClr val="ffffff"/>
              </a:solidFill>
              <a:latin typeface="Candara"/>
            </a:endParaRPr>
          </a:p>
          <a:p>
            <a:pPr marL="58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            </a:t>
            </a:r>
            <a:r>
              <a:rPr b="0" lang="en-US" sz="2400" spc="-1" strike="noStrike" u="sng">
                <a:solidFill>
                  <a:srgbClr val="17bbfd"/>
                </a:solidFill>
                <a:uFillTx/>
                <a:latin typeface="Verdana"/>
                <a:hlinkClick r:id="rId9" action="ppaction://hlinksldjump"/>
              </a:rPr>
              <a:t>Didaktik şiir</a:t>
            </a:r>
            <a:endParaRPr b="0" lang="en-US" sz="2400" spc="-1" strike="noStrike">
              <a:solidFill>
                <a:srgbClr val="ffffff"/>
              </a:solidFill>
              <a:latin typeface="Candara"/>
            </a:endParaRPr>
          </a:p>
          <a:p>
            <a:pPr marL="58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            </a:t>
            </a:r>
            <a:r>
              <a:rPr b="0" lang="en-US" sz="2400" spc="-1" strike="noStrike" u="sng">
                <a:solidFill>
                  <a:srgbClr val="17bbfd"/>
                </a:solidFill>
                <a:uFillTx/>
                <a:latin typeface="Verdana"/>
                <a:hlinkClick r:id="rId10" action="ppaction://hlinksldjump"/>
              </a:rPr>
              <a:t>Satirik şiir</a:t>
            </a:r>
            <a:endParaRPr b="0" lang="en-US" sz="2400" spc="-1" strike="noStrike">
              <a:solidFill>
                <a:srgbClr val="ffffff"/>
              </a:solidFill>
              <a:latin typeface="Candara"/>
            </a:endParaRPr>
          </a:p>
          <a:p>
            <a:pPr marL="58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            </a:t>
            </a:r>
            <a:r>
              <a:rPr b="0" lang="en-US" sz="2400" spc="-1" strike="noStrike" u="sng">
                <a:solidFill>
                  <a:srgbClr val="17bbfd"/>
                </a:solidFill>
                <a:uFillTx/>
                <a:latin typeface="Verdana"/>
                <a:hlinkClick r:id="rId11" action="ppaction://hlinksldjump"/>
              </a:rPr>
              <a:t>Dramatik şiir</a:t>
            </a:r>
            <a:endParaRPr b="0" lang="en-US" sz="2400" spc="-1" strike="noStrike">
              <a:solidFill>
                <a:srgbClr val="ffffff"/>
              </a:solidFill>
              <a:latin typeface="Candara"/>
            </a:endParaRPr>
          </a:p>
          <a:p>
            <a:pPr marL="58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ndara"/>
            </a:endParaRPr>
          </a:p>
          <a:p>
            <a:pPr marL="585360" indent="-525600">
              <a:lnSpc>
                <a:spcPct val="90000"/>
              </a:lnSpc>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17bbfd"/>
                </a:solidFill>
                <a:uFillTx/>
                <a:latin typeface="Verdana"/>
                <a:hlinkClick r:id="rId12" action="ppaction://hlinksldjump"/>
              </a:rPr>
              <a:t>Hazırlayanlar</a:t>
            </a:r>
            <a:endParaRPr b="0" lang="en-US" sz="2400" spc="-1" strike="noStrike">
              <a:solidFill>
                <a:srgbClr val="ffffff"/>
              </a:solidFill>
              <a:latin typeface="Candara"/>
            </a:endParaRPr>
          </a:p>
          <a:p>
            <a:pPr marL="585360" indent="-525600">
              <a:lnSpc>
                <a:spcPct val="90000"/>
              </a:lnSpc>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17bbfd"/>
                </a:solidFill>
                <a:uFillTx/>
                <a:latin typeface="Verdana"/>
                <a:hlinkClick r:id="rId13" action="ppaction://hlinksldjump"/>
              </a:rPr>
              <a:t>Kaynakça</a:t>
            </a:r>
            <a:endParaRPr b="0" lang="en-US" sz="2400" spc="-1" strike="noStrike">
              <a:solidFill>
                <a:srgbClr val="ffffff"/>
              </a:solidFill>
              <a:latin typeface="Candara"/>
            </a:endParaRPr>
          </a:p>
          <a:p>
            <a:pPr marL="58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ndara"/>
            </a:endParaRPr>
          </a:p>
          <a:p>
            <a:pPr marL="58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ndara"/>
            </a:endParaRPr>
          </a:p>
        </p:txBody>
      </p:sp>
      <p:sp>
        <p:nvSpPr>
          <p:cNvPr id="603" name="">
            <a:hlinkClick r:id="" action="ppaction://hlinkshowjump?jump=nextslide"/>
          </p:cNvPr>
          <p:cNvSpPr/>
          <p:nvPr/>
        </p:nvSpPr>
        <p:spPr>
          <a:xfrm>
            <a:off x="0" y="6283440"/>
            <a:ext cx="647640" cy="574560"/>
          </a:xfrm>
          <a:custGeom>
            <a:avLst/>
            <a:gdLst>
              <a:gd name="textAreaLeft" fmla="*/ 37080 w 647640"/>
              <a:gd name="textAreaRight" fmla="*/ 610560 w 647640"/>
              <a:gd name="textAreaTop" fmla="*/ 37080 h 574560"/>
              <a:gd name="textAreaBottom" fmla="*/ 537480 h 574560"/>
            </a:gdLst>
            <a:ahLst/>
            <a:rect l="textAreaLeft" t="textAreaTop" r="textAreaRight" b="textAreaBottom"/>
            <a:pathLst>
              <a:path w="24346" h="21600">
                <a:moveTo>
                  <a:pt x="0" y="0"/>
                </a:moveTo>
                <a:lnTo>
                  <a:pt x="24346" y="0"/>
                </a:lnTo>
                <a:lnTo>
                  <a:pt x="24346" y="21600"/>
                </a:lnTo>
                <a:lnTo>
                  <a:pt x="0" y="21600"/>
                </a:lnTo>
                <a:close/>
              </a:path>
              <a:path fill="lightenLess" w="24346" h="21600">
                <a:moveTo>
                  <a:pt x="0" y="0"/>
                </a:moveTo>
                <a:lnTo>
                  <a:pt x="24346" y="0"/>
                </a:lnTo>
                <a:lnTo>
                  <a:pt x="22946" y="1400"/>
                </a:lnTo>
                <a:lnTo>
                  <a:pt x="1400" y="1400"/>
                </a:lnTo>
                <a:close/>
              </a:path>
              <a:path fill="darken" w="24346" h="21600">
                <a:moveTo>
                  <a:pt x="24346" y="0"/>
                </a:moveTo>
                <a:lnTo>
                  <a:pt x="24346" y="21600"/>
                </a:lnTo>
                <a:lnTo>
                  <a:pt x="22946" y="20200"/>
                </a:lnTo>
                <a:lnTo>
                  <a:pt x="22946" y="1400"/>
                </a:lnTo>
                <a:close/>
              </a:path>
              <a:path fill="darkenLess" w="24346" h="21600">
                <a:moveTo>
                  <a:pt x="24346" y="21600"/>
                </a:moveTo>
                <a:lnTo>
                  <a:pt x="0" y="21600"/>
                </a:lnTo>
                <a:lnTo>
                  <a:pt x="1400" y="20200"/>
                </a:lnTo>
                <a:lnTo>
                  <a:pt x="22946" y="20200"/>
                </a:lnTo>
                <a:close/>
              </a:path>
              <a:path fill="lighten" w="24346" h="21600">
                <a:moveTo>
                  <a:pt x="0" y="21600"/>
                </a:moveTo>
                <a:lnTo>
                  <a:pt x="0" y="0"/>
                </a:lnTo>
                <a:lnTo>
                  <a:pt x="1400" y="1400"/>
                </a:lnTo>
                <a:lnTo>
                  <a:pt x="1400" y="20200"/>
                </a:lnTo>
                <a:close/>
              </a:path>
              <a:path fill="darken" w="24346" h="21600">
                <a:moveTo>
                  <a:pt x="5166" y="3794"/>
                </a:moveTo>
                <a:lnTo>
                  <a:pt x="19179" y="10800"/>
                </a:lnTo>
                <a:lnTo>
                  <a:pt x="5166"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Tree>
  </p:cSld>
  <p:transition spd="slow">
    <p:wheel spokes="1"/>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40" name="PlaceHolder 1"/>
          <p:cNvSpPr>
            <a:spLocks noGrp="1"/>
          </p:cNvSpPr>
          <p:nvPr>
            <p:ph/>
          </p:nvPr>
        </p:nvSpPr>
        <p:spPr>
          <a:xfrm>
            <a:off x="380520" y="1267920"/>
            <a:ext cx="8078760" cy="5040360"/>
          </a:xfrm>
          <a:prstGeom prst="rect">
            <a:avLst/>
          </a:prstGeom>
          <a:noFill/>
          <a:ln w="0">
            <a:noFill/>
          </a:ln>
        </p:spPr>
        <p:txBody>
          <a:bodyPr lIns="90000" rIns="90000" tIns="46800" bIns="46800" anchor="t">
            <a:normAutofit/>
          </a:bodyPr>
          <a:p>
            <a:pPr marL="540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Verdana"/>
              </a:rPr>
              <a:t>Duygu ve düşüncelerin coşkulu bir dille anlatan şiire lirik şiir denir.</a:t>
            </a:r>
            <a:endParaRPr b="0" lang="en-US" sz="2600" spc="-1" strike="noStrike">
              <a:solidFill>
                <a:srgbClr val="ffffff"/>
              </a:solidFill>
              <a:latin typeface="Candara"/>
            </a:endParaRPr>
          </a:p>
          <a:p>
            <a:pPr marL="540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Verdana"/>
              </a:rPr>
              <a:t>Eski Yunan edebiyatında şairler şiirlerini Lyra (lir) denilen bir sazla söyledikleri için bu tür şiirlere lirik denilmiştir.  Lirik şiir, dünya edebiyatında en çok işlenen ve sevilen şiir türüdür. Lirik şiirler insan yüreğine seslenen , okunduğunda insanı duygulandıran , coşkulandıran şiirlerdir. Batı edebiyatında Rönesans devrim şairlerinin(PETRERCA,RONSARD) daha sonra da ilke olarak içe dönüklüğü benimseyen romantik şairlerin( Lamartine ,Hugo, Goethe, Schiller) duygusal ve öznel bir nitelik gösteren şiirlerin bu türün başarılı örnekleridir.</a:t>
            </a:r>
            <a:endParaRPr b="0" lang="en-US" sz="2600" spc="-1" strike="noStrike">
              <a:solidFill>
                <a:srgbClr val="ffffff"/>
              </a:solidFill>
              <a:latin typeface="Candara"/>
            </a:endParaRPr>
          </a:p>
          <a:p>
            <a:pPr marL="540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ndara"/>
            </a:endParaRPr>
          </a:p>
        </p:txBody>
      </p:sp>
      <p:pic>
        <p:nvPicPr>
          <p:cNvPr id="641" name="Dikdörtgen 6" descr=""/>
          <p:cNvPicPr/>
          <p:nvPr/>
        </p:nvPicPr>
        <p:blipFill>
          <a:blip r:embed="rId2"/>
          <a:stretch/>
        </p:blipFill>
        <p:spPr>
          <a:xfrm>
            <a:off x="1755720" y="115920"/>
            <a:ext cx="5699160" cy="1200240"/>
          </a:xfrm>
          <a:prstGeom prst="rect">
            <a:avLst/>
          </a:prstGeom>
          <a:ln w="0">
            <a:noFill/>
          </a:ln>
        </p:spPr>
      </p:pic>
      <p:sp>
        <p:nvSpPr>
          <p:cNvPr id="642" name="">
            <a:hlinkClick r:id="" action="ppaction://hlinkshowjump?jump=previousslide"/>
          </p:cNvPr>
          <p:cNvSpPr/>
          <p:nvPr/>
        </p:nvSpPr>
        <p:spPr>
          <a:xfrm>
            <a:off x="0" y="6219720"/>
            <a:ext cx="649440" cy="638280"/>
          </a:xfrm>
          <a:custGeom>
            <a:avLst/>
            <a:gdLst>
              <a:gd name="textAreaLeft" fmla="*/ 41040 w 649440"/>
              <a:gd name="textAreaRight" fmla="*/ 608400 w 649440"/>
              <a:gd name="textAreaTop" fmla="*/ 41040 h 638280"/>
              <a:gd name="textAreaBottom" fmla="*/ 597240 h 638280"/>
            </a:gdLst>
            <a:ahLst/>
            <a:rect l="textAreaLeft" t="textAreaTop" r="textAreaRight" b="textAreaBottom"/>
            <a:pathLst>
              <a:path w="21977" h="21600">
                <a:moveTo>
                  <a:pt x="0" y="0"/>
                </a:moveTo>
                <a:lnTo>
                  <a:pt x="21977" y="0"/>
                </a:lnTo>
                <a:lnTo>
                  <a:pt x="21977" y="21600"/>
                </a:lnTo>
                <a:lnTo>
                  <a:pt x="0" y="21600"/>
                </a:lnTo>
                <a:close/>
              </a:path>
              <a:path fill="lightenLess" w="21977" h="21600">
                <a:moveTo>
                  <a:pt x="0" y="0"/>
                </a:moveTo>
                <a:lnTo>
                  <a:pt x="21977" y="0"/>
                </a:lnTo>
                <a:lnTo>
                  <a:pt x="20577" y="1400"/>
                </a:lnTo>
                <a:lnTo>
                  <a:pt x="1400" y="1400"/>
                </a:lnTo>
                <a:close/>
              </a:path>
              <a:path fill="darken" w="21977" h="21600">
                <a:moveTo>
                  <a:pt x="21977" y="0"/>
                </a:moveTo>
                <a:lnTo>
                  <a:pt x="21977" y="21600"/>
                </a:lnTo>
                <a:lnTo>
                  <a:pt x="20577" y="20200"/>
                </a:lnTo>
                <a:lnTo>
                  <a:pt x="20577" y="1400"/>
                </a:lnTo>
                <a:close/>
              </a:path>
              <a:path fill="darkenLess" w="21977" h="21600">
                <a:moveTo>
                  <a:pt x="21977" y="21600"/>
                </a:moveTo>
                <a:lnTo>
                  <a:pt x="0" y="21600"/>
                </a:lnTo>
                <a:lnTo>
                  <a:pt x="1400" y="20200"/>
                </a:lnTo>
                <a:lnTo>
                  <a:pt x="20577" y="20200"/>
                </a:lnTo>
                <a:close/>
              </a:path>
              <a:path fill="lighten" w="21977" h="21600">
                <a:moveTo>
                  <a:pt x="0" y="21600"/>
                </a:moveTo>
                <a:lnTo>
                  <a:pt x="0" y="0"/>
                </a:lnTo>
                <a:lnTo>
                  <a:pt x="1400" y="1400"/>
                </a:lnTo>
                <a:lnTo>
                  <a:pt x="1400" y="20200"/>
                </a:lnTo>
                <a:close/>
              </a:path>
              <a:path fill="darken" w="21977" h="21600">
                <a:moveTo>
                  <a:pt x="3982" y="10800"/>
                </a:moveTo>
                <a:lnTo>
                  <a:pt x="17995" y="3794"/>
                </a:lnTo>
                <a:lnTo>
                  <a:pt x="17995"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643" name="">
            <a:hlinkClick r:id="" action="ppaction://hlinkshowjump?jump=nextslide"/>
          </p:cNvPr>
          <p:cNvSpPr/>
          <p:nvPr/>
        </p:nvSpPr>
        <p:spPr>
          <a:xfrm>
            <a:off x="125892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4263" y="3794"/>
                </a:moveTo>
                <a:lnTo>
                  <a:pt x="18276" y="10800"/>
                </a:lnTo>
                <a:lnTo>
                  <a:pt x="4263"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644" name="">
            <a:hlinkClick r:id="" action="ppaction://hlinkshowjump?jump=firstslide"/>
          </p:cNvPr>
          <p:cNvSpPr/>
          <p:nvPr/>
        </p:nvSpPr>
        <p:spPr>
          <a:xfrm>
            <a:off x="61128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11270" y="3837"/>
                </a:moveTo>
                <a:lnTo>
                  <a:pt x="13846" y="6448"/>
                </a:lnTo>
                <a:lnTo>
                  <a:pt x="13846" y="4707"/>
                </a:lnTo>
                <a:lnTo>
                  <a:pt x="15621" y="4707"/>
                </a:lnTo>
                <a:lnTo>
                  <a:pt x="15621" y="8224"/>
                </a:lnTo>
                <a:lnTo>
                  <a:pt x="18233" y="10800"/>
                </a:lnTo>
                <a:lnTo>
                  <a:pt x="16579" y="10800"/>
                </a:lnTo>
                <a:lnTo>
                  <a:pt x="16579" y="17989"/>
                </a:lnTo>
                <a:lnTo>
                  <a:pt x="5960" y="17989"/>
                </a:lnTo>
                <a:lnTo>
                  <a:pt x="5960" y="10800"/>
                </a:lnTo>
                <a:lnTo>
                  <a:pt x="4307" y="10800"/>
                </a:lnTo>
                <a:close/>
              </a:path>
              <a:path fill="darkenLess" w="22539" h="21600">
                <a:moveTo>
                  <a:pt x="13846" y="6448"/>
                </a:moveTo>
                <a:lnTo>
                  <a:pt x="13846" y="4707"/>
                </a:lnTo>
                <a:lnTo>
                  <a:pt x="15621" y="4707"/>
                </a:lnTo>
                <a:lnTo>
                  <a:pt x="15621" y="8224"/>
                </a:lnTo>
                <a:close/>
              </a:path>
              <a:path fill="darkenLess" w="22539" h="21600">
                <a:moveTo>
                  <a:pt x="10347" y="14299"/>
                </a:moveTo>
                <a:lnTo>
                  <a:pt x="12192" y="14299"/>
                </a:lnTo>
                <a:lnTo>
                  <a:pt x="12192" y="17989"/>
                </a:lnTo>
                <a:lnTo>
                  <a:pt x="16579" y="17989"/>
                </a:lnTo>
                <a:lnTo>
                  <a:pt x="16579" y="10800"/>
                </a:lnTo>
                <a:lnTo>
                  <a:pt x="5960" y="10800"/>
                </a:lnTo>
                <a:lnTo>
                  <a:pt x="5960" y="17989"/>
                </a:lnTo>
                <a:lnTo>
                  <a:pt x="10347" y="17989"/>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Tree>
  </p:cSld>
  <p:transition spd="slow">
    <p:wheel spokes="1"/>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5" name="Dikdörtgen 4"/>
          <p:cNvSpPr/>
          <p:nvPr/>
        </p:nvSpPr>
        <p:spPr>
          <a:xfrm>
            <a:off x="1763640" y="476280"/>
            <a:ext cx="5761080" cy="588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c71ff"/>
                </a:solidFill>
                <a:latin typeface="Candara"/>
              </a:rPr>
              <a:t>NERDESİN?</a:t>
            </a:r>
            <a:endParaRPr b="0" lang="en-US" sz="2800" spc="-1" strike="noStrike">
              <a:solidFill>
                <a:srgbClr val="ffffff"/>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andara"/>
              </a:rPr>
              <a:t> </a:t>
            </a:r>
            <a:endParaRPr b="0" lang="en-US" sz="18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Geceleyin bir ses böler uykumu.</a:t>
            </a:r>
            <a:endParaRPr b="0" lang="en-US" sz="24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İçim ürpermeyle dolar: - Nerdesin?</a:t>
            </a:r>
            <a:endParaRPr b="0" lang="en-US" sz="24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Arıyorum yıllar var ki ben onu,</a:t>
            </a:r>
            <a:endParaRPr b="0" lang="en-US" sz="24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Aşıkıyım beni çağıran bu sesin.</a:t>
            </a:r>
            <a:endParaRPr b="0" lang="en-US" sz="24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Gün olur sürüyüp beni derbeder,</a:t>
            </a:r>
            <a:endParaRPr b="0" lang="en-US" sz="24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Bu ses rüzgarlara karışır gider.</a:t>
            </a:r>
            <a:endParaRPr b="0" lang="en-US" sz="24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Gün olur peşimden yürür beraber,</a:t>
            </a:r>
            <a:endParaRPr b="0" lang="en-US" sz="24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Ansızın haykırır bana: Nerdesin?</a:t>
            </a:r>
            <a:endParaRPr b="0" lang="en-US" sz="24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Bütün sevgileri atıp içimden,</a:t>
            </a:r>
            <a:endParaRPr b="0" lang="en-US" sz="24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Varlığımı yalnız ona verdim ben,</a:t>
            </a:r>
            <a:endParaRPr b="0" lang="en-US" sz="24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Elverir ki bir gün bana derinden</a:t>
            </a:r>
            <a:endParaRPr b="0" lang="en-US" sz="24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Ta derinden bir gün bana "Gel" desin </a:t>
            </a:r>
            <a:endParaRPr b="0" lang="en-US" sz="24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                   </a:t>
            </a:r>
            <a:r>
              <a:rPr b="0" lang="tr-TR" sz="2400" spc="-1" strike="noStrike">
                <a:solidFill>
                  <a:srgbClr val="ffffff"/>
                </a:solidFill>
                <a:latin typeface="Verdana"/>
              </a:rPr>
              <a:t>(Ahmet Kutsi TECER</a:t>
            </a:r>
            <a:r>
              <a:rPr b="0" lang="tr-TR" sz="2200" spc="-1" strike="noStrike">
                <a:solidFill>
                  <a:srgbClr val="ffffff"/>
                </a:solidFill>
                <a:latin typeface="Candara"/>
              </a:rPr>
              <a:t>) </a:t>
            </a:r>
            <a:endParaRPr b="0" lang="en-US" sz="2200" spc="-1" strike="noStrike">
              <a:solidFill>
                <a:srgbClr val="ffffff"/>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ndara"/>
            </a:endParaRPr>
          </a:p>
        </p:txBody>
      </p:sp>
      <p:pic>
        <p:nvPicPr>
          <p:cNvPr id="646" name="" descr=""/>
          <p:cNvPicPr/>
          <p:nvPr/>
        </p:nvPicPr>
        <p:blipFill>
          <a:blip r:embed="rId2"/>
          <a:stretch/>
        </p:blipFill>
        <p:spPr>
          <a:xfrm>
            <a:off x="8101080" y="6021360"/>
            <a:ext cx="304560" cy="304920"/>
          </a:xfrm>
          <a:prstGeom prst="rect">
            <a:avLst/>
          </a:prstGeom>
          <a:ln w="0">
            <a:noFill/>
          </a:ln>
        </p:spPr>
      </p:pic>
      <p:sp>
        <p:nvSpPr>
          <p:cNvPr id="647" name="">
            <a:hlinkClick r:id="" action="ppaction://hlinkshowjump?jump=previousslide"/>
          </p:cNvPr>
          <p:cNvSpPr/>
          <p:nvPr/>
        </p:nvSpPr>
        <p:spPr>
          <a:xfrm>
            <a:off x="0" y="6219720"/>
            <a:ext cx="649440" cy="638280"/>
          </a:xfrm>
          <a:custGeom>
            <a:avLst/>
            <a:gdLst>
              <a:gd name="textAreaLeft" fmla="*/ 41040 w 649440"/>
              <a:gd name="textAreaRight" fmla="*/ 608400 w 649440"/>
              <a:gd name="textAreaTop" fmla="*/ 41040 h 638280"/>
              <a:gd name="textAreaBottom" fmla="*/ 597240 h 638280"/>
            </a:gdLst>
            <a:ahLst/>
            <a:rect l="textAreaLeft" t="textAreaTop" r="textAreaRight" b="textAreaBottom"/>
            <a:pathLst>
              <a:path w="21977" h="21600">
                <a:moveTo>
                  <a:pt x="0" y="0"/>
                </a:moveTo>
                <a:lnTo>
                  <a:pt x="21977" y="0"/>
                </a:lnTo>
                <a:lnTo>
                  <a:pt x="21977" y="21600"/>
                </a:lnTo>
                <a:lnTo>
                  <a:pt x="0" y="21600"/>
                </a:lnTo>
                <a:close/>
              </a:path>
              <a:path fill="lightenLess" w="21977" h="21600">
                <a:moveTo>
                  <a:pt x="0" y="0"/>
                </a:moveTo>
                <a:lnTo>
                  <a:pt x="21977" y="0"/>
                </a:lnTo>
                <a:lnTo>
                  <a:pt x="20577" y="1400"/>
                </a:lnTo>
                <a:lnTo>
                  <a:pt x="1400" y="1400"/>
                </a:lnTo>
                <a:close/>
              </a:path>
              <a:path fill="darken" w="21977" h="21600">
                <a:moveTo>
                  <a:pt x="21977" y="0"/>
                </a:moveTo>
                <a:lnTo>
                  <a:pt x="21977" y="21600"/>
                </a:lnTo>
                <a:lnTo>
                  <a:pt x="20577" y="20200"/>
                </a:lnTo>
                <a:lnTo>
                  <a:pt x="20577" y="1400"/>
                </a:lnTo>
                <a:close/>
              </a:path>
              <a:path fill="darkenLess" w="21977" h="21600">
                <a:moveTo>
                  <a:pt x="21977" y="21600"/>
                </a:moveTo>
                <a:lnTo>
                  <a:pt x="0" y="21600"/>
                </a:lnTo>
                <a:lnTo>
                  <a:pt x="1400" y="20200"/>
                </a:lnTo>
                <a:lnTo>
                  <a:pt x="20577" y="20200"/>
                </a:lnTo>
                <a:close/>
              </a:path>
              <a:path fill="lighten" w="21977" h="21600">
                <a:moveTo>
                  <a:pt x="0" y="21600"/>
                </a:moveTo>
                <a:lnTo>
                  <a:pt x="0" y="0"/>
                </a:lnTo>
                <a:lnTo>
                  <a:pt x="1400" y="1400"/>
                </a:lnTo>
                <a:lnTo>
                  <a:pt x="1400" y="20200"/>
                </a:lnTo>
                <a:close/>
              </a:path>
              <a:path fill="darken" w="21977" h="21600">
                <a:moveTo>
                  <a:pt x="3982" y="10800"/>
                </a:moveTo>
                <a:lnTo>
                  <a:pt x="17995" y="3794"/>
                </a:lnTo>
                <a:lnTo>
                  <a:pt x="17995"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648" name="">
            <a:hlinkClick r:id="" action="ppaction://hlinkshowjump?jump=nextslide"/>
          </p:cNvPr>
          <p:cNvSpPr/>
          <p:nvPr/>
        </p:nvSpPr>
        <p:spPr>
          <a:xfrm>
            <a:off x="125892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4263" y="3794"/>
                </a:moveTo>
                <a:lnTo>
                  <a:pt x="18276" y="10800"/>
                </a:lnTo>
                <a:lnTo>
                  <a:pt x="4263"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649" name="">
            <a:hlinkClick r:id="" action="ppaction://hlinkshowjump?jump=firstslide"/>
          </p:cNvPr>
          <p:cNvSpPr/>
          <p:nvPr/>
        </p:nvSpPr>
        <p:spPr>
          <a:xfrm>
            <a:off x="61128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11270" y="3837"/>
                </a:moveTo>
                <a:lnTo>
                  <a:pt x="13846" y="6448"/>
                </a:lnTo>
                <a:lnTo>
                  <a:pt x="13846" y="4707"/>
                </a:lnTo>
                <a:lnTo>
                  <a:pt x="15621" y="4707"/>
                </a:lnTo>
                <a:lnTo>
                  <a:pt x="15621" y="8224"/>
                </a:lnTo>
                <a:lnTo>
                  <a:pt x="18233" y="10800"/>
                </a:lnTo>
                <a:lnTo>
                  <a:pt x="16579" y="10800"/>
                </a:lnTo>
                <a:lnTo>
                  <a:pt x="16579" y="17989"/>
                </a:lnTo>
                <a:lnTo>
                  <a:pt x="5960" y="17989"/>
                </a:lnTo>
                <a:lnTo>
                  <a:pt x="5960" y="10800"/>
                </a:lnTo>
                <a:lnTo>
                  <a:pt x="4307" y="10800"/>
                </a:lnTo>
                <a:close/>
              </a:path>
              <a:path fill="darkenLess" w="22539" h="21600">
                <a:moveTo>
                  <a:pt x="13846" y="6448"/>
                </a:moveTo>
                <a:lnTo>
                  <a:pt x="13846" y="4707"/>
                </a:lnTo>
                <a:lnTo>
                  <a:pt x="15621" y="4707"/>
                </a:lnTo>
                <a:lnTo>
                  <a:pt x="15621" y="8224"/>
                </a:lnTo>
                <a:close/>
              </a:path>
              <a:path fill="darkenLess" w="22539" h="21600">
                <a:moveTo>
                  <a:pt x="10347" y="14299"/>
                </a:moveTo>
                <a:lnTo>
                  <a:pt x="12192" y="14299"/>
                </a:lnTo>
                <a:lnTo>
                  <a:pt x="12192" y="17989"/>
                </a:lnTo>
                <a:lnTo>
                  <a:pt x="16579" y="17989"/>
                </a:lnTo>
                <a:lnTo>
                  <a:pt x="16579" y="10800"/>
                </a:lnTo>
                <a:lnTo>
                  <a:pt x="5960" y="10800"/>
                </a:lnTo>
                <a:lnTo>
                  <a:pt x="5960" y="17989"/>
                </a:lnTo>
                <a:lnTo>
                  <a:pt x="10347" y="17989"/>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Tree>
  </p:cSld>
  <p:transition spd="slow">
    <p:wheel spokes="1"/>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6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650" name="PlaceHolder 1"/>
          <p:cNvSpPr>
            <a:spLocks noGrp="1"/>
          </p:cNvSpPr>
          <p:nvPr>
            <p:ph/>
          </p:nvPr>
        </p:nvSpPr>
        <p:spPr>
          <a:xfrm>
            <a:off x="539280" y="549000"/>
            <a:ext cx="8209080" cy="5833800"/>
          </a:xfrm>
          <a:prstGeom prst="rect">
            <a:avLst/>
          </a:prstGeom>
          <a:noFill/>
          <a:ln w="0">
            <a:noFill/>
          </a:ln>
        </p:spPr>
        <p:txBody>
          <a:bodyPr lIns="90000" rIns="90000" tIns="46800" bIns="46800" anchor="t">
            <a:normAutofit/>
          </a:bodyPr>
          <a:p>
            <a:pPr marL="4478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72a1ff"/>
                </a:solidFill>
                <a:latin typeface="Candara"/>
              </a:rPr>
              <a:t>                           </a:t>
            </a:r>
            <a:r>
              <a:rPr b="0" lang="tr-TR" sz="2600" spc="-1" strike="noStrike">
                <a:solidFill>
                  <a:srgbClr val="72a1ff"/>
                </a:solidFill>
                <a:latin typeface="Candara"/>
              </a:rPr>
              <a:t>ENDÜLÜSTE RAKS</a:t>
            </a:r>
            <a:endParaRPr b="0" lang="en-US" sz="2600" spc="-1" strike="noStrike">
              <a:solidFill>
                <a:srgbClr val="ffffff"/>
              </a:solidFill>
              <a:latin typeface="Candara"/>
            </a:endParaRPr>
          </a:p>
          <a:p>
            <a:pPr marL="44784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ndara"/>
            </a:endParaRPr>
          </a:p>
          <a:p>
            <a:pPr marL="44784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900" spc="-1" strike="noStrike">
                <a:solidFill>
                  <a:srgbClr val="ffffff"/>
                </a:solidFill>
                <a:latin typeface="Verdana"/>
              </a:rPr>
              <a:t>Zil, şal ve gül. Bu bahcede raksın bütün hızı... </a:t>
            </a:r>
            <a:endParaRPr b="0" lang="en-US" sz="2900" spc="-1" strike="noStrike">
              <a:solidFill>
                <a:srgbClr val="ffffff"/>
              </a:solidFill>
              <a:latin typeface="Candara"/>
            </a:endParaRPr>
          </a:p>
          <a:p>
            <a:pPr marL="44784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900" spc="-1" strike="noStrike">
                <a:solidFill>
                  <a:srgbClr val="ffffff"/>
                </a:solidFill>
                <a:latin typeface="Verdana"/>
              </a:rPr>
              <a:t>Şevk akşamında endülüs üc defa kırmızı.</a:t>
            </a:r>
            <a:endParaRPr b="0" lang="en-US" sz="2900" spc="-1" strike="noStrike">
              <a:solidFill>
                <a:srgbClr val="ffffff"/>
              </a:solidFill>
              <a:latin typeface="Candara"/>
            </a:endParaRPr>
          </a:p>
          <a:p>
            <a:pPr marL="44784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900" spc="-1" strike="noStrike">
                <a:solidFill>
                  <a:srgbClr val="ffffff"/>
                </a:solidFill>
                <a:latin typeface="Verdana"/>
              </a:rPr>
              <a:t>Aşkın sihirli şarkısı yüzlerce dildedir</a:t>
            </a:r>
            <a:endParaRPr b="0" lang="en-US" sz="2900" spc="-1" strike="noStrike">
              <a:solidFill>
                <a:srgbClr val="ffffff"/>
              </a:solidFill>
              <a:latin typeface="Candara"/>
            </a:endParaRPr>
          </a:p>
          <a:p>
            <a:pPr marL="44784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900" spc="-1" strike="noStrike">
                <a:solidFill>
                  <a:srgbClr val="ffffff"/>
                </a:solidFill>
                <a:latin typeface="Verdana"/>
              </a:rPr>
              <a:t>İspanya neş'esi ile bu akşam bu zildedir.</a:t>
            </a:r>
            <a:endParaRPr b="0" lang="en-US" sz="2900" spc="-1" strike="noStrike">
              <a:solidFill>
                <a:srgbClr val="ffffff"/>
              </a:solidFill>
              <a:latin typeface="Candara"/>
            </a:endParaRPr>
          </a:p>
          <a:p>
            <a:pPr marL="44784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900" spc="-1" strike="noStrike">
                <a:solidFill>
                  <a:srgbClr val="ffffff"/>
                </a:solidFill>
                <a:latin typeface="Verdana"/>
              </a:rPr>
              <a:t>Yelpaze çevrilir gibi birden dönüşleri,</a:t>
            </a:r>
            <a:endParaRPr b="0" lang="en-US" sz="2900" spc="-1" strike="noStrike">
              <a:solidFill>
                <a:srgbClr val="ffffff"/>
              </a:solidFill>
              <a:latin typeface="Candara"/>
            </a:endParaRPr>
          </a:p>
          <a:p>
            <a:pPr marL="44784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900" spc="-1" strike="noStrike">
                <a:solidFill>
                  <a:srgbClr val="ffffff"/>
                </a:solidFill>
                <a:latin typeface="Verdana"/>
              </a:rPr>
              <a:t>İşveyle devriliş, örtünüşleri...</a:t>
            </a:r>
            <a:endParaRPr b="0" lang="en-US" sz="2900" spc="-1" strike="noStrike">
              <a:solidFill>
                <a:srgbClr val="ffffff"/>
              </a:solidFill>
              <a:latin typeface="Candara"/>
            </a:endParaRPr>
          </a:p>
          <a:p>
            <a:pPr marL="44784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900" spc="-1" strike="noStrike">
                <a:solidFill>
                  <a:srgbClr val="ffffff"/>
                </a:solidFill>
                <a:latin typeface="Verdana"/>
              </a:rPr>
              <a:t>Her rengi istemez, gözümüz şimdi aldadır.</a:t>
            </a:r>
            <a:endParaRPr b="0" lang="en-US" sz="2900" spc="-1" strike="noStrike">
              <a:solidFill>
                <a:srgbClr val="ffffff"/>
              </a:solidFill>
              <a:latin typeface="Candara"/>
            </a:endParaRPr>
          </a:p>
          <a:p>
            <a:pPr marL="44784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900" spc="-1" strike="noStrike">
                <a:solidFill>
                  <a:srgbClr val="ffffff"/>
                </a:solidFill>
                <a:latin typeface="Verdana"/>
              </a:rPr>
              <a:t>İspanya dalga dalga bu akşam bu şaldadır..</a:t>
            </a:r>
            <a:endParaRPr b="0" lang="en-US" sz="2900" spc="-1" strike="noStrike">
              <a:solidFill>
                <a:srgbClr val="ffffff"/>
              </a:solidFill>
              <a:latin typeface="Candara"/>
            </a:endParaRPr>
          </a:p>
          <a:p>
            <a:pPr marL="44784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900" spc="-1" strike="noStrike">
                <a:solidFill>
                  <a:srgbClr val="ffffff"/>
                </a:solidFill>
                <a:latin typeface="Verdana"/>
              </a:rPr>
              <a:t>Alnında halka halka aşüfte kakülü</a:t>
            </a:r>
            <a:endParaRPr b="0" lang="en-US" sz="2900" spc="-1" strike="noStrike">
              <a:solidFill>
                <a:srgbClr val="ffffff"/>
              </a:solidFill>
              <a:latin typeface="Candara"/>
            </a:endParaRPr>
          </a:p>
        </p:txBody>
      </p:sp>
      <p:pic>
        <p:nvPicPr>
          <p:cNvPr id="651" name="" descr=""/>
          <p:cNvPicPr/>
          <p:nvPr/>
        </p:nvPicPr>
        <p:blipFill>
          <a:blip r:embed="rId1"/>
          <a:stretch/>
        </p:blipFill>
        <p:spPr>
          <a:xfrm>
            <a:off x="8101080" y="5950080"/>
            <a:ext cx="304560" cy="304560"/>
          </a:xfrm>
          <a:prstGeom prst="rect">
            <a:avLst/>
          </a:prstGeom>
          <a:ln w="0">
            <a:noFill/>
          </a:ln>
        </p:spPr>
      </p:pic>
      <p:sp>
        <p:nvSpPr>
          <p:cNvPr id="652" name="">
            <a:hlinkClick r:id="" action="ppaction://hlinkshowjump?jump=previousslide"/>
          </p:cNvPr>
          <p:cNvSpPr/>
          <p:nvPr/>
        </p:nvSpPr>
        <p:spPr>
          <a:xfrm>
            <a:off x="0" y="6219720"/>
            <a:ext cx="649440" cy="638280"/>
          </a:xfrm>
          <a:custGeom>
            <a:avLst/>
            <a:gdLst>
              <a:gd name="textAreaLeft" fmla="*/ 41040 w 649440"/>
              <a:gd name="textAreaRight" fmla="*/ 608400 w 649440"/>
              <a:gd name="textAreaTop" fmla="*/ 41040 h 638280"/>
              <a:gd name="textAreaBottom" fmla="*/ 597240 h 638280"/>
            </a:gdLst>
            <a:ahLst/>
            <a:rect l="textAreaLeft" t="textAreaTop" r="textAreaRight" b="textAreaBottom"/>
            <a:pathLst>
              <a:path w="21977" h="21600">
                <a:moveTo>
                  <a:pt x="0" y="0"/>
                </a:moveTo>
                <a:lnTo>
                  <a:pt x="21977" y="0"/>
                </a:lnTo>
                <a:lnTo>
                  <a:pt x="21977" y="21600"/>
                </a:lnTo>
                <a:lnTo>
                  <a:pt x="0" y="21600"/>
                </a:lnTo>
                <a:close/>
              </a:path>
              <a:path fill="lightenLess" w="21977" h="21600">
                <a:moveTo>
                  <a:pt x="0" y="0"/>
                </a:moveTo>
                <a:lnTo>
                  <a:pt x="21977" y="0"/>
                </a:lnTo>
                <a:lnTo>
                  <a:pt x="20577" y="1400"/>
                </a:lnTo>
                <a:lnTo>
                  <a:pt x="1400" y="1400"/>
                </a:lnTo>
                <a:close/>
              </a:path>
              <a:path fill="darken" w="21977" h="21600">
                <a:moveTo>
                  <a:pt x="21977" y="0"/>
                </a:moveTo>
                <a:lnTo>
                  <a:pt x="21977" y="21600"/>
                </a:lnTo>
                <a:lnTo>
                  <a:pt x="20577" y="20200"/>
                </a:lnTo>
                <a:lnTo>
                  <a:pt x="20577" y="1400"/>
                </a:lnTo>
                <a:close/>
              </a:path>
              <a:path fill="darkenLess" w="21977" h="21600">
                <a:moveTo>
                  <a:pt x="21977" y="21600"/>
                </a:moveTo>
                <a:lnTo>
                  <a:pt x="0" y="21600"/>
                </a:lnTo>
                <a:lnTo>
                  <a:pt x="1400" y="20200"/>
                </a:lnTo>
                <a:lnTo>
                  <a:pt x="20577" y="20200"/>
                </a:lnTo>
                <a:close/>
              </a:path>
              <a:path fill="lighten" w="21977" h="21600">
                <a:moveTo>
                  <a:pt x="0" y="21600"/>
                </a:moveTo>
                <a:lnTo>
                  <a:pt x="0" y="0"/>
                </a:lnTo>
                <a:lnTo>
                  <a:pt x="1400" y="1400"/>
                </a:lnTo>
                <a:lnTo>
                  <a:pt x="1400" y="20200"/>
                </a:lnTo>
                <a:close/>
              </a:path>
              <a:path fill="darken" w="21977" h="21600">
                <a:moveTo>
                  <a:pt x="3982" y="10800"/>
                </a:moveTo>
                <a:lnTo>
                  <a:pt x="17995" y="3794"/>
                </a:lnTo>
                <a:lnTo>
                  <a:pt x="17995"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653" name="">
            <a:hlinkClick r:id="" action="ppaction://hlinkshowjump?jump=nextslide"/>
          </p:cNvPr>
          <p:cNvSpPr/>
          <p:nvPr/>
        </p:nvSpPr>
        <p:spPr>
          <a:xfrm>
            <a:off x="125892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4263" y="3794"/>
                </a:moveTo>
                <a:lnTo>
                  <a:pt x="18276" y="10800"/>
                </a:lnTo>
                <a:lnTo>
                  <a:pt x="4263"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654" name="">
            <a:hlinkClick r:id="" action="ppaction://hlinkshowjump?jump=firstslide"/>
          </p:cNvPr>
          <p:cNvSpPr/>
          <p:nvPr/>
        </p:nvSpPr>
        <p:spPr>
          <a:xfrm>
            <a:off x="61128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11270" y="3837"/>
                </a:moveTo>
                <a:lnTo>
                  <a:pt x="13846" y="6448"/>
                </a:lnTo>
                <a:lnTo>
                  <a:pt x="13846" y="4707"/>
                </a:lnTo>
                <a:lnTo>
                  <a:pt x="15621" y="4707"/>
                </a:lnTo>
                <a:lnTo>
                  <a:pt x="15621" y="8224"/>
                </a:lnTo>
                <a:lnTo>
                  <a:pt x="18233" y="10800"/>
                </a:lnTo>
                <a:lnTo>
                  <a:pt x="16579" y="10800"/>
                </a:lnTo>
                <a:lnTo>
                  <a:pt x="16579" y="17989"/>
                </a:lnTo>
                <a:lnTo>
                  <a:pt x="5960" y="17989"/>
                </a:lnTo>
                <a:lnTo>
                  <a:pt x="5960" y="10800"/>
                </a:lnTo>
                <a:lnTo>
                  <a:pt x="4307" y="10800"/>
                </a:lnTo>
                <a:close/>
              </a:path>
              <a:path fill="darkenLess" w="22539" h="21600">
                <a:moveTo>
                  <a:pt x="13846" y="6448"/>
                </a:moveTo>
                <a:lnTo>
                  <a:pt x="13846" y="4707"/>
                </a:lnTo>
                <a:lnTo>
                  <a:pt x="15621" y="4707"/>
                </a:lnTo>
                <a:lnTo>
                  <a:pt x="15621" y="8224"/>
                </a:lnTo>
                <a:close/>
              </a:path>
              <a:path fill="darkenLess" w="22539" h="21600">
                <a:moveTo>
                  <a:pt x="10347" y="14299"/>
                </a:moveTo>
                <a:lnTo>
                  <a:pt x="12192" y="14299"/>
                </a:lnTo>
                <a:lnTo>
                  <a:pt x="12192" y="17989"/>
                </a:lnTo>
                <a:lnTo>
                  <a:pt x="16579" y="17989"/>
                </a:lnTo>
                <a:lnTo>
                  <a:pt x="16579" y="10800"/>
                </a:lnTo>
                <a:lnTo>
                  <a:pt x="5960" y="10800"/>
                </a:lnTo>
                <a:lnTo>
                  <a:pt x="5960" y="17989"/>
                </a:lnTo>
                <a:lnTo>
                  <a:pt x="10347" y="17989"/>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Tree>
  </p:cSld>
  <p:transition spd="slow">
    <p:wheel spokes="1"/>
  </p:transition>
  <p:timing>
    <p:tnLst>
      <p:par>
        <p:cTn id="7" dur="indefinite" restart="never" nodeType="tmRoot">
          <p:childTnLst>
            <p:seq>
              <p:cTn id="8" restart="whenNotActive" nodeType="interactiveSeq" fill="hold">
                <p:stCondLst>
                  <p:cond evt="onClick">
                    <p:tgtEl>
                      <p:spTgt spid="651"/>
                    </p:tgtEl>
                  </p:cond>
                </p:stCondLst>
                <p:childTnLst>
                  <p:par>
                    <p:cTn id="9" fill="hold">
                      <p:stCondLst>
                        <p:cond evt="onClick">
                          <p:tgtEl>
                            <p:spTgt spid="651"/>
                          </p:tgtEl>
                        </p:cond>
                      </p:stCondLst>
                      <p:childTnLst>
                        <p:par>
                          <p:cTn id="10" fill="hold">
                            <p:stCondLst>
                              <p:cond delay="0"/>
                            </p:stCondLst>
                            <p:childTnLst>
                              <p:par>
                                <p:cTn id="11" nodeType="clickEffect" fill="hold" presetClass="mediacall" presetID="1">
                                  <p:stCondLst>
                                    <p:cond delay="0"/>
                                  </p:stCondLst>
                                  <p:childTnLst>
                                    <p:cmd type="call" cmd="playFrom(0.0)">
                                      <p:cBhvr>
                                        <p:cTn id="12" dur="1" fill="hold"/>
                                        <p:tgtEl>
                                          <p:spTgt spid="6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655" name="PlaceHolder 1"/>
          <p:cNvSpPr>
            <a:spLocks noGrp="1"/>
          </p:cNvSpPr>
          <p:nvPr>
            <p:ph/>
          </p:nvPr>
        </p:nvSpPr>
        <p:spPr>
          <a:xfrm>
            <a:off x="457200" y="404640"/>
            <a:ext cx="8229600" cy="6050160"/>
          </a:xfrm>
          <a:prstGeom prst="rect">
            <a:avLst/>
          </a:prstGeom>
          <a:noFill/>
          <a:ln w="0">
            <a:noFill/>
          </a:ln>
        </p:spPr>
        <p:txBody>
          <a:bodyPr lIns="90000" rIns="90000" tIns="46800" bIns="46800" anchor="t">
            <a:normAutofit/>
          </a:bodyPr>
          <a:p>
            <a:pPr marL="447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ndara"/>
            </a:endParaRPr>
          </a:p>
          <a:p>
            <a:pPr marL="447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Gögsünde yosma gırnatanın en</a:t>
            </a:r>
            <a:endParaRPr b="0" lang="en-US" sz="2400" spc="-1" strike="noStrike">
              <a:solidFill>
                <a:srgbClr val="ffffff"/>
              </a:solidFill>
              <a:latin typeface="Candara"/>
            </a:endParaRPr>
          </a:p>
          <a:p>
            <a:pPr marL="447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güzel gülü...</a:t>
            </a:r>
            <a:endParaRPr b="0" lang="en-US" sz="2400" spc="-1" strike="noStrike">
              <a:solidFill>
                <a:srgbClr val="ffffff"/>
              </a:solidFill>
              <a:latin typeface="Candara"/>
            </a:endParaRPr>
          </a:p>
          <a:p>
            <a:pPr marL="447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Raks ortasında bir durup oynar, yürür gibi;</a:t>
            </a:r>
            <a:endParaRPr b="0" lang="en-US" sz="2400" spc="-1" strike="noStrike">
              <a:solidFill>
                <a:srgbClr val="ffffff"/>
              </a:solidFill>
              <a:latin typeface="Candara"/>
            </a:endParaRPr>
          </a:p>
          <a:p>
            <a:pPr marL="447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Bir baş çevirmesiyle bakar öldürür gibi...</a:t>
            </a:r>
            <a:endParaRPr b="0" lang="en-US" sz="2400" spc="-1" strike="noStrike">
              <a:solidFill>
                <a:srgbClr val="ffffff"/>
              </a:solidFill>
              <a:latin typeface="Candara"/>
            </a:endParaRPr>
          </a:p>
          <a:p>
            <a:pPr marL="447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Gül tenli, kor dudaklı, kömür gözlü sürmeli, </a:t>
            </a:r>
            <a:endParaRPr b="0" lang="en-US" sz="2400" spc="-1" strike="noStrike">
              <a:solidFill>
                <a:srgbClr val="ffffff"/>
              </a:solidFill>
              <a:latin typeface="Candara"/>
            </a:endParaRPr>
          </a:p>
          <a:p>
            <a:pPr marL="447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Şeytan diyor ki, sarmalı yüz kere öpmeli.</a:t>
            </a:r>
            <a:endParaRPr b="0" lang="en-US" sz="2400" spc="-1" strike="noStrike">
              <a:solidFill>
                <a:srgbClr val="ffffff"/>
              </a:solidFill>
              <a:latin typeface="Candara"/>
            </a:endParaRPr>
          </a:p>
          <a:p>
            <a:pPr marL="447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Gözler kamaştıran şala, meftun eden güle</a:t>
            </a:r>
            <a:endParaRPr b="0" lang="en-US" sz="2400" spc="-1" strike="noStrike">
              <a:solidFill>
                <a:srgbClr val="ffffff"/>
              </a:solidFill>
              <a:latin typeface="Candara"/>
            </a:endParaRPr>
          </a:p>
          <a:p>
            <a:pPr marL="447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Her kalbi dolduran zile, her sineden "Ole!" </a:t>
            </a:r>
            <a:endParaRPr b="0" lang="en-US" sz="2400" spc="-1" strike="noStrike">
              <a:solidFill>
                <a:srgbClr val="ffffff"/>
              </a:solidFill>
              <a:latin typeface="Candara"/>
            </a:endParaRPr>
          </a:p>
          <a:p>
            <a:pPr marL="447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                                 </a:t>
            </a:r>
            <a:r>
              <a:rPr b="0" lang="tr-TR" sz="2400" spc="-1" strike="noStrike">
                <a:solidFill>
                  <a:srgbClr val="ffffff"/>
                </a:solidFill>
                <a:latin typeface="Verdana"/>
              </a:rPr>
              <a:t>(Yahya Kemal BEYATLI</a:t>
            </a:r>
            <a:r>
              <a:rPr b="0" lang="tr-TR" sz="2400" spc="-1" strike="noStrike">
                <a:solidFill>
                  <a:srgbClr val="ffffff"/>
                </a:solidFill>
                <a:latin typeface="Candara"/>
              </a:rPr>
              <a:t>)</a:t>
            </a:r>
            <a:endParaRPr b="0" lang="en-US" sz="2400" spc="-1" strike="noStrike">
              <a:solidFill>
                <a:srgbClr val="ffffff"/>
              </a:solidFill>
              <a:latin typeface="Candara"/>
            </a:endParaRPr>
          </a:p>
          <a:p>
            <a:pPr marL="447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ndara"/>
            </a:endParaRPr>
          </a:p>
          <a:p>
            <a:pPr marL="447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ndara"/>
            </a:endParaRPr>
          </a:p>
        </p:txBody>
      </p:sp>
      <p:sp>
        <p:nvSpPr>
          <p:cNvPr id="656" name="">
            <a:hlinkClick r:id="" action="ppaction://hlinkshowjump?jump=previousslide"/>
          </p:cNvPr>
          <p:cNvSpPr/>
          <p:nvPr/>
        </p:nvSpPr>
        <p:spPr>
          <a:xfrm>
            <a:off x="0" y="6308640"/>
            <a:ext cx="611280" cy="549360"/>
          </a:xfrm>
          <a:custGeom>
            <a:avLst/>
            <a:gdLst>
              <a:gd name="textAreaLeft" fmla="*/ 35280 w 611280"/>
              <a:gd name="textAreaRight" fmla="*/ 576000 w 611280"/>
              <a:gd name="textAreaTop" fmla="*/ 35280 h 549360"/>
              <a:gd name="textAreaBottom" fmla="*/ 514080 h 549360"/>
            </a:gdLst>
            <a:ahLst/>
            <a:rect l="textAreaLeft" t="textAreaTop" r="textAreaRight" b="textAreaBottom"/>
            <a:pathLst>
              <a:path w="24033" h="21600">
                <a:moveTo>
                  <a:pt x="0" y="0"/>
                </a:moveTo>
                <a:lnTo>
                  <a:pt x="24033" y="0"/>
                </a:lnTo>
                <a:lnTo>
                  <a:pt x="24033" y="21600"/>
                </a:lnTo>
                <a:lnTo>
                  <a:pt x="0" y="21600"/>
                </a:lnTo>
                <a:close/>
              </a:path>
              <a:path fill="lightenLess" w="24033" h="21600">
                <a:moveTo>
                  <a:pt x="0" y="0"/>
                </a:moveTo>
                <a:lnTo>
                  <a:pt x="24033" y="0"/>
                </a:lnTo>
                <a:lnTo>
                  <a:pt x="22633" y="1400"/>
                </a:lnTo>
                <a:lnTo>
                  <a:pt x="1400" y="1400"/>
                </a:lnTo>
                <a:close/>
              </a:path>
              <a:path fill="darken" w="24033" h="21600">
                <a:moveTo>
                  <a:pt x="24033" y="0"/>
                </a:moveTo>
                <a:lnTo>
                  <a:pt x="24033" y="21600"/>
                </a:lnTo>
                <a:lnTo>
                  <a:pt x="22633" y="20200"/>
                </a:lnTo>
                <a:lnTo>
                  <a:pt x="22633" y="1400"/>
                </a:lnTo>
                <a:close/>
              </a:path>
              <a:path fill="darkenLess" w="24033" h="21600">
                <a:moveTo>
                  <a:pt x="24033" y="21600"/>
                </a:moveTo>
                <a:lnTo>
                  <a:pt x="0" y="21600"/>
                </a:lnTo>
                <a:lnTo>
                  <a:pt x="1400" y="20200"/>
                </a:lnTo>
                <a:lnTo>
                  <a:pt x="22633" y="20200"/>
                </a:lnTo>
                <a:close/>
              </a:path>
              <a:path fill="lighten" w="24033" h="21600">
                <a:moveTo>
                  <a:pt x="0" y="21600"/>
                </a:moveTo>
                <a:lnTo>
                  <a:pt x="0" y="0"/>
                </a:lnTo>
                <a:lnTo>
                  <a:pt x="1400" y="1400"/>
                </a:lnTo>
                <a:lnTo>
                  <a:pt x="1400" y="20200"/>
                </a:lnTo>
                <a:close/>
              </a:path>
              <a:path fill="darken" w="24033" h="21600">
                <a:moveTo>
                  <a:pt x="5010" y="10800"/>
                </a:moveTo>
                <a:lnTo>
                  <a:pt x="19023" y="3794"/>
                </a:lnTo>
                <a:lnTo>
                  <a:pt x="19023"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657" name="">
            <a:hlinkClick r:id="" action="ppaction://hlinkshowjump?jump=nextslide"/>
          </p:cNvPr>
          <p:cNvSpPr/>
          <p:nvPr/>
        </p:nvSpPr>
        <p:spPr>
          <a:xfrm>
            <a:off x="1258920" y="6237360"/>
            <a:ext cx="576360" cy="620640"/>
          </a:xfrm>
          <a:custGeom>
            <a:avLst/>
            <a:gdLst>
              <a:gd name="textAreaLeft" fmla="*/ 37080 w 576360"/>
              <a:gd name="textAreaRight" fmla="*/ 539280 w 576360"/>
              <a:gd name="textAreaTop" fmla="*/ 37080 h 620640"/>
              <a:gd name="textAreaBottom" fmla="*/ 583560 h 620640"/>
            </a:gdLst>
            <a:ahLst/>
            <a:rect l="textAreaLeft" t="textAreaTop" r="textAreaRight" b="textAreaBottom"/>
            <a:pathLst>
              <a:path w="21600" h="23258">
                <a:moveTo>
                  <a:pt x="0" y="0"/>
                </a:moveTo>
                <a:lnTo>
                  <a:pt x="21600" y="0"/>
                </a:lnTo>
                <a:lnTo>
                  <a:pt x="21600" y="23258"/>
                </a:lnTo>
                <a:lnTo>
                  <a:pt x="0" y="23258"/>
                </a:lnTo>
                <a:close/>
              </a:path>
              <a:path fill="lightenLess" w="21600" h="23258">
                <a:moveTo>
                  <a:pt x="0" y="0"/>
                </a:moveTo>
                <a:lnTo>
                  <a:pt x="21600" y="0"/>
                </a:lnTo>
                <a:lnTo>
                  <a:pt x="20200" y="1400"/>
                </a:lnTo>
                <a:lnTo>
                  <a:pt x="1400" y="1400"/>
                </a:lnTo>
                <a:close/>
              </a:path>
              <a:path fill="darken" w="21600" h="23258">
                <a:moveTo>
                  <a:pt x="21600" y="0"/>
                </a:moveTo>
                <a:lnTo>
                  <a:pt x="21600" y="23258"/>
                </a:lnTo>
                <a:lnTo>
                  <a:pt x="20200" y="21858"/>
                </a:lnTo>
                <a:lnTo>
                  <a:pt x="20200" y="1400"/>
                </a:lnTo>
                <a:close/>
              </a:path>
              <a:path fill="darkenLess" w="21600" h="23258">
                <a:moveTo>
                  <a:pt x="21600" y="23258"/>
                </a:moveTo>
                <a:lnTo>
                  <a:pt x="0" y="23258"/>
                </a:lnTo>
                <a:lnTo>
                  <a:pt x="1400" y="21858"/>
                </a:lnTo>
                <a:lnTo>
                  <a:pt x="20200" y="21858"/>
                </a:lnTo>
                <a:close/>
              </a:path>
              <a:path fill="lighten" w="21600" h="23258">
                <a:moveTo>
                  <a:pt x="0" y="23258"/>
                </a:moveTo>
                <a:lnTo>
                  <a:pt x="0" y="0"/>
                </a:lnTo>
                <a:lnTo>
                  <a:pt x="1400" y="1400"/>
                </a:lnTo>
                <a:lnTo>
                  <a:pt x="1400" y="21858"/>
                </a:lnTo>
                <a:close/>
              </a:path>
              <a:path fill="darken" w="21600" h="23258">
                <a:moveTo>
                  <a:pt x="3794" y="4623"/>
                </a:moveTo>
                <a:lnTo>
                  <a:pt x="17806" y="11629"/>
                </a:lnTo>
                <a:lnTo>
                  <a:pt x="3794" y="1863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658" name="">
            <a:hlinkClick r:id="" action="ppaction://hlinkshowjump?jump=firstslide"/>
          </p:cNvPr>
          <p:cNvSpPr/>
          <p:nvPr/>
        </p:nvSpPr>
        <p:spPr>
          <a:xfrm>
            <a:off x="61128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11270" y="3837"/>
                </a:moveTo>
                <a:lnTo>
                  <a:pt x="13846" y="6448"/>
                </a:lnTo>
                <a:lnTo>
                  <a:pt x="13846" y="4707"/>
                </a:lnTo>
                <a:lnTo>
                  <a:pt x="15621" y="4707"/>
                </a:lnTo>
                <a:lnTo>
                  <a:pt x="15621" y="8224"/>
                </a:lnTo>
                <a:lnTo>
                  <a:pt x="18233" y="10800"/>
                </a:lnTo>
                <a:lnTo>
                  <a:pt x="16579" y="10800"/>
                </a:lnTo>
                <a:lnTo>
                  <a:pt x="16579" y="17989"/>
                </a:lnTo>
                <a:lnTo>
                  <a:pt x="5960" y="17989"/>
                </a:lnTo>
                <a:lnTo>
                  <a:pt x="5960" y="10800"/>
                </a:lnTo>
                <a:lnTo>
                  <a:pt x="4307" y="10800"/>
                </a:lnTo>
                <a:close/>
              </a:path>
              <a:path fill="darkenLess" w="22539" h="21600">
                <a:moveTo>
                  <a:pt x="13846" y="6448"/>
                </a:moveTo>
                <a:lnTo>
                  <a:pt x="13846" y="4707"/>
                </a:lnTo>
                <a:lnTo>
                  <a:pt x="15621" y="4707"/>
                </a:lnTo>
                <a:lnTo>
                  <a:pt x="15621" y="8224"/>
                </a:lnTo>
                <a:close/>
              </a:path>
              <a:path fill="darkenLess" w="22539" h="21600">
                <a:moveTo>
                  <a:pt x="10347" y="14299"/>
                </a:moveTo>
                <a:lnTo>
                  <a:pt x="12192" y="14299"/>
                </a:lnTo>
                <a:lnTo>
                  <a:pt x="12192" y="17989"/>
                </a:lnTo>
                <a:lnTo>
                  <a:pt x="16579" y="17989"/>
                </a:lnTo>
                <a:lnTo>
                  <a:pt x="16579" y="10800"/>
                </a:lnTo>
                <a:lnTo>
                  <a:pt x="5960" y="10800"/>
                </a:lnTo>
                <a:lnTo>
                  <a:pt x="5960" y="17989"/>
                </a:lnTo>
                <a:lnTo>
                  <a:pt x="10347" y="17989"/>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Tree>
  </p:cSld>
  <p:transition spd="slow">
    <p:wheel spokes="1"/>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59" name="Dikdörtgen 3" descr=""/>
          <p:cNvPicPr/>
          <p:nvPr/>
        </p:nvPicPr>
        <p:blipFill>
          <a:blip r:embed="rId2"/>
          <a:stretch/>
        </p:blipFill>
        <p:spPr>
          <a:xfrm>
            <a:off x="1847880" y="6480"/>
            <a:ext cx="5394240" cy="1133280"/>
          </a:xfrm>
          <a:prstGeom prst="rect">
            <a:avLst/>
          </a:prstGeom>
          <a:ln w="0">
            <a:noFill/>
          </a:ln>
        </p:spPr>
      </p:pic>
      <p:sp>
        <p:nvSpPr>
          <p:cNvPr id="660" name="Dikdörtgen 4"/>
          <p:cNvSpPr/>
          <p:nvPr/>
        </p:nvSpPr>
        <p:spPr>
          <a:xfrm>
            <a:off x="250920" y="2060640"/>
            <a:ext cx="8893080" cy="280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800" spc="-1" strike="noStrike">
                <a:solidFill>
                  <a:srgbClr val="d519ff"/>
                </a:solidFill>
                <a:latin typeface="Candara"/>
              </a:rPr>
              <a:t>  </a:t>
            </a:r>
            <a:r>
              <a:rPr b="0" lang="tr-TR" sz="2800" spc="-1" strike="noStrike">
                <a:solidFill>
                  <a:srgbClr val="d519ff"/>
                </a:solidFill>
                <a:latin typeface="Verdana"/>
              </a:rPr>
              <a:t>Çoban ve kır yaşamını , doğa güzelliklerini anlatan şiirlere </a:t>
            </a:r>
            <a:r>
              <a:rPr b="0" lang="tr-TR" sz="2800" spc="-1" strike="noStrike">
                <a:solidFill>
                  <a:srgbClr val="e90062"/>
                </a:solidFill>
                <a:latin typeface="Verdana"/>
              </a:rPr>
              <a:t>pastoral şiir </a:t>
            </a:r>
            <a:r>
              <a:rPr b="0" lang="tr-TR" sz="2800" spc="-1" strike="noStrike">
                <a:solidFill>
                  <a:srgbClr val="d519ff"/>
                </a:solidFill>
                <a:latin typeface="Verdana"/>
              </a:rPr>
              <a:t>denir.</a:t>
            </a:r>
            <a:endParaRPr b="0" lang="en-US" sz="28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d519ff"/>
                </a:solidFill>
                <a:latin typeface="Verdana"/>
              </a:rPr>
              <a:t>   </a:t>
            </a:r>
            <a:r>
              <a:rPr b="0" lang="tr-TR" sz="2800" spc="-1" strike="noStrike">
                <a:solidFill>
                  <a:srgbClr val="d519ff"/>
                </a:solidFill>
                <a:latin typeface="Verdana"/>
              </a:rPr>
              <a:t>Pastoral şiirlerin her türlü süsten , yapmacıktan ,gösteriş ve söz oyunlarından uzak bir yapısı vardır. Bunlara </a:t>
            </a:r>
            <a:r>
              <a:rPr b="0" lang="tr-TR" sz="2800" spc="-1" strike="noStrike">
                <a:solidFill>
                  <a:srgbClr val="92d050"/>
                </a:solidFill>
                <a:latin typeface="Verdana"/>
              </a:rPr>
              <a:t>bukolik şiir ( çoban şiiri) </a:t>
            </a:r>
            <a:r>
              <a:rPr b="0" lang="tr-TR" sz="2800" spc="-1" strike="noStrike">
                <a:solidFill>
                  <a:srgbClr val="d519ff"/>
                </a:solidFill>
                <a:latin typeface="Verdana"/>
              </a:rPr>
              <a:t>de denir.</a:t>
            </a:r>
            <a:endParaRPr b="0" lang="en-US" sz="2800" spc="-1" strike="noStrike">
              <a:solidFill>
                <a:srgbClr val="ffffff"/>
              </a:solidFill>
              <a:latin typeface="Candara"/>
            </a:endParaRPr>
          </a:p>
        </p:txBody>
      </p:sp>
      <p:sp>
        <p:nvSpPr>
          <p:cNvPr id="661" name="">
            <a:hlinkClick r:id="" action="ppaction://hlinkshowjump?jump=previousslide"/>
          </p:cNvPr>
          <p:cNvSpPr/>
          <p:nvPr/>
        </p:nvSpPr>
        <p:spPr>
          <a:xfrm>
            <a:off x="0" y="6219720"/>
            <a:ext cx="649440" cy="638280"/>
          </a:xfrm>
          <a:custGeom>
            <a:avLst/>
            <a:gdLst>
              <a:gd name="textAreaLeft" fmla="*/ 41040 w 649440"/>
              <a:gd name="textAreaRight" fmla="*/ 608400 w 649440"/>
              <a:gd name="textAreaTop" fmla="*/ 41040 h 638280"/>
              <a:gd name="textAreaBottom" fmla="*/ 597240 h 638280"/>
            </a:gdLst>
            <a:ahLst/>
            <a:rect l="textAreaLeft" t="textAreaTop" r="textAreaRight" b="textAreaBottom"/>
            <a:pathLst>
              <a:path w="21977" h="21600">
                <a:moveTo>
                  <a:pt x="0" y="0"/>
                </a:moveTo>
                <a:lnTo>
                  <a:pt x="21977" y="0"/>
                </a:lnTo>
                <a:lnTo>
                  <a:pt x="21977" y="21600"/>
                </a:lnTo>
                <a:lnTo>
                  <a:pt x="0" y="21600"/>
                </a:lnTo>
                <a:close/>
              </a:path>
              <a:path fill="lightenLess" w="21977" h="21600">
                <a:moveTo>
                  <a:pt x="0" y="0"/>
                </a:moveTo>
                <a:lnTo>
                  <a:pt x="21977" y="0"/>
                </a:lnTo>
                <a:lnTo>
                  <a:pt x="20577" y="1400"/>
                </a:lnTo>
                <a:lnTo>
                  <a:pt x="1400" y="1400"/>
                </a:lnTo>
                <a:close/>
              </a:path>
              <a:path fill="darken" w="21977" h="21600">
                <a:moveTo>
                  <a:pt x="21977" y="0"/>
                </a:moveTo>
                <a:lnTo>
                  <a:pt x="21977" y="21600"/>
                </a:lnTo>
                <a:lnTo>
                  <a:pt x="20577" y="20200"/>
                </a:lnTo>
                <a:lnTo>
                  <a:pt x="20577" y="1400"/>
                </a:lnTo>
                <a:close/>
              </a:path>
              <a:path fill="darkenLess" w="21977" h="21600">
                <a:moveTo>
                  <a:pt x="21977" y="21600"/>
                </a:moveTo>
                <a:lnTo>
                  <a:pt x="0" y="21600"/>
                </a:lnTo>
                <a:lnTo>
                  <a:pt x="1400" y="20200"/>
                </a:lnTo>
                <a:lnTo>
                  <a:pt x="20577" y="20200"/>
                </a:lnTo>
                <a:close/>
              </a:path>
              <a:path fill="lighten" w="21977" h="21600">
                <a:moveTo>
                  <a:pt x="0" y="21600"/>
                </a:moveTo>
                <a:lnTo>
                  <a:pt x="0" y="0"/>
                </a:lnTo>
                <a:lnTo>
                  <a:pt x="1400" y="1400"/>
                </a:lnTo>
                <a:lnTo>
                  <a:pt x="1400" y="20200"/>
                </a:lnTo>
                <a:close/>
              </a:path>
              <a:path fill="darken" w="21977" h="21600">
                <a:moveTo>
                  <a:pt x="3982" y="10800"/>
                </a:moveTo>
                <a:lnTo>
                  <a:pt x="17995" y="3794"/>
                </a:lnTo>
                <a:lnTo>
                  <a:pt x="17995"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662" name="">
            <a:hlinkClick r:id="" action="ppaction://hlinkshowjump?jump=nextslide"/>
          </p:cNvPr>
          <p:cNvSpPr/>
          <p:nvPr/>
        </p:nvSpPr>
        <p:spPr>
          <a:xfrm>
            <a:off x="125892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4263" y="3794"/>
                </a:moveTo>
                <a:lnTo>
                  <a:pt x="18276" y="10800"/>
                </a:lnTo>
                <a:lnTo>
                  <a:pt x="4263"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663" name="">
            <a:hlinkClick r:id="" action="ppaction://hlinkshowjump?jump=firstslide"/>
          </p:cNvPr>
          <p:cNvSpPr/>
          <p:nvPr/>
        </p:nvSpPr>
        <p:spPr>
          <a:xfrm>
            <a:off x="61128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11270" y="3837"/>
                </a:moveTo>
                <a:lnTo>
                  <a:pt x="13846" y="6448"/>
                </a:lnTo>
                <a:lnTo>
                  <a:pt x="13846" y="4707"/>
                </a:lnTo>
                <a:lnTo>
                  <a:pt x="15621" y="4707"/>
                </a:lnTo>
                <a:lnTo>
                  <a:pt x="15621" y="8224"/>
                </a:lnTo>
                <a:lnTo>
                  <a:pt x="18233" y="10800"/>
                </a:lnTo>
                <a:lnTo>
                  <a:pt x="16579" y="10800"/>
                </a:lnTo>
                <a:lnTo>
                  <a:pt x="16579" y="17989"/>
                </a:lnTo>
                <a:lnTo>
                  <a:pt x="5960" y="17989"/>
                </a:lnTo>
                <a:lnTo>
                  <a:pt x="5960" y="10800"/>
                </a:lnTo>
                <a:lnTo>
                  <a:pt x="4307" y="10800"/>
                </a:lnTo>
                <a:close/>
              </a:path>
              <a:path fill="darkenLess" w="22539" h="21600">
                <a:moveTo>
                  <a:pt x="13846" y="6448"/>
                </a:moveTo>
                <a:lnTo>
                  <a:pt x="13846" y="4707"/>
                </a:lnTo>
                <a:lnTo>
                  <a:pt x="15621" y="4707"/>
                </a:lnTo>
                <a:lnTo>
                  <a:pt x="15621" y="8224"/>
                </a:lnTo>
                <a:close/>
              </a:path>
              <a:path fill="darkenLess" w="22539" h="21600">
                <a:moveTo>
                  <a:pt x="10347" y="14299"/>
                </a:moveTo>
                <a:lnTo>
                  <a:pt x="12192" y="14299"/>
                </a:lnTo>
                <a:lnTo>
                  <a:pt x="12192" y="17989"/>
                </a:lnTo>
                <a:lnTo>
                  <a:pt x="16579" y="17989"/>
                </a:lnTo>
                <a:lnTo>
                  <a:pt x="16579" y="10800"/>
                </a:lnTo>
                <a:lnTo>
                  <a:pt x="5960" y="10800"/>
                </a:lnTo>
                <a:lnTo>
                  <a:pt x="5960" y="17989"/>
                </a:lnTo>
                <a:lnTo>
                  <a:pt x="10347" y="17989"/>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Tree>
  </p:cSld>
  <p:transition spd="slow">
    <p:wheel spokes="1"/>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4" name="Dikdörtgen 3"/>
          <p:cNvSpPr/>
          <p:nvPr/>
        </p:nvSpPr>
        <p:spPr>
          <a:xfrm>
            <a:off x="395280" y="0"/>
            <a:ext cx="874872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Verdana"/>
              </a:rPr>
              <a:t>Pastoral şiirin iki biçimi vardır: </a:t>
            </a:r>
            <a:endParaRPr b="0" lang="en-US" sz="28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e40059"/>
                </a:solidFill>
                <a:latin typeface="Verdana"/>
              </a:rPr>
              <a:t>İDİL</a:t>
            </a:r>
            <a:r>
              <a:rPr b="0" lang="tr-TR" sz="2800" spc="-1" strike="noStrike">
                <a:solidFill>
                  <a:srgbClr val="ffffff"/>
                </a:solidFill>
                <a:latin typeface="Verdana"/>
              </a:rPr>
              <a:t>: Bir ozanın ya da çobanın ağzından yazılıp kır yaşamının çekiciliğini , güzelliğini anlatan çobanıl aşkı yansıtan kısa şiirlere denir.</a:t>
            </a:r>
            <a:endParaRPr b="0" lang="en-US" sz="28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e40059"/>
                </a:solidFill>
                <a:latin typeface="Verdana"/>
              </a:rPr>
              <a:t>EGLOG</a:t>
            </a:r>
            <a:r>
              <a:rPr b="0" lang="tr-TR" sz="2800" spc="-1" strike="noStrike">
                <a:solidFill>
                  <a:srgbClr val="ffffff"/>
                </a:solidFill>
                <a:latin typeface="Verdana"/>
              </a:rPr>
              <a:t>: BİR kaç çobanın karşılıklı konuşmaları yoluyla oluşturulan , aşk , kır yaşamı üzerine duygu ve düşüncelerini yansıtan pastoral şiirlere denir.</a:t>
            </a:r>
            <a:endParaRPr b="0" lang="en-US" sz="2800" spc="-1" strike="noStrike">
              <a:solidFill>
                <a:srgbClr val="ffffff"/>
              </a:solidFill>
              <a:latin typeface="Candara"/>
            </a:endParaRPr>
          </a:p>
        </p:txBody>
      </p:sp>
      <p:sp>
        <p:nvSpPr>
          <p:cNvPr id="665" name="">
            <a:hlinkClick r:id="" action="ppaction://hlinkshowjump?jump=previousslide"/>
          </p:cNvPr>
          <p:cNvSpPr/>
          <p:nvPr/>
        </p:nvSpPr>
        <p:spPr>
          <a:xfrm>
            <a:off x="0" y="6219720"/>
            <a:ext cx="649440" cy="638280"/>
          </a:xfrm>
          <a:custGeom>
            <a:avLst/>
            <a:gdLst>
              <a:gd name="textAreaLeft" fmla="*/ 41040 w 649440"/>
              <a:gd name="textAreaRight" fmla="*/ 608400 w 649440"/>
              <a:gd name="textAreaTop" fmla="*/ 41040 h 638280"/>
              <a:gd name="textAreaBottom" fmla="*/ 597240 h 638280"/>
            </a:gdLst>
            <a:ahLst/>
            <a:rect l="textAreaLeft" t="textAreaTop" r="textAreaRight" b="textAreaBottom"/>
            <a:pathLst>
              <a:path w="21977" h="21600">
                <a:moveTo>
                  <a:pt x="0" y="0"/>
                </a:moveTo>
                <a:lnTo>
                  <a:pt x="21977" y="0"/>
                </a:lnTo>
                <a:lnTo>
                  <a:pt x="21977" y="21600"/>
                </a:lnTo>
                <a:lnTo>
                  <a:pt x="0" y="21600"/>
                </a:lnTo>
                <a:close/>
              </a:path>
              <a:path fill="lightenLess" w="21977" h="21600">
                <a:moveTo>
                  <a:pt x="0" y="0"/>
                </a:moveTo>
                <a:lnTo>
                  <a:pt x="21977" y="0"/>
                </a:lnTo>
                <a:lnTo>
                  <a:pt x="20577" y="1400"/>
                </a:lnTo>
                <a:lnTo>
                  <a:pt x="1400" y="1400"/>
                </a:lnTo>
                <a:close/>
              </a:path>
              <a:path fill="darken" w="21977" h="21600">
                <a:moveTo>
                  <a:pt x="21977" y="0"/>
                </a:moveTo>
                <a:lnTo>
                  <a:pt x="21977" y="21600"/>
                </a:lnTo>
                <a:lnTo>
                  <a:pt x="20577" y="20200"/>
                </a:lnTo>
                <a:lnTo>
                  <a:pt x="20577" y="1400"/>
                </a:lnTo>
                <a:close/>
              </a:path>
              <a:path fill="darkenLess" w="21977" h="21600">
                <a:moveTo>
                  <a:pt x="21977" y="21600"/>
                </a:moveTo>
                <a:lnTo>
                  <a:pt x="0" y="21600"/>
                </a:lnTo>
                <a:lnTo>
                  <a:pt x="1400" y="20200"/>
                </a:lnTo>
                <a:lnTo>
                  <a:pt x="20577" y="20200"/>
                </a:lnTo>
                <a:close/>
              </a:path>
              <a:path fill="lighten" w="21977" h="21600">
                <a:moveTo>
                  <a:pt x="0" y="21600"/>
                </a:moveTo>
                <a:lnTo>
                  <a:pt x="0" y="0"/>
                </a:lnTo>
                <a:lnTo>
                  <a:pt x="1400" y="1400"/>
                </a:lnTo>
                <a:lnTo>
                  <a:pt x="1400" y="20200"/>
                </a:lnTo>
                <a:close/>
              </a:path>
              <a:path fill="darken" w="21977" h="21600">
                <a:moveTo>
                  <a:pt x="3982" y="10800"/>
                </a:moveTo>
                <a:lnTo>
                  <a:pt x="17995" y="3794"/>
                </a:lnTo>
                <a:lnTo>
                  <a:pt x="17995"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666" name="">
            <a:hlinkClick r:id="" action="ppaction://hlinkshowjump?jump=nextslide"/>
          </p:cNvPr>
          <p:cNvSpPr/>
          <p:nvPr/>
        </p:nvSpPr>
        <p:spPr>
          <a:xfrm>
            <a:off x="125892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4263" y="3794"/>
                </a:moveTo>
                <a:lnTo>
                  <a:pt x="18276" y="10800"/>
                </a:lnTo>
                <a:lnTo>
                  <a:pt x="4263"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667" name="">
            <a:hlinkClick r:id="" action="ppaction://hlinkshowjump?jump=firstslide"/>
          </p:cNvPr>
          <p:cNvSpPr/>
          <p:nvPr/>
        </p:nvSpPr>
        <p:spPr>
          <a:xfrm>
            <a:off x="61128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11270" y="3837"/>
                </a:moveTo>
                <a:lnTo>
                  <a:pt x="13846" y="6448"/>
                </a:lnTo>
                <a:lnTo>
                  <a:pt x="13846" y="4707"/>
                </a:lnTo>
                <a:lnTo>
                  <a:pt x="15621" y="4707"/>
                </a:lnTo>
                <a:lnTo>
                  <a:pt x="15621" y="8224"/>
                </a:lnTo>
                <a:lnTo>
                  <a:pt x="18233" y="10800"/>
                </a:lnTo>
                <a:lnTo>
                  <a:pt x="16579" y="10800"/>
                </a:lnTo>
                <a:lnTo>
                  <a:pt x="16579" y="17989"/>
                </a:lnTo>
                <a:lnTo>
                  <a:pt x="5960" y="17989"/>
                </a:lnTo>
                <a:lnTo>
                  <a:pt x="5960" y="10800"/>
                </a:lnTo>
                <a:lnTo>
                  <a:pt x="4307" y="10800"/>
                </a:lnTo>
                <a:close/>
              </a:path>
              <a:path fill="darkenLess" w="22539" h="21600">
                <a:moveTo>
                  <a:pt x="13846" y="6448"/>
                </a:moveTo>
                <a:lnTo>
                  <a:pt x="13846" y="4707"/>
                </a:lnTo>
                <a:lnTo>
                  <a:pt x="15621" y="4707"/>
                </a:lnTo>
                <a:lnTo>
                  <a:pt x="15621" y="8224"/>
                </a:lnTo>
                <a:close/>
              </a:path>
              <a:path fill="darkenLess" w="22539" h="21600">
                <a:moveTo>
                  <a:pt x="10347" y="14299"/>
                </a:moveTo>
                <a:lnTo>
                  <a:pt x="12192" y="14299"/>
                </a:lnTo>
                <a:lnTo>
                  <a:pt x="12192" y="17989"/>
                </a:lnTo>
                <a:lnTo>
                  <a:pt x="16579" y="17989"/>
                </a:lnTo>
                <a:lnTo>
                  <a:pt x="16579" y="10800"/>
                </a:lnTo>
                <a:lnTo>
                  <a:pt x="5960" y="10800"/>
                </a:lnTo>
                <a:lnTo>
                  <a:pt x="5960" y="17989"/>
                </a:lnTo>
                <a:lnTo>
                  <a:pt x="10347" y="17989"/>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Tree>
  </p:cSld>
  <p:transition spd="slow">
    <p:wheel spokes="1"/>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8" name="Dikdörtgen 3"/>
          <p:cNvSpPr/>
          <p:nvPr/>
        </p:nvSpPr>
        <p:spPr>
          <a:xfrm>
            <a:off x="1763640" y="765000"/>
            <a:ext cx="5435640" cy="402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vludan geçtiğini gördü gelinin </a:t>
            </a:r>
            <a:endParaRPr b="0" lang="en-US" sz="28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uya gidiyordu öğle güneşinde </a:t>
            </a:r>
            <a:endParaRPr b="0" lang="en-US" sz="28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rdında bebesi yalınayak</a:t>
            </a:r>
            <a:endParaRPr b="0" lang="en-US" sz="28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eride Karabaş</a:t>
            </a:r>
            <a:endParaRPr b="0" lang="en-US" sz="28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ozlu yoldan </a:t>
            </a:r>
            <a:endParaRPr b="0" lang="en-US" sz="28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öğütlerin oradaki çeşmeye</a:t>
            </a:r>
            <a:endParaRPr b="0" lang="en-US" sz="28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Yalağında bulutlar yıkanan çeşmeye </a:t>
            </a:r>
            <a:endParaRPr b="0" lang="en-US" sz="2800" spc="-1" strike="noStrike">
              <a:solidFill>
                <a:srgbClr val="ffffff"/>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ndara"/>
              </a:rPr>
              <a:t>              </a:t>
            </a:r>
            <a:r>
              <a:rPr b="0" lang="en-US" sz="2800" spc="-1" strike="noStrike">
                <a:solidFill>
                  <a:srgbClr val="ffffff"/>
                </a:solidFill>
                <a:latin typeface="Candara"/>
              </a:rPr>
              <a:t>(Oktay RIFAT</a:t>
            </a:r>
            <a:r>
              <a:rPr b="0" lang="en-US" sz="3400" spc="-1" strike="noStrike">
                <a:solidFill>
                  <a:srgbClr val="ffffff"/>
                </a:solidFill>
                <a:latin typeface="Candara"/>
              </a:rPr>
              <a:t>)</a:t>
            </a:r>
            <a:endParaRPr b="0" lang="en-US" sz="3400" spc="-1" strike="noStrike">
              <a:solidFill>
                <a:srgbClr val="ffffff"/>
              </a:solidFill>
              <a:latin typeface="Candara"/>
            </a:endParaRPr>
          </a:p>
        </p:txBody>
      </p:sp>
      <p:pic>
        <p:nvPicPr>
          <p:cNvPr id="669" name="" descr=""/>
          <p:cNvPicPr/>
          <p:nvPr/>
        </p:nvPicPr>
        <p:blipFill>
          <a:blip r:embed="rId2"/>
          <a:stretch/>
        </p:blipFill>
        <p:spPr>
          <a:xfrm>
            <a:off x="8532720" y="6165720"/>
            <a:ext cx="304920" cy="304920"/>
          </a:xfrm>
          <a:prstGeom prst="rect">
            <a:avLst/>
          </a:prstGeom>
          <a:ln w="0">
            <a:noFill/>
          </a:ln>
        </p:spPr>
      </p:pic>
      <p:sp>
        <p:nvSpPr>
          <p:cNvPr id="670" name="">
            <a:hlinkClick r:id="" action="ppaction://hlinkshowjump?jump=previousslide"/>
          </p:cNvPr>
          <p:cNvSpPr/>
          <p:nvPr/>
        </p:nvSpPr>
        <p:spPr>
          <a:xfrm>
            <a:off x="0" y="6219720"/>
            <a:ext cx="649440" cy="638280"/>
          </a:xfrm>
          <a:custGeom>
            <a:avLst/>
            <a:gdLst>
              <a:gd name="textAreaLeft" fmla="*/ 41040 w 649440"/>
              <a:gd name="textAreaRight" fmla="*/ 608400 w 649440"/>
              <a:gd name="textAreaTop" fmla="*/ 41040 h 638280"/>
              <a:gd name="textAreaBottom" fmla="*/ 597240 h 638280"/>
            </a:gdLst>
            <a:ahLst/>
            <a:rect l="textAreaLeft" t="textAreaTop" r="textAreaRight" b="textAreaBottom"/>
            <a:pathLst>
              <a:path w="21977" h="21600">
                <a:moveTo>
                  <a:pt x="0" y="0"/>
                </a:moveTo>
                <a:lnTo>
                  <a:pt x="21977" y="0"/>
                </a:lnTo>
                <a:lnTo>
                  <a:pt x="21977" y="21600"/>
                </a:lnTo>
                <a:lnTo>
                  <a:pt x="0" y="21600"/>
                </a:lnTo>
                <a:close/>
              </a:path>
              <a:path fill="lightenLess" w="21977" h="21600">
                <a:moveTo>
                  <a:pt x="0" y="0"/>
                </a:moveTo>
                <a:lnTo>
                  <a:pt x="21977" y="0"/>
                </a:lnTo>
                <a:lnTo>
                  <a:pt x="20577" y="1400"/>
                </a:lnTo>
                <a:lnTo>
                  <a:pt x="1400" y="1400"/>
                </a:lnTo>
                <a:close/>
              </a:path>
              <a:path fill="darken" w="21977" h="21600">
                <a:moveTo>
                  <a:pt x="21977" y="0"/>
                </a:moveTo>
                <a:lnTo>
                  <a:pt x="21977" y="21600"/>
                </a:lnTo>
                <a:lnTo>
                  <a:pt x="20577" y="20200"/>
                </a:lnTo>
                <a:lnTo>
                  <a:pt x="20577" y="1400"/>
                </a:lnTo>
                <a:close/>
              </a:path>
              <a:path fill="darkenLess" w="21977" h="21600">
                <a:moveTo>
                  <a:pt x="21977" y="21600"/>
                </a:moveTo>
                <a:lnTo>
                  <a:pt x="0" y="21600"/>
                </a:lnTo>
                <a:lnTo>
                  <a:pt x="1400" y="20200"/>
                </a:lnTo>
                <a:lnTo>
                  <a:pt x="20577" y="20200"/>
                </a:lnTo>
                <a:close/>
              </a:path>
              <a:path fill="lighten" w="21977" h="21600">
                <a:moveTo>
                  <a:pt x="0" y="21600"/>
                </a:moveTo>
                <a:lnTo>
                  <a:pt x="0" y="0"/>
                </a:lnTo>
                <a:lnTo>
                  <a:pt x="1400" y="1400"/>
                </a:lnTo>
                <a:lnTo>
                  <a:pt x="1400" y="20200"/>
                </a:lnTo>
                <a:close/>
              </a:path>
              <a:path fill="darken" w="21977" h="21600">
                <a:moveTo>
                  <a:pt x="3982" y="10800"/>
                </a:moveTo>
                <a:lnTo>
                  <a:pt x="17995" y="3794"/>
                </a:lnTo>
                <a:lnTo>
                  <a:pt x="17995"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671" name="">
            <a:hlinkClick r:id="" action="ppaction://hlinkshowjump?jump=nextslide"/>
          </p:cNvPr>
          <p:cNvSpPr/>
          <p:nvPr/>
        </p:nvSpPr>
        <p:spPr>
          <a:xfrm>
            <a:off x="125892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4263" y="3794"/>
                </a:moveTo>
                <a:lnTo>
                  <a:pt x="18276" y="10800"/>
                </a:lnTo>
                <a:lnTo>
                  <a:pt x="4263"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672" name="">
            <a:hlinkClick r:id="" action="ppaction://hlinkshowjump?jump=firstslide"/>
          </p:cNvPr>
          <p:cNvSpPr/>
          <p:nvPr/>
        </p:nvSpPr>
        <p:spPr>
          <a:xfrm>
            <a:off x="61128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11270" y="3837"/>
                </a:moveTo>
                <a:lnTo>
                  <a:pt x="13846" y="6448"/>
                </a:lnTo>
                <a:lnTo>
                  <a:pt x="13846" y="4707"/>
                </a:lnTo>
                <a:lnTo>
                  <a:pt x="15621" y="4707"/>
                </a:lnTo>
                <a:lnTo>
                  <a:pt x="15621" y="8224"/>
                </a:lnTo>
                <a:lnTo>
                  <a:pt x="18233" y="10800"/>
                </a:lnTo>
                <a:lnTo>
                  <a:pt x="16579" y="10800"/>
                </a:lnTo>
                <a:lnTo>
                  <a:pt x="16579" y="17989"/>
                </a:lnTo>
                <a:lnTo>
                  <a:pt x="5960" y="17989"/>
                </a:lnTo>
                <a:lnTo>
                  <a:pt x="5960" y="10800"/>
                </a:lnTo>
                <a:lnTo>
                  <a:pt x="4307" y="10800"/>
                </a:lnTo>
                <a:close/>
              </a:path>
              <a:path fill="darkenLess" w="22539" h="21600">
                <a:moveTo>
                  <a:pt x="13846" y="6448"/>
                </a:moveTo>
                <a:lnTo>
                  <a:pt x="13846" y="4707"/>
                </a:lnTo>
                <a:lnTo>
                  <a:pt x="15621" y="4707"/>
                </a:lnTo>
                <a:lnTo>
                  <a:pt x="15621" y="8224"/>
                </a:lnTo>
                <a:close/>
              </a:path>
              <a:path fill="darkenLess" w="22539" h="21600">
                <a:moveTo>
                  <a:pt x="10347" y="14299"/>
                </a:moveTo>
                <a:lnTo>
                  <a:pt x="12192" y="14299"/>
                </a:lnTo>
                <a:lnTo>
                  <a:pt x="12192" y="17989"/>
                </a:lnTo>
                <a:lnTo>
                  <a:pt x="16579" y="17989"/>
                </a:lnTo>
                <a:lnTo>
                  <a:pt x="16579" y="10800"/>
                </a:lnTo>
                <a:lnTo>
                  <a:pt x="5960" y="10800"/>
                </a:lnTo>
                <a:lnTo>
                  <a:pt x="5960" y="17989"/>
                </a:lnTo>
                <a:lnTo>
                  <a:pt x="10347" y="17989"/>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Tree>
  </p:cSld>
  <p:transition spd="slow">
    <p:wheel spokes="1"/>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10.0)">
                                      <p:cBhvr>
                                        <p:cTn id="18" dur="1" fill="hold"/>
                                        <p:tgtEl>
                                          <p:spTgt spid="6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3" name="Dikdörtgen 3"/>
          <p:cNvSpPr/>
          <p:nvPr/>
        </p:nvSpPr>
        <p:spPr>
          <a:xfrm>
            <a:off x="1835280" y="1125360"/>
            <a:ext cx="561636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ümüş bir dumanla kapandı her yer </a:t>
            </a:r>
            <a:endParaRPr b="0" lang="en-US" sz="28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Yer ve gök bu akşam yayla dumanı</a:t>
            </a:r>
            <a:endParaRPr b="0" lang="en-US" sz="28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ürüler , çeşmeler , sarı çiçekler</a:t>
            </a:r>
            <a:endParaRPr b="0" lang="en-US" sz="28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eyaz kar, yeşil çam, yayla dumanı </a:t>
            </a:r>
            <a:endParaRPr b="0" lang="en-US" sz="28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Ömer Bedrettin UŞAKLI)</a:t>
            </a:r>
            <a:endParaRPr b="0" lang="en-US" sz="28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ndara"/>
            </a:endParaRPr>
          </a:p>
        </p:txBody>
      </p:sp>
      <p:sp>
        <p:nvSpPr>
          <p:cNvPr id="674" name="">
            <a:hlinkClick r:id="" action="ppaction://hlinkshowjump?jump=previousslide"/>
          </p:cNvPr>
          <p:cNvSpPr/>
          <p:nvPr/>
        </p:nvSpPr>
        <p:spPr>
          <a:xfrm>
            <a:off x="0" y="6219720"/>
            <a:ext cx="649440" cy="638280"/>
          </a:xfrm>
          <a:custGeom>
            <a:avLst/>
            <a:gdLst>
              <a:gd name="textAreaLeft" fmla="*/ 41040 w 649440"/>
              <a:gd name="textAreaRight" fmla="*/ 608400 w 649440"/>
              <a:gd name="textAreaTop" fmla="*/ 41040 h 638280"/>
              <a:gd name="textAreaBottom" fmla="*/ 597240 h 638280"/>
            </a:gdLst>
            <a:ahLst/>
            <a:rect l="textAreaLeft" t="textAreaTop" r="textAreaRight" b="textAreaBottom"/>
            <a:pathLst>
              <a:path w="21977" h="21600">
                <a:moveTo>
                  <a:pt x="0" y="0"/>
                </a:moveTo>
                <a:lnTo>
                  <a:pt x="21977" y="0"/>
                </a:lnTo>
                <a:lnTo>
                  <a:pt x="21977" y="21600"/>
                </a:lnTo>
                <a:lnTo>
                  <a:pt x="0" y="21600"/>
                </a:lnTo>
                <a:close/>
              </a:path>
              <a:path fill="lightenLess" w="21977" h="21600">
                <a:moveTo>
                  <a:pt x="0" y="0"/>
                </a:moveTo>
                <a:lnTo>
                  <a:pt x="21977" y="0"/>
                </a:lnTo>
                <a:lnTo>
                  <a:pt x="20577" y="1400"/>
                </a:lnTo>
                <a:lnTo>
                  <a:pt x="1400" y="1400"/>
                </a:lnTo>
                <a:close/>
              </a:path>
              <a:path fill="darken" w="21977" h="21600">
                <a:moveTo>
                  <a:pt x="21977" y="0"/>
                </a:moveTo>
                <a:lnTo>
                  <a:pt x="21977" y="21600"/>
                </a:lnTo>
                <a:lnTo>
                  <a:pt x="20577" y="20200"/>
                </a:lnTo>
                <a:lnTo>
                  <a:pt x="20577" y="1400"/>
                </a:lnTo>
                <a:close/>
              </a:path>
              <a:path fill="darkenLess" w="21977" h="21600">
                <a:moveTo>
                  <a:pt x="21977" y="21600"/>
                </a:moveTo>
                <a:lnTo>
                  <a:pt x="0" y="21600"/>
                </a:lnTo>
                <a:lnTo>
                  <a:pt x="1400" y="20200"/>
                </a:lnTo>
                <a:lnTo>
                  <a:pt x="20577" y="20200"/>
                </a:lnTo>
                <a:close/>
              </a:path>
              <a:path fill="lighten" w="21977" h="21600">
                <a:moveTo>
                  <a:pt x="0" y="21600"/>
                </a:moveTo>
                <a:lnTo>
                  <a:pt x="0" y="0"/>
                </a:lnTo>
                <a:lnTo>
                  <a:pt x="1400" y="1400"/>
                </a:lnTo>
                <a:lnTo>
                  <a:pt x="1400" y="20200"/>
                </a:lnTo>
                <a:close/>
              </a:path>
              <a:path fill="darken" w="21977" h="21600">
                <a:moveTo>
                  <a:pt x="3982" y="10800"/>
                </a:moveTo>
                <a:lnTo>
                  <a:pt x="17995" y="3794"/>
                </a:lnTo>
                <a:lnTo>
                  <a:pt x="17995"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675" name="">
            <a:hlinkClick r:id="" action="ppaction://hlinkshowjump?jump=nextslide"/>
          </p:cNvPr>
          <p:cNvSpPr/>
          <p:nvPr/>
        </p:nvSpPr>
        <p:spPr>
          <a:xfrm>
            <a:off x="125892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4263" y="3794"/>
                </a:moveTo>
                <a:lnTo>
                  <a:pt x="18276" y="10800"/>
                </a:lnTo>
                <a:lnTo>
                  <a:pt x="4263"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676" name="">
            <a:hlinkClick r:id="" action="ppaction://hlinkshowjump?jump=firstslide"/>
          </p:cNvPr>
          <p:cNvSpPr/>
          <p:nvPr/>
        </p:nvSpPr>
        <p:spPr>
          <a:xfrm>
            <a:off x="61128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11270" y="3837"/>
                </a:moveTo>
                <a:lnTo>
                  <a:pt x="13846" y="6448"/>
                </a:lnTo>
                <a:lnTo>
                  <a:pt x="13846" y="4707"/>
                </a:lnTo>
                <a:lnTo>
                  <a:pt x="15621" y="4707"/>
                </a:lnTo>
                <a:lnTo>
                  <a:pt x="15621" y="8224"/>
                </a:lnTo>
                <a:lnTo>
                  <a:pt x="18233" y="10800"/>
                </a:lnTo>
                <a:lnTo>
                  <a:pt x="16579" y="10800"/>
                </a:lnTo>
                <a:lnTo>
                  <a:pt x="16579" y="17989"/>
                </a:lnTo>
                <a:lnTo>
                  <a:pt x="5960" y="17989"/>
                </a:lnTo>
                <a:lnTo>
                  <a:pt x="5960" y="10800"/>
                </a:lnTo>
                <a:lnTo>
                  <a:pt x="4307" y="10800"/>
                </a:lnTo>
                <a:close/>
              </a:path>
              <a:path fill="darkenLess" w="22539" h="21600">
                <a:moveTo>
                  <a:pt x="13846" y="6448"/>
                </a:moveTo>
                <a:lnTo>
                  <a:pt x="13846" y="4707"/>
                </a:lnTo>
                <a:lnTo>
                  <a:pt x="15621" y="4707"/>
                </a:lnTo>
                <a:lnTo>
                  <a:pt x="15621" y="8224"/>
                </a:lnTo>
                <a:close/>
              </a:path>
              <a:path fill="darkenLess" w="22539" h="21600">
                <a:moveTo>
                  <a:pt x="10347" y="14299"/>
                </a:moveTo>
                <a:lnTo>
                  <a:pt x="12192" y="14299"/>
                </a:lnTo>
                <a:lnTo>
                  <a:pt x="12192" y="17989"/>
                </a:lnTo>
                <a:lnTo>
                  <a:pt x="16579" y="17989"/>
                </a:lnTo>
                <a:lnTo>
                  <a:pt x="16579" y="10800"/>
                </a:lnTo>
                <a:lnTo>
                  <a:pt x="5960" y="10800"/>
                </a:lnTo>
                <a:lnTo>
                  <a:pt x="5960" y="17989"/>
                </a:lnTo>
                <a:lnTo>
                  <a:pt x="10347" y="17989"/>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Tree>
  </p:cSld>
  <p:transition spd="slow">
    <p:wheel spokes="1"/>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77" name="Dikdörtgen 3" descr=""/>
          <p:cNvPicPr/>
          <p:nvPr/>
        </p:nvPicPr>
        <p:blipFill>
          <a:blip r:embed="rId2"/>
          <a:stretch/>
        </p:blipFill>
        <p:spPr>
          <a:xfrm>
            <a:off x="1852560" y="-195120"/>
            <a:ext cx="5627880" cy="2176200"/>
          </a:xfrm>
          <a:prstGeom prst="rect">
            <a:avLst/>
          </a:prstGeom>
          <a:ln w="0">
            <a:noFill/>
          </a:ln>
        </p:spPr>
      </p:pic>
      <p:sp>
        <p:nvSpPr>
          <p:cNvPr id="678" name="Dikdörtgen 4"/>
          <p:cNvSpPr/>
          <p:nvPr/>
        </p:nvSpPr>
        <p:spPr>
          <a:xfrm>
            <a:off x="324000" y="981000"/>
            <a:ext cx="9001080" cy="481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andara"/>
              </a:rPr>
              <a:t>  </a:t>
            </a:r>
            <a:r>
              <a:rPr b="0" lang="en-US" sz="2800" spc="-1" strike="noStrike">
                <a:solidFill>
                  <a:srgbClr val="000000"/>
                </a:solidFill>
                <a:latin typeface="Verdana"/>
              </a:rPr>
              <a:t>Epik sözcüğü , Yunancada destan anlamındaki epope den gelmektedir.</a:t>
            </a:r>
            <a:endParaRPr b="0" lang="en-US" sz="28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Yazının bulunuşundan önceki dönemlerde ulusların hayatında derin izler bırakan tarihsel olayları dile getiren destanlar epik şiir sayılır.</a:t>
            </a:r>
            <a:endParaRPr b="0" lang="en-US" sz="28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pik şiirlerde yiğitlik, kahramanlık, savaş. temaları işlenir.</a:t>
            </a:r>
            <a:endParaRPr b="0" lang="en-US" sz="28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r epope ( destan) ya da epik şiirlerde tarihsel bir gerçek vardır. Epik şiir bu gerçekten kaynaklanır.</a:t>
            </a:r>
            <a:endParaRPr b="0" lang="en-US" sz="28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pik şiirlerin çoğu , okuyucuyu coşkulandırdığı için lirik özellikler de taşır</a:t>
            </a:r>
            <a:r>
              <a:rPr b="0" lang="en-US" sz="1800" spc="-1" strike="noStrike">
                <a:solidFill>
                  <a:srgbClr val="000000"/>
                </a:solidFill>
                <a:latin typeface="Verdana"/>
              </a:rPr>
              <a:t>.</a:t>
            </a:r>
            <a:endParaRPr b="0" lang="en-US" sz="1800" spc="-1" strike="noStrike">
              <a:solidFill>
                <a:srgbClr val="ffffff"/>
              </a:solidFill>
              <a:latin typeface="Candara"/>
            </a:endParaRPr>
          </a:p>
        </p:txBody>
      </p:sp>
      <p:sp>
        <p:nvSpPr>
          <p:cNvPr id="679" name="">
            <a:hlinkClick r:id="" action="ppaction://hlinkshowjump?jump=previousslide"/>
          </p:cNvPr>
          <p:cNvSpPr/>
          <p:nvPr/>
        </p:nvSpPr>
        <p:spPr>
          <a:xfrm>
            <a:off x="0" y="6219720"/>
            <a:ext cx="649440" cy="638280"/>
          </a:xfrm>
          <a:custGeom>
            <a:avLst/>
            <a:gdLst>
              <a:gd name="textAreaLeft" fmla="*/ 41040 w 649440"/>
              <a:gd name="textAreaRight" fmla="*/ 608400 w 649440"/>
              <a:gd name="textAreaTop" fmla="*/ 41040 h 638280"/>
              <a:gd name="textAreaBottom" fmla="*/ 597240 h 638280"/>
            </a:gdLst>
            <a:ahLst/>
            <a:rect l="textAreaLeft" t="textAreaTop" r="textAreaRight" b="textAreaBottom"/>
            <a:pathLst>
              <a:path w="21977" h="21600">
                <a:moveTo>
                  <a:pt x="0" y="0"/>
                </a:moveTo>
                <a:lnTo>
                  <a:pt x="21977" y="0"/>
                </a:lnTo>
                <a:lnTo>
                  <a:pt x="21977" y="21600"/>
                </a:lnTo>
                <a:lnTo>
                  <a:pt x="0" y="21600"/>
                </a:lnTo>
                <a:close/>
              </a:path>
              <a:path fill="lightenLess" w="21977" h="21600">
                <a:moveTo>
                  <a:pt x="0" y="0"/>
                </a:moveTo>
                <a:lnTo>
                  <a:pt x="21977" y="0"/>
                </a:lnTo>
                <a:lnTo>
                  <a:pt x="20577" y="1400"/>
                </a:lnTo>
                <a:lnTo>
                  <a:pt x="1400" y="1400"/>
                </a:lnTo>
                <a:close/>
              </a:path>
              <a:path fill="darken" w="21977" h="21600">
                <a:moveTo>
                  <a:pt x="21977" y="0"/>
                </a:moveTo>
                <a:lnTo>
                  <a:pt x="21977" y="21600"/>
                </a:lnTo>
                <a:lnTo>
                  <a:pt x="20577" y="20200"/>
                </a:lnTo>
                <a:lnTo>
                  <a:pt x="20577" y="1400"/>
                </a:lnTo>
                <a:close/>
              </a:path>
              <a:path fill="darkenLess" w="21977" h="21600">
                <a:moveTo>
                  <a:pt x="21977" y="21600"/>
                </a:moveTo>
                <a:lnTo>
                  <a:pt x="0" y="21600"/>
                </a:lnTo>
                <a:lnTo>
                  <a:pt x="1400" y="20200"/>
                </a:lnTo>
                <a:lnTo>
                  <a:pt x="20577" y="20200"/>
                </a:lnTo>
                <a:close/>
              </a:path>
              <a:path fill="lighten" w="21977" h="21600">
                <a:moveTo>
                  <a:pt x="0" y="21600"/>
                </a:moveTo>
                <a:lnTo>
                  <a:pt x="0" y="0"/>
                </a:lnTo>
                <a:lnTo>
                  <a:pt x="1400" y="1400"/>
                </a:lnTo>
                <a:lnTo>
                  <a:pt x="1400" y="20200"/>
                </a:lnTo>
                <a:close/>
              </a:path>
              <a:path fill="darken" w="21977" h="21600">
                <a:moveTo>
                  <a:pt x="3982" y="10800"/>
                </a:moveTo>
                <a:lnTo>
                  <a:pt x="17995" y="3794"/>
                </a:lnTo>
                <a:lnTo>
                  <a:pt x="17995"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680" name="">
            <a:hlinkClick r:id="" action="ppaction://hlinkshowjump?jump=nextslide"/>
          </p:cNvPr>
          <p:cNvSpPr/>
          <p:nvPr/>
        </p:nvSpPr>
        <p:spPr>
          <a:xfrm>
            <a:off x="125892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4263" y="3794"/>
                </a:moveTo>
                <a:lnTo>
                  <a:pt x="18276" y="10800"/>
                </a:lnTo>
                <a:lnTo>
                  <a:pt x="4263"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681" name="">
            <a:hlinkClick r:id="" action="ppaction://hlinkshowjump?jump=firstslide"/>
          </p:cNvPr>
          <p:cNvSpPr/>
          <p:nvPr/>
        </p:nvSpPr>
        <p:spPr>
          <a:xfrm>
            <a:off x="61128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11270" y="3837"/>
                </a:moveTo>
                <a:lnTo>
                  <a:pt x="13846" y="6448"/>
                </a:lnTo>
                <a:lnTo>
                  <a:pt x="13846" y="4707"/>
                </a:lnTo>
                <a:lnTo>
                  <a:pt x="15621" y="4707"/>
                </a:lnTo>
                <a:lnTo>
                  <a:pt x="15621" y="8224"/>
                </a:lnTo>
                <a:lnTo>
                  <a:pt x="18233" y="10800"/>
                </a:lnTo>
                <a:lnTo>
                  <a:pt x="16579" y="10800"/>
                </a:lnTo>
                <a:lnTo>
                  <a:pt x="16579" y="17989"/>
                </a:lnTo>
                <a:lnTo>
                  <a:pt x="5960" y="17989"/>
                </a:lnTo>
                <a:lnTo>
                  <a:pt x="5960" y="10800"/>
                </a:lnTo>
                <a:lnTo>
                  <a:pt x="4307" y="10800"/>
                </a:lnTo>
                <a:close/>
              </a:path>
              <a:path fill="darkenLess" w="22539" h="21600">
                <a:moveTo>
                  <a:pt x="13846" y="6448"/>
                </a:moveTo>
                <a:lnTo>
                  <a:pt x="13846" y="4707"/>
                </a:lnTo>
                <a:lnTo>
                  <a:pt x="15621" y="4707"/>
                </a:lnTo>
                <a:lnTo>
                  <a:pt x="15621" y="8224"/>
                </a:lnTo>
                <a:close/>
              </a:path>
              <a:path fill="darkenLess" w="22539" h="21600">
                <a:moveTo>
                  <a:pt x="10347" y="14299"/>
                </a:moveTo>
                <a:lnTo>
                  <a:pt x="12192" y="14299"/>
                </a:lnTo>
                <a:lnTo>
                  <a:pt x="12192" y="17989"/>
                </a:lnTo>
                <a:lnTo>
                  <a:pt x="16579" y="17989"/>
                </a:lnTo>
                <a:lnTo>
                  <a:pt x="16579" y="10800"/>
                </a:lnTo>
                <a:lnTo>
                  <a:pt x="5960" y="10800"/>
                </a:lnTo>
                <a:lnTo>
                  <a:pt x="5960" y="17989"/>
                </a:lnTo>
                <a:lnTo>
                  <a:pt x="10347" y="17989"/>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Tree>
  </p:cSld>
  <p:transition spd="slow">
    <p:wheel spokes="1"/>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2" name="Dikdörtgen 4"/>
          <p:cNvSpPr/>
          <p:nvPr/>
        </p:nvSpPr>
        <p:spPr>
          <a:xfrm>
            <a:off x="1763640" y="404640"/>
            <a:ext cx="6048360" cy="481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urduk , süngü takmış kafir ayakta</a:t>
            </a:r>
            <a:endParaRPr b="0" lang="en-US" sz="28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izde süngü yok</a:t>
            </a:r>
            <a:endParaRPr b="0" lang="en-US" sz="28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ir hayret kızıllığı akardı üstümüzden </a:t>
            </a:r>
            <a:endParaRPr b="0" lang="en-US" sz="28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ehşetten daha çok </a:t>
            </a:r>
            <a:endParaRPr b="0" lang="en-US" sz="28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urduk , süngüsü düşmanın pırıl pırıl ,</a:t>
            </a:r>
            <a:endParaRPr b="0" lang="en-US" sz="28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Önümüze çıktı bir gündüz,bir gece </a:t>
            </a:r>
            <a:endParaRPr b="0" lang="en-US" sz="28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Korku değil haşa </a:t>
            </a:r>
            <a:endParaRPr b="0" lang="en-US" sz="28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ir büyük düşünce .</a:t>
            </a:r>
            <a:endParaRPr b="0" lang="en-US" sz="28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F.Hüsnü DAĞLARCA</a:t>
            </a:r>
            <a:r>
              <a:rPr b="0" lang="en-US" sz="3000" spc="-1" strike="noStrike">
                <a:solidFill>
                  <a:srgbClr val="ffffff"/>
                </a:solidFill>
                <a:latin typeface="Verdana"/>
              </a:rPr>
              <a:t>)</a:t>
            </a:r>
            <a:endParaRPr b="0" lang="en-US" sz="3000" spc="-1" strike="noStrike">
              <a:solidFill>
                <a:srgbClr val="ffffff"/>
              </a:solidFill>
              <a:latin typeface="Candara"/>
            </a:endParaRPr>
          </a:p>
        </p:txBody>
      </p:sp>
      <p:pic>
        <p:nvPicPr>
          <p:cNvPr id="683" name="" descr=""/>
          <p:cNvPicPr/>
          <p:nvPr/>
        </p:nvPicPr>
        <p:blipFill>
          <a:blip r:embed="rId2"/>
          <a:stretch/>
        </p:blipFill>
        <p:spPr>
          <a:xfrm>
            <a:off x="8388360" y="5950080"/>
            <a:ext cx="304920" cy="304560"/>
          </a:xfrm>
          <a:prstGeom prst="rect">
            <a:avLst/>
          </a:prstGeom>
          <a:ln w="0">
            <a:noFill/>
          </a:ln>
        </p:spPr>
      </p:pic>
      <p:sp>
        <p:nvSpPr>
          <p:cNvPr id="684" name="">
            <a:hlinkClick r:id="" action="ppaction://hlinkshowjump?jump=previousslide"/>
          </p:cNvPr>
          <p:cNvSpPr/>
          <p:nvPr/>
        </p:nvSpPr>
        <p:spPr>
          <a:xfrm>
            <a:off x="0" y="6219720"/>
            <a:ext cx="649440" cy="638280"/>
          </a:xfrm>
          <a:custGeom>
            <a:avLst/>
            <a:gdLst>
              <a:gd name="textAreaLeft" fmla="*/ 41040 w 649440"/>
              <a:gd name="textAreaRight" fmla="*/ 608400 w 649440"/>
              <a:gd name="textAreaTop" fmla="*/ 41040 h 638280"/>
              <a:gd name="textAreaBottom" fmla="*/ 597240 h 638280"/>
            </a:gdLst>
            <a:ahLst/>
            <a:rect l="textAreaLeft" t="textAreaTop" r="textAreaRight" b="textAreaBottom"/>
            <a:pathLst>
              <a:path w="21977" h="21600">
                <a:moveTo>
                  <a:pt x="0" y="0"/>
                </a:moveTo>
                <a:lnTo>
                  <a:pt x="21977" y="0"/>
                </a:lnTo>
                <a:lnTo>
                  <a:pt x="21977" y="21600"/>
                </a:lnTo>
                <a:lnTo>
                  <a:pt x="0" y="21600"/>
                </a:lnTo>
                <a:close/>
              </a:path>
              <a:path fill="lightenLess" w="21977" h="21600">
                <a:moveTo>
                  <a:pt x="0" y="0"/>
                </a:moveTo>
                <a:lnTo>
                  <a:pt x="21977" y="0"/>
                </a:lnTo>
                <a:lnTo>
                  <a:pt x="20577" y="1400"/>
                </a:lnTo>
                <a:lnTo>
                  <a:pt x="1400" y="1400"/>
                </a:lnTo>
                <a:close/>
              </a:path>
              <a:path fill="darken" w="21977" h="21600">
                <a:moveTo>
                  <a:pt x="21977" y="0"/>
                </a:moveTo>
                <a:lnTo>
                  <a:pt x="21977" y="21600"/>
                </a:lnTo>
                <a:lnTo>
                  <a:pt x="20577" y="20200"/>
                </a:lnTo>
                <a:lnTo>
                  <a:pt x="20577" y="1400"/>
                </a:lnTo>
                <a:close/>
              </a:path>
              <a:path fill="darkenLess" w="21977" h="21600">
                <a:moveTo>
                  <a:pt x="21977" y="21600"/>
                </a:moveTo>
                <a:lnTo>
                  <a:pt x="0" y="21600"/>
                </a:lnTo>
                <a:lnTo>
                  <a:pt x="1400" y="20200"/>
                </a:lnTo>
                <a:lnTo>
                  <a:pt x="20577" y="20200"/>
                </a:lnTo>
                <a:close/>
              </a:path>
              <a:path fill="lighten" w="21977" h="21600">
                <a:moveTo>
                  <a:pt x="0" y="21600"/>
                </a:moveTo>
                <a:lnTo>
                  <a:pt x="0" y="0"/>
                </a:lnTo>
                <a:lnTo>
                  <a:pt x="1400" y="1400"/>
                </a:lnTo>
                <a:lnTo>
                  <a:pt x="1400" y="20200"/>
                </a:lnTo>
                <a:close/>
              </a:path>
              <a:path fill="darken" w="21977" h="21600">
                <a:moveTo>
                  <a:pt x="3982" y="10800"/>
                </a:moveTo>
                <a:lnTo>
                  <a:pt x="17995" y="3794"/>
                </a:lnTo>
                <a:lnTo>
                  <a:pt x="17995"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685" name="">
            <a:hlinkClick r:id="" action="ppaction://hlinkshowjump?jump=nextslide"/>
          </p:cNvPr>
          <p:cNvSpPr/>
          <p:nvPr/>
        </p:nvSpPr>
        <p:spPr>
          <a:xfrm>
            <a:off x="125892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4263" y="3794"/>
                </a:moveTo>
                <a:lnTo>
                  <a:pt x="18276" y="10800"/>
                </a:lnTo>
                <a:lnTo>
                  <a:pt x="4263"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686" name="">
            <a:hlinkClick r:id="" action="ppaction://hlinkshowjump?jump=firstslide"/>
          </p:cNvPr>
          <p:cNvSpPr/>
          <p:nvPr/>
        </p:nvSpPr>
        <p:spPr>
          <a:xfrm>
            <a:off x="61128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11270" y="3837"/>
                </a:moveTo>
                <a:lnTo>
                  <a:pt x="13846" y="6448"/>
                </a:lnTo>
                <a:lnTo>
                  <a:pt x="13846" y="4707"/>
                </a:lnTo>
                <a:lnTo>
                  <a:pt x="15621" y="4707"/>
                </a:lnTo>
                <a:lnTo>
                  <a:pt x="15621" y="8224"/>
                </a:lnTo>
                <a:lnTo>
                  <a:pt x="18233" y="10800"/>
                </a:lnTo>
                <a:lnTo>
                  <a:pt x="16579" y="10800"/>
                </a:lnTo>
                <a:lnTo>
                  <a:pt x="16579" y="17989"/>
                </a:lnTo>
                <a:lnTo>
                  <a:pt x="5960" y="17989"/>
                </a:lnTo>
                <a:lnTo>
                  <a:pt x="5960" y="10800"/>
                </a:lnTo>
                <a:lnTo>
                  <a:pt x="4307" y="10800"/>
                </a:lnTo>
                <a:close/>
              </a:path>
              <a:path fill="darkenLess" w="22539" h="21600">
                <a:moveTo>
                  <a:pt x="13846" y="6448"/>
                </a:moveTo>
                <a:lnTo>
                  <a:pt x="13846" y="4707"/>
                </a:lnTo>
                <a:lnTo>
                  <a:pt x="15621" y="4707"/>
                </a:lnTo>
                <a:lnTo>
                  <a:pt x="15621" y="8224"/>
                </a:lnTo>
                <a:close/>
              </a:path>
              <a:path fill="darkenLess" w="22539" h="21600">
                <a:moveTo>
                  <a:pt x="10347" y="14299"/>
                </a:moveTo>
                <a:lnTo>
                  <a:pt x="12192" y="14299"/>
                </a:lnTo>
                <a:lnTo>
                  <a:pt x="12192" y="17989"/>
                </a:lnTo>
                <a:lnTo>
                  <a:pt x="16579" y="17989"/>
                </a:lnTo>
                <a:lnTo>
                  <a:pt x="16579" y="10800"/>
                </a:lnTo>
                <a:lnTo>
                  <a:pt x="5960" y="10800"/>
                </a:lnTo>
                <a:lnTo>
                  <a:pt x="5960" y="17989"/>
                </a:lnTo>
                <a:lnTo>
                  <a:pt x="10347" y="17989"/>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Tree>
  </p:cSld>
  <p:transition spd="slow">
    <p:wheel spokes="1"/>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 fill="hold"/>
                                        <p:tgtEl>
                                          <p:spTgt spid="6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Arial"/>
              </a:rPr>
              <a:t>        </a:t>
            </a:r>
            <a:r>
              <a:rPr b="0" lang="en-US" sz="4200" spc="-1" strike="noStrike">
                <a:solidFill>
                  <a:srgbClr val="ff5c9c"/>
                </a:solidFill>
                <a:latin typeface="Candara"/>
              </a:rPr>
              <a:t>AMAÇLAR</a:t>
            </a:r>
            <a:endParaRPr b="0" lang="en-US" sz="4200" spc="-1" strike="noStrike">
              <a:solidFill>
                <a:srgbClr val="ff5c9c"/>
              </a:solidFill>
              <a:latin typeface="Candara"/>
            </a:endParaRPr>
          </a:p>
        </p:txBody>
      </p:sp>
      <p:sp>
        <p:nvSpPr>
          <p:cNvPr id="60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Şiir sevgisi kazandırmak</a:t>
            </a:r>
            <a:endParaRPr b="0" lang="en-US" sz="3000" spc="-1" strike="noStrike">
              <a:solidFill>
                <a:srgbClr val="ffffff"/>
              </a:solidFill>
              <a:latin typeface="Candara"/>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Şiir türlerini öğretmek</a:t>
            </a:r>
            <a:endParaRPr b="0" lang="en-US" sz="3000" spc="-1" strike="noStrike">
              <a:solidFill>
                <a:srgbClr val="ffffff"/>
              </a:solidFill>
              <a:latin typeface="Candara"/>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Okunan bir şiirin konusundan hangi gruba ait olduğunu kavratmak</a:t>
            </a:r>
            <a:endParaRPr b="0" lang="en-US" sz="3000" spc="-1" strike="noStrike">
              <a:solidFill>
                <a:srgbClr val="ffffff"/>
              </a:solidFill>
              <a:latin typeface="Candara"/>
            </a:endParaRPr>
          </a:p>
          <a:p>
            <a:pPr marL="4478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606" name="">
            <a:hlinkClick r:id="" action="ppaction://hlinkshowjump?jump=nextslide"/>
          </p:cNvPr>
          <p:cNvSpPr/>
          <p:nvPr/>
        </p:nvSpPr>
        <p:spPr>
          <a:xfrm>
            <a:off x="1258920" y="6283440"/>
            <a:ext cx="647640" cy="574560"/>
          </a:xfrm>
          <a:custGeom>
            <a:avLst/>
            <a:gdLst>
              <a:gd name="textAreaLeft" fmla="*/ 37080 w 647640"/>
              <a:gd name="textAreaRight" fmla="*/ 610560 w 647640"/>
              <a:gd name="textAreaTop" fmla="*/ 37080 h 574560"/>
              <a:gd name="textAreaBottom" fmla="*/ 537480 h 574560"/>
            </a:gdLst>
            <a:ahLst/>
            <a:rect l="textAreaLeft" t="textAreaTop" r="textAreaRight" b="textAreaBottom"/>
            <a:pathLst>
              <a:path w="24346" h="21600">
                <a:moveTo>
                  <a:pt x="0" y="0"/>
                </a:moveTo>
                <a:lnTo>
                  <a:pt x="24346" y="0"/>
                </a:lnTo>
                <a:lnTo>
                  <a:pt x="24346" y="21600"/>
                </a:lnTo>
                <a:lnTo>
                  <a:pt x="0" y="21600"/>
                </a:lnTo>
                <a:close/>
              </a:path>
              <a:path fill="lightenLess" w="24346" h="21600">
                <a:moveTo>
                  <a:pt x="0" y="0"/>
                </a:moveTo>
                <a:lnTo>
                  <a:pt x="24346" y="0"/>
                </a:lnTo>
                <a:lnTo>
                  <a:pt x="22946" y="1400"/>
                </a:lnTo>
                <a:lnTo>
                  <a:pt x="1400" y="1400"/>
                </a:lnTo>
                <a:close/>
              </a:path>
              <a:path fill="darken" w="24346" h="21600">
                <a:moveTo>
                  <a:pt x="24346" y="0"/>
                </a:moveTo>
                <a:lnTo>
                  <a:pt x="24346" y="21600"/>
                </a:lnTo>
                <a:lnTo>
                  <a:pt x="22946" y="20200"/>
                </a:lnTo>
                <a:lnTo>
                  <a:pt x="22946" y="1400"/>
                </a:lnTo>
                <a:close/>
              </a:path>
              <a:path fill="darkenLess" w="24346" h="21600">
                <a:moveTo>
                  <a:pt x="24346" y="21600"/>
                </a:moveTo>
                <a:lnTo>
                  <a:pt x="0" y="21600"/>
                </a:lnTo>
                <a:lnTo>
                  <a:pt x="1400" y="20200"/>
                </a:lnTo>
                <a:lnTo>
                  <a:pt x="22946" y="20200"/>
                </a:lnTo>
                <a:close/>
              </a:path>
              <a:path fill="lighten" w="24346" h="21600">
                <a:moveTo>
                  <a:pt x="0" y="21600"/>
                </a:moveTo>
                <a:lnTo>
                  <a:pt x="0" y="0"/>
                </a:lnTo>
                <a:lnTo>
                  <a:pt x="1400" y="1400"/>
                </a:lnTo>
                <a:lnTo>
                  <a:pt x="1400" y="20200"/>
                </a:lnTo>
                <a:close/>
              </a:path>
              <a:path fill="darken" w="24346" h="21600">
                <a:moveTo>
                  <a:pt x="5166" y="3794"/>
                </a:moveTo>
                <a:lnTo>
                  <a:pt x="19179" y="10800"/>
                </a:lnTo>
                <a:lnTo>
                  <a:pt x="5166"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607" name="">
            <a:hlinkClick r:id="" action="ppaction://hlinkshowjump?jump=previousslide"/>
          </p:cNvPr>
          <p:cNvSpPr/>
          <p:nvPr/>
        </p:nvSpPr>
        <p:spPr>
          <a:xfrm>
            <a:off x="0" y="6291360"/>
            <a:ext cx="647640" cy="566640"/>
          </a:xfrm>
          <a:custGeom>
            <a:avLst/>
            <a:gdLst>
              <a:gd name="textAreaLeft" fmla="*/ 36720 w 647640"/>
              <a:gd name="textAreaRight" fmla="*/ 610920 w 647640"/>
              <a:gd name="textAreaTop" fmla="*/ 36720 h 566640"/>
              <a:gd name="textAreaBottom" fmla="*/ 529920 h 566640"/>
            </a:gdLst>
            <a:ahLst/>
            <a:rect l="textAreaLeft" t="textAreaTop" r="textAreaRight" b="textAreaBottom"/>
            <a:pathLst>
              <a:path w="24686" h="21600">
                <a:moveTo>
                  <a:pt x="0" y="0"/>
                </a:moveTo>
                <a:lnTo>
                  <a:pt x="24686" y="0"/>
                </a:lnTo>
                <a:lnTo>
                  <a:pt x="24686" y="21600"/>
                </a:lnTo>
                <a:lnTo>
                  <a:pt x="0" y="21600"/>
                </a:lnTo>
                <a:close/>
              </a:path>
              <a:path fill="lightenLess" w="24686" h="21600">
                <a:moveTo>
                  <a:pt x="0" y="0"/>
                </a:moveTo>
                <a:lnTo>
                  <a:pt x="24686" y="0"/>
                </a:lnTo>
                <a:lnTo>
                  <a:pt x="23286" y="1400"/>
                </a:lnTo>
                <a:lnTo>
                  <a:pt x="1400" y="1400"/>
                </a:lnTo>
                <a:close/>
              </a:path>
              <a:path fill="darken" w="24686" h="21600">
                <a:moveTo>
                  <a:pt x="24686" y="0"/>
                </a:moveTo>
                <a:lnTo>
                  <a:pt x="24686" y="21600"/>
                </a:lnTo>
                <a:lnTo>
                  <a:pt x="23286" y="20200"/>
                </a:lnTo>
                <a:lnTo>
                  <a:pt x="23286" y="1400"/>
                </a:lnTo>
                <a:close/>
              </a:path>
              <a:path fill="darkenLess" w="24686" h="21600">
                <a:moveTo>
                  <a:pt x="24686" y="21600"/>
                </a:moveTo>
                <a:lnTo>
                  <a:pt x="0" y="21600"/>
                </a:lnTo>
                <a:lnTo>
                  <a:pt x="1400" y="20200"/>
                </a:lnTo>
                <a:lnTo>
                  <a:pt x="23286" y="20200"/>
                </a:lnTo>
                <a:close/>
              </a:path>
              <a:path fill="lighten" w="24686" h="21600">
                <a:moveTo>
                  <a:pt x="0" y="21600"/>
                </a:moveTo>
                <a:lnTo>
                  <a:pt x="0" y="0"/>
                </a:lnTo>
                <a:lnTo>
                  <a:pt x="1400" y="1400"/>
                </a:lnTo>
                <a:lnTo>
                  <a:pt x="1400" y="20200"/>
                </a:lnTo>
                <a:close/>
              </a:path>
              <a:path fill="darken" w="24686" h="21600">
                <a:moveTo>
                  <a:pt x="5336" y="10800"/>
                </a:moveTo>
                <a:lnTo>
                  <a:pt x="19349" y="3794"/>
                </a:lnTo>
                <a:lnTo>
                  <a:pt x="19349"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608" name="">
            <a:hlinkClick r:id="" action="ppaction://hlinkshowjump?jump=firstslide"/>
          </p:cNvPr>
          <p:cNvSpPr/>
          <p:nvPr/>
        </p:nvSpPr>
        <p:spPr>
          <a:xfrm>
            <a:off x="61128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11270" y="3837"/>
                </a:moveTo>
                <a:lnTo>
                  <a:pt x="13846" y="6448"/>
                </a:lnTo>
                <a:lnTo>
                  <a:pt x="13846" y="4707"/>
                </a:lnTo>
                <a:lnTo>
                  <a:pt x="15621" y="4707"/>
                </a:lnTo>
                <a:lnTo>
                  <a:pt x="15621" y="8224"/>
                </a:lnTo>
                <a:lnTo>
                  <a:pt x="18233" y="10800"/>
                </a:lnTo>
                <a:lnTo>
                  <a:pt x="16579" y="10800"/>
                </a:lnTo>
                <a:lnTo>
                  <a:pt x="16579" y="17989"/>
                </a:lnTo>
                <a:lnTo>
                  <a:pt x="5960" y="17989"/>
                </a:lnTo>
                <a:lnTo>
                  <a:pt x="5960" y="10800"/>
                </a:lnTo>
                <a:lnTo>
                  <a:pt x="4307" y="10800"/>
                </a:lnTo>
                <a:close/>
              </a:path>
              <a:path fill="darkenLess" w="22539" h="21600">
                <a:moveTo>
                  <a:pt x="13846" y="6448"/>
                </a:moveTo>
                <a:lnTo>
                  <a:pt x="13846" y="4707"/>
                </a:lnTo>
                <a:lnTo>
                  <a:pt x="15621" y="4707"/>
                </a:lnTo>
                <a:lnTo>
                  <a:pt x="15621" y="8224"/>
                </a:lnTo>
                <a:close/>
              </a:path>
              <a:path fill="darkenLess" w="22539" h="21600">
                <a:moveTo>
                  <a:pt x="10347" y="14299"/>
                </a:moveTo>
                <a:lnTo>
                  <a:pt x="12192" y="14299"/>
                </a:lnTo>
                <a:lnTo>
                  <a:pt x="12192" y="17989"/>
                </a:lnTo>
                <a:lnTo>
                  <a:pt x="16579" y="17989"/>
                </a:lnTo>
                <a:lnTo>
                  <a:pt x="16579" y="10800"/>
                </a:lnTo>
                <a:lnTo>
                  <a:pt x="5960" y="10800"/>
                </a:lnTo>
                <a:lnTo>
                  <a:pt x="5960" y="17989"/>
                </a:lnTo>
                <a:lnTo>
                  <a:pt x="10347" y="17989"/>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Tree>
  </p:cSld>
  <p:transition spd="slow">
    <p:wheel spokes="1"/>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7" name="Dikdörtgen 3"/>
          <p:cNvSpPr/>
          <p:nvPr/>
        </p:nvSpPr>
        <p:spPr>
          <a:xfrm>
            <a:off x="1547640" y="549360"/>
            <a:ext cx="590400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Candara"/>
              </a:rPr>
              <a:t>Kalktı göç eyledi Avşar elleri,</a:t>
            </a:r>
            <a:endParaRPr b="0" lang="en-US" sz="2800" spc="-1" strike="noStrike">
              <a:solidFill>
                <a:srgbClr val="ffffff"/>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Candara"/>
              </a:rPr>
              <a:t>Ağır ağır giden eller bizimdir.</a:t>
            </a:r>
            <a:endParaRPr b="0" lang="en-US" sz="2800" spc="-1" strike="noStrike">
              <a:solidFill>
                <a:srgbClr val="ffffff"/>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Candara"/>
              </a:rPr>
              <a:t>Arap atlar yakın eder ırağı,</a:t>
            </a:r>
            <a:endParaRPr b="0" lang="en-US" sz="2800" spc="-1" strike="noStrike">
              <a:solidFill>
                <a:srgbClr val="ffffff"/>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Candara"/>
              </a:rPr>
              <a:t>Yüce dağdan aşan yollar bizimdir.</a:t>
            </a:r>
            <a:endParaRPr b="0" lang="en-US" sz="2800" spc="-1" strike="noStrike">
              <a:solidFill>
                <a:srgbClr val="ffffff"/>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Candara"/>
              </a:rPr>
              <a:t>Belimizde kılıcımız Kirmani,</a:t>
            </a:r>
            <a:endParaRPr b="0" lang="en-US" sz="2800" spc="-1" strike="noStrike">
              <a:solidFill>
                <a:srgbClr val="ffffff"/>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Candara"/>
              </a:rPr>
              <a:t>Taşı deler mızrağımın temreni.</a:t>
            </a:r>
            <a:endParaRPr b="0" lang="en-US" sz="2800" spc="-1" strike="noStrike">
              <a:solidFill>
                <a:srgbClr val="ffffff"/>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Candara"/>
              </a:rPr>
              <a:t>Hakkımızda devlet etmiş fermanı,</a:t>
            </a:r>
            <a:endParaRPr b="0" lang="en-US" sz="2800" spc="-1" strike="noStrike">
              <a:solidFill>
                <a:srgbClr val="ffffff"/>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Candara"/>
              </a:rPr>
              <a:t>Ferman padişahın,dağlar bizimdir.</a:t>
            </a:r>
            <a:endParaRPr b="0" lang="en-US" sz="2800" spc="-1" strike="noStrike">
              <a:solidFill>
                <a:srgbClr val="ffffff"/>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Candara"/>
              </a:rPr>
              <a:t>Dadaloğlu'm birgün kavga kurulur,</a:t>
            </a:r>
            <a:endParaRPr b="0" lang="en-US" sz="2800" spc="-1" strike="noStrike">
              <a:solidFill>
                <a:srgbClr val="ffffff"/>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Candara"/>
              </a:rPr>
              <a:t>Öter tüfek davlumbazlar vurulur.</a:t>
            </a:r>
            <a:endParaRPr b="0" lang="en-US" sz="2800" spc="-1" strike="noStrike">
              <a:solidFill>
                <a:srgbClr val="ffffff"/>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Candara"/>
              </a:rPr>
              <a:t>Nice koçyiğitler yere serilir,</a:t>
            </a:r>
            <a:endParaRPr b="0" lang="en-US" sz="2800" spc="-1" strike="noStrike">
              <a:solidFill>
                <a:srgbClr val="ffffff"/>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Candara"/>
              </a:rPr>
              <a:t>Ölen ölür, kalan sağlar bizimdir.                       (Dadaloğlu)</a:t>
            </a:r>
            <a:endParaRPr b="0" lang="en-US" sz="2800" spc="-1" strike="noStrike">
              <a:solidFill>
                <a:srgbClr val="ffffff"/>
              </a:solidFill>
              <a:latin typeface="Candara"/>
            </a:endParaRPr>
          </a:p>
        </p:txBody>
      </p:sp>
      <p:sp>
        <p:nvSpPr>
          <p:cNvPr id="688" name="">
            <a:hlinkClick r:id="" action="ppaction://hlinkshowjump?jump=previousslide"/>
          </p:cNvPr>
          <p:cNvSpPr/>
          <p:nvPr/>
        </p:nvSpPr>
        <p:spPr>
          <a:xfrm>
            <a:off x="0" y="6219720"/>
            <a:ext cx="649440" cy="638280"/>
          </a:xfrm>
          <a:custGeom>
            <a:avLst/>
            <a:gdLst>
              <a:gd name="textAreaLeft" fmla="*/ 41040 w 649440"/>
              <a:gd name="textAreaRight" fmla="*/ 608400 w 649440"/>
              <a:gd name="textAreaTop" fmla="*/ 41040 h 638280"/>
              <a:gd name="textAreaBottom" fmla="*/ 597240 h 638280"/>
            </a:gdLst>
            <a:ahLst/>
            <a:rect l="textAreaLeft" t="textAreaTop" r="textAreaRight" b="textAreaBottom"/>
            <a:pathLst>
              <a:path w="21977" h="21600">
                <a:moveTo>
                  <a:pt x="0" y="0"/>
                </a:moveTo>
                <a:lnTo>
                  <a:pt x="21977" y="0"/>
                </a:lnTo>
                <a:lnTo>
                  <a:pt x="21977" y="21600"/>
                </a:lnTo>
                <a:lnTo>
                  <a:pt x="0" y="21600"/>
                </a:lnTo>
                <a:close/>
              </a:path>
              <a:path fill="lightenLess" w="21977" h="21600">
                <a:moveTo>
                  <a:pt x="0" y="0"/>
                </a:moveTo>
                <a:lnTo>
                  <a:pt x="21977" y="0"/>
                </a:lnTo>
                <a:lnTo>
                  <a:pt x="20577" y="1400"/>
                </a:lnTo>
                <a:lnTo>
                  <a:pt x="1400" y="1400"/>
                </a:lnTo>
                <a:close/>
              </a:path>
              <a:path fill="darken" w="21977" h="21600">
                <a:moveTo>
                  <a:pt x="21977" y="0"/>
                </a:moveTo>
                <a:lnTo>
                  <a:pt x="21977" y="21600"/>
                </a:lnTo>
                <a:lnTo>
                  <a:pt x="20577" y="20200"/>
                </a:lnTo>
                <a:lnTo>
                  <a:pt x="20577" y="1400"/>
                </a:lnTo>
                <a:close/>
              </a:path>
              <a:path fill="darkenLess" w="21977" h="21600">
                <a:moveTo>
                  <a:pt x="21977" y="21600"/>
                </a:moveTo>
                <a:lnTo>
                  <a:pt x="0" y="21600"/>
                </a:lnTo>
                <a:lnTo>
                  <a:pt x="1400" y="20200"/>
                </a:lnTo>
                <a:lnTo>
                  <a:pt x="20577" y="20200"/>
                </a:lnTo>
                <a:close/>
              </a:path>
              <a:path fill="lighten" w="21977" h="21600">
                <a:moveTo>
                  <a:pt x="0" y="21600"/>
                </a:moveTo>
                <a:lnTo>
                  <a:pt x="0" y="0"/>
                </a:lnTo>
                <a:lnTo>
                  <a:pt x="1400" y="1400"/>
                </a:lnTo>
                <a:lnTo>
                  <a:pt x="1400" y="20200"/>
                </a:lnTo>
                <a:close/>
              </a:path>
              <a:path fill="darken" w="21977" h="21600">
                <a:moveTo>
                  <a:pt x="3982" y="10800"/>
                </a:moveTo>
                <a:lnTo>
                  <a:pt x="17995" y="3794"/>
                </a:lnTo>
                <a:lnTo>
                  <a:pt x="17995"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689" name="">
            <a:hlinkClick r:id="" action="ppaction://hlinkshowjump?jump=nextslide"/>
          </p:cNvPr>
          <p:cNvSpPr/>
          <p:nvPr/>
        </p:nvSpPr>
        <p:spPr>
          <a:xfrm>
            <a:off x="125892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4263" y="3794"/>
                </a:moveTo>
                <a:lnTo>
                  <a:pt x="18276" y="10800"/>
                </a:lnTo>
                <a:lnTo>
                  <a:pt x="4263"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690" name="">
            <a:hlinkClick r:id="" action="ppaction://hlinkshowjump?jump=firstslide"/>
          </p:cNvPr>
          <p:cNvSpPr/>
          <p:nvPr/>
        </p:nvSpPr>
        <p:spPr>
          <a:xfrm>
            <a:off x="61128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11270" y="3837"/>
                </a:moveTo>
                <a:lnTo>
                  <a:pt x="13846" y="6448"/>
                </a:lnTo>
                <a:lnTo>
                  <a:pt x="13846" y="4707"/>
                </a:lnTo>
                <a:lnTo>
                  <a:pt x="15621" y="4707"/>
                </a:lnTo>
                <a:lnTo>
                  <a:pt x="15621" y="8224"/>
                </a:lnTo>
                <a:lnTo>
                  <a:pt x="18233" y="10800"/>
                </a:lnTo>
                <a:lnTo>
                  <a:pt x="16579" y="10800"/>
                </a:lnTo>
                <a:lnTo>
                  <a:pt x="16579" y="17989"/>
                </a:lnTo>
                <a:lnTo>
                  <a:pt x="5960" y="17989"/>
                </a:lnTo>
                <a:lnTo>
                  <a:pt x="5960" y="10800"/>
                </a:lnTo>
                <a:lnTo>
                  <a:pt x="4307" y="10800"/>
                </a:lnTo>
                <a:close/>
              </a:path>
              <a:path fill="darkenLess" w="22539" h="21600">
                <a:moveTo>
                  <a:pt x="13846" y="6448"/>
                </a:moveTo>
                <a:lnTo>
                  <a:pt x="13846" y="4707"/>
                </a:lnTo>
                <a:lnTo>
                  <a:pt x="15621" y="4707"/>
                </a:lnTo>
                <a:lnTo>
                  <a:pt x="15621" y="8224"/>
                </a:lnTo>
                <a:close/>
              </a:path>
              <a:path fill="darkenLess" w="22539" h="21600">
                <a:moveTo>
                  <a:pt x="10347" y="14299"/>
                </a:moveTo>
                <a:lnTo>
                  <a:pt x="12192" y="14299"/>
                </a:lnTo>
                <a:lnTo>
                  <a:pt x="12192" y="17989"/>
                </a:lnTo>
                <a:lnTo>
                  <a:pt x="16579" y="17989"/>
                </a:lnTo>
                <a:lnTo>
                  <a:pt x="16579" y="10800"/>
                </a:lnTo>
                <a:lnTo>
                  <a:pt x="5960" y="10800"/>
                </a:lnTo>
                <a:lnTo>
                  <a:pt x="5960" y="17989"/>
                </a:lnTo>
                <a:lnTo>
                  <a:pt x="10347" y="17989"/>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Tree>
  </p:cSld>
  <p:transition spd="slow">
    <p:wheel spokes="1"/>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91" name="Dikdörtgen 4" descr=""/>
          <p:cNvPicPr/>
          <p:nvPr/>
        </p:nvPicPr>
        <p:blipFill>
          <a:blip r:embed="rId2"/>
          <a:stretch/>
        </p:blipFill>
        <p:spPr>
          <a:xfrm>
            <a:off x="2011320" y="60480"/>
            <a:ext cx="5114880" cy="1152360"/>
          </a:xfrm>
          <a:prstGeom prst="rect">
            <a:avLst/>
          </a:prstGeom>
          <a:ln w="0">
            <a:noFill/>
          </a:ln>
        </p:spPr>
      </p:pic>
      <p:sp>
        <p:nvSpPr>
          <p:cNvPr id="692" name="Dikdörtgen 5"/>
          <p:cNvSpPr/>
          <p:nvPr/>
        </p:nvSpPr>
        <p:spPr>
          <a:xfrm>
            <a:off x="324000" y="1268280"/>
            <a:ext cx="84960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388c"/>
                </a:solidFill>
                <a:latin typeface="Verdana"/>
              </a:rPr>
              <a:t>Belli bir düşünceyi aşılamak ya da belli bir konuda öğüt, bilgi vermek, ahlaki bir ders çıkarmak amacıyla öğretici</a:t>
            </a:r>
            <a:r>
              <a:rPr b="0" lang="tr-TR" sz="2800" spc="-1" strike="noStrike">
                <a:solidFill>
                  <a:srgbClr val="000000"/>
                </a:solidFill>
                <a:latin typeface="Verdana"/>
              </a:rPr>
              <a:t> nitelikte yazılan, duygu yönü zayıf şiir türüdür.</a:t>
            </a:r>
            <a:endParaRPr b="0" lang="en-US" sz="28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Verdana"/>
              </a:rPr>
              <a:t> </a:t>
            </a:r>
            <a:r>
              <a:rPr b="0" lang="tr-TR" sz="2800" spc="-1" strike="noStrike">
                <a:solidFill>
                  <a:srgbClr val="000000"/>
                </a:solidFill>
                <a:latin typeface="Verdana"/>
              </a:rPr>
              <a:t>Eski çağlarda ozanların eğitici öğretici bir kişi olduğu kabul ediliyordu. Eski Yunan edebiyatında HESİODOS bu türün ilk örneklerini vermiştir.</a:t>
            </a:r>
            <a:endParaRPr b="0" lang="en-US" sz="28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Verdana"/>
              </a:rPr>
              <a:t>Türk edebiyatında "ta'limî" terimi de aynı anlamda kullanılmıştır. Manzum hikâyeler ve fabllar da bu gruba girer. </a:t>
            </a:r>
            <a:endParaRPr b="0" lang="en-US" sz="28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ndara"/>
            </a:endParaRPr>
          </a:p>
        </p:txBody>
      </p:sp>
      <p:sp>
        <p:nvSpPr>
          <p:cNvPr id="693" name="">
            <a:hlinkClick r:id="" action="ppaction://hlinkshowjump?jump=previousslide"/>
          </p:cNvPr>
          <p:cNvSpPr/>
          <p:nvPr/>
        </p:nvSpPr>
        <p:spPr>
          <a:xfrm>
            <a:off x="0" y="6219720"/>
            <a:ext cx="649440" cy="638280"/>
          </a:xfrm>
          <a:custGeom>
            <a:avLst/>
            <a:gdLst>
              <a:gd name="textAreaLeft" fmla="*/ 41040 w 649440"/>
              <a:gd name="textAreaRight" fmla="*/ 608400 w 649440"/>
              <a:gd name="textAreaTop" fmla="*/ 41040 h 638280"/>
              <a:gd name="textAreaBottom" fmla="*/ 597240 h 638280"/>
            </a:gdLst>
            <a:ahLst/>
            <a:rect l="textAreaLeft" t="textAreaTop" r="textAreaRight" b="textAreaBottom"/>
            <a:pathLst>
              <a:path w="21977" h="21600">
                <a:moveTo>
                  <a:pt x="0" y="0"/>
                </a:moveTo>
                <a:lnTo>
                  <a:pt x="21977" y="0"/>
                </a:lnTo>
                <a:lnTo>
                  <a:pt x="21977" y="21600"/>
                </a:lnTo>
                <a:lnTo>
                  <a:pt x="0" y="21600"/>
                </a:lnTo>
                <a:close/>
              </a:path>
              <a:path fill="lightenLess" w="21977" h="21600">
                <a:moveTo>
                  <a:pt x="0" y="0"/>
                </a:moveTo>
                <a:lnTo>
                  <a:pt x="21977" y="0"/>
                </a:lnTo>
                <a:lnTo>
                  <a:pt x="20577" y="1400"/>
                </a:lnTo>
                <a:lnTo>
                  <a:pt x="1400" y="1400"/>
                </a:lnTo>
                <a:close/>
              </a:path>
              <a:path fill="darken" w="21977" h="21600">
                <a:moveTo>
                  <a:pt x="21977" y="0"/>
                </a:moveTo>
                <a:lnTo>
                  <a:pt x="21977" y="21600"/>
                </a:lnTo>
                <a:lnTo>
                  <a:pt x="20577" y="20200"/>
                </a:lnTo>
                <a:lnTo>
                  <a:pt x="20577" y="1400"/>
                </a:lnTo>
                <a:close/>
              </a:path>
              <a:path fill="darkenLess" w="21977" h="21600">
                <a:moveTo>
                  <a:pt x="21977" y="21600"/>
                </a:moveTo>
                <a:lnTo>
                  <a:pt x="0" y="21600"/>
                </a:lnTo>
                <a:lnTo>
                  <a:pt x="1400" y="20200"/>
                </a:lnTo>
                <a:lnTo>
                  <a:pt x="20577" y="20200"/>
                </a:lnTo>
                <a:close/>
              </a:path>
              <a:path fill="lighten" w="21977" h="21600">
                <a:moveTo>
                  <a:pt x="0" y="21600"/>
                </a:moveTo>
                <a:lnTo>
                  <a:pt x="0" y="0"/>
                </a:lnTo>
                <a:lnTo>
                  <a:pt x="1400" y="1400"/>
                </a:lnTo>
                <a:lnTo>
                  <a:pt x="1400" y="20200"/>
                </a:lnTo>
                <a:close/>
              </a:path>
              <a:path fill="darken" w="21977" h="21600">
                <a:moveTo>
                  <a:pt x="3982" y="10800"/>
                </a:moveTo>
                <a:lnTo>
                  <a:pt x="17995" y="3794"/>
                </a:lnTo>
                <a:lnTo>
                  <a:pt x="17995"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694" name="">
            <a:hlinkClick r:id="" action="ppaction://hlinkshowjump?jump=nextslide"/>
          </p:cNvPr>
          <p:cNvSpPr/>
          <p:nvPr/>
        </p:nvSpPr>
        <p:spPr>
          <a:xfrm>
            <a:off x="125892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4263" y="3794"/>
                </a:moveTo>
                <a:lnTo>
                  <a:pt x="18276" y="10800"/>
                </a:lnTo>
                <a:lnTo>
                  <a:pt x="4263"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695" name="">
            <a:hlinkClick r:id="" action="ppaction://hlinkshowjump?jump=firstslide"/>
          </p:cNvPr>
          <p:cNvSpPr/>
          <p:nvPr/>
        </p:nvSpPr>
        <p:spPr>
          <a:xfrm>
            <a:off x="61128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11270" y="3837"/>
                </a:moveTo>
                <a:lnTo>
                  <a:pt x="13846" y="6448"/>
                </a:lnTo>
                <a:lnTo>
                  <a:pt x="13846" y="4707"/>
                </a:lnTo>
                <a:lnTo>
                  <a:pt x="15621" y="4707"/>
                </a:lnTo>
                <a:lnTo>
                  <a:pt x="15621" y="8224"/>
                </a:lnTo>
                <a:lnTo>
                  <a:pt x="18233" y="10800"/>
                </a:lnTo>
                <a:lnTo>
                  <a:pt x="16579" y="10800"/>
                </a:lnTo>
                <a:lnTo>
                  <a:pt x="16579" y="17989"/>
                </a:lnTo>
                <a:lnTo>
                  <a:pt x="5960" y="17989"/>
                </a:lnTo>
                <a:lnTo>
                  <a:pt x="5960" y="10800"/>
                </a:lnTo>
                <a:lnTo>
                  <a:pt x="4307" y="10800"/>
                </a:lnTo>
                <a:close/>
              </a:path>
              <a:path fill="darkenLess" w="22539" h="21600">
                <a:moveTo>
                  <a:pt x="13846" y="6448"/>
                </a:moveTo>
                <a:lnTo>
                  <a:pt x="13846" y="4707"/>
                </a:lnTo>
                <a:lnTo>
                  <a:pt x="15621" y="4707"/>
                </a:lnTo>
                <a:lnTo>
                  <a:pt x="15621" y="8224"/>
                </a:lnTo>
                <a:close/>
              </a:path>
              <a:path fill="darkenLess" w="22539" h="21600">
                <a:moveTo>
                  <a:pt x="10347" y="14299"/>
                </a:moveTo>
                <a:lnTo>
                  <a:pt x="12192" y="14299"/>
                </a:lnTo>
                <a:lnTo>
                  <a:pt x="12192" y="17989"/>
                </a:lnTo>
                <a:lnTo>
                  <a:pt x="16579" y="17989"/>
                </a:lnTo>
                <a:lnTo>
                  <a:pt x="16579" y="10800"/>
                </a:lnTo>
                <a:lnTo>
                  <a:pt x="5960" y="10800"/>
                </a:lnTo>
                <a:lnTo>
                  <a:pt x="5960" y="17989"/>
                </a:lnTo>
                <a:lnTo>
                  <a:pt x="10347" y="17989"/>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Tree>
  </p:cSld>
  <p:transition spd="slow">
    <p:wheel spokes="1"/>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6" name="Dikdörtgen 3"/>
          <p:cNvSpPr/>
          <p:nvPr/>
        </p:nvSpPr>
        <p:spPr>
          <a:xfrm>
            <a:off x="504720" y="260280"/>
            <a:ext cx="4572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697" name=""/>
          <p:cNvSpPr/>
          <p:nvPr/>
        </p:nvSpPr>
        <p:spPr>
          <a:xfrm>
            <a:off x="2050920" y="549360"/>
            <a:ext cx="532944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151515"/>
                </a:solidFill>
                <a:latin typeface="Arial"/>
              </a:rPr>
              <a:t>KARGA İLE TİLKİ</a:t>
            </a:r>
            <a:endParaRPr b="0" lang="en-US" sz="2400" spc="-1" strike="noStrike">
              <a:solidFill>
                <a:srgbClr val="ffffff"/>
              </a:solidFill>
              <a:latin typeface="Canda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Bir dala konmuştu karga cenapları;</a:t>
            </a:r>
            <a:endParaRPr b="0" lang="en-US" sz="24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Ağzında bir parça peynir vardı.</a:t>
            </a:r>
            <a:endParaRPr b="0" lang="en-US" sz="24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Sayın tilki kokuyu almış olmalı;</a:t>
            </a:r>
            <a:endParaRPr b="0" lang="en-US" sz="24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Ona nağme yapmaya başladı:</a:t>
            </a:r>
            <a:endParaRPr b="0" lang="en-US" sz="24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Ooooo! Karga cenapları, merhaba!</a:t>
            </a:r>
            <a:endParaRPr b="0" lang="en-US" sz="24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Ne kadar güzelsiniz; ne kadar şirinsiniz</a:t>
            </a:r>
            <a:endParaRPr b="0" lang="en-US" sz="24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Gözüm kör olsun yalanım varsa</a:t>
            </a:r>
            <a:endParaRPr b="0" lang="en-US" sz="24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Tüyleriniz gibiyse sesiniz</a:t>
            </a:r>
            <a:endParaRPr b="0" lang="en-US" sz="24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Sultanı sayılırsınız bütün bu ormanın."</a:t>
            </a:r>
            <a:endParaRPr b="0" lang="en-US" sz="2400" spc="-1" strike="noStrike">
              <a:solidFill>
                <a:srgbClr val="ffffff"/>
              </a:solidFill>
              <a:latin typeface="Candara"/>
            </a:endParaRPr>
          </a:p>
        </p:txBody>
      </p:sp>
      <p:pic>
        <p:nvPicPr>
          <p:cNvPr id="698" name="" descr=""/>
          <p:cNvPicPr/>
          <p:nvPr/>
        </p:nvPicPr>
        <p:blipFill>
          <a:blip r:embed="rId2"/>
          <a:stretch/>
        </p:blipFill>
        <p:spPr>
          <a:xfrm>
            <a:off x="8172360" y="5950080"/>
            <a:ext cx="304920" cy="304560"/>
          </a:xfrm>
          <a:prstGeom prst="rect">
            <a:avLst/>
          </a:prstGeom>
          <a:ln w="0">
            <a:noFill/>
          </a:ln>
        </p:spPr>
      </p:pic>
      <p:sp>
        <p:nvSpPr>
          <p:cNvPr id="699" name="">
            <a:hlinkClick r:id="" action="ppaction://hlinkshowjump?jump=previousslide"/>
          </p:cNvPr>
          <p:cNvSpPr/>
          <p:nvPr/>
        </p:nvSpPr>
        <p:spPr>
          <a:xfrm>
            <a:off x="0" y="6219720"/>
            <a:ext cx="649440" cy="638280"/>
          </a:xfrm>
          <a:custGeom>
            <a:avLst/>
            <a:gdLst>
              <a:gd name="textAreaLeft" fmla="*/ 41040 w 649440"/>
              <a:gd name="textAreaRight" fmla="*/ 608400 w 649440"/>
              <a:gd name="textAreaTop" fmla="*/ 41040 h 638280"/>
              <a:gd name="textAreaBottom" fmla="*/ 597240 h 638280"/>
            </a:gdLst>
            <a:ahLst/>
            <a:rect l="textAreaLeft" t="textAreaTop" r="textAreaRight" b="textAreaBottom"/>
            <a:pathLst>
              <a:path w="21977" h="21600">
                <a:moveTo>
                  <a:pt x="0" y="0"/>
                </a:moveTo>
                <a:lnTo>
                  <a:pt x="21977" y="0"/>
                </a:lnTo>
                <a:lnTo>
                  <a:pt x="21977" y="21600"/>
                </a:lnTo>
                <a:lnTo>
                  <a:pt x="0" y="21600"/>
                </a:lnTo>
                <a:close/>
              </a:path>
              <a:path fill="lightenLess" w="21977" h="21600">
                <a:moveTo>
                  <a:pt x="0" y="0"/>
                </a:moveTo>
                <a:lnTo>
                  <a:pt x="21977" y="0"/>
                </a:lnTo>
                <a:lnTo>
                  <a:pt x="20577" y="1400"/>
                </a:lnTo>
                <a:lnTo>
                  <a:pt x="1400" y="1400"/>
                </a:lnTo>
                <a:close/>
              </a:path>
              <a:path fill="darken" w="21977" h="21600">
                <a:moveTo>
                  <a:pt x="21977" y="0"/>
                </a:moveTo>
                <a:lnTo>
                  <a:pt x="21977" y="21600"/>
                </a:lnTo>
                <a:lnTo>
                  <a:pt x="20577" y="20200"/>
                </a:lnTo>
                <a:lnTo>
                  <a:pt x="20577" y="1400"/>
                </a:lnTo>
                <a:close/>
              </a:path>
              <a:path fill="darkenLess" w="21977" h="21600">
                <a:moveTo>
                  <a:pt x="21977" y="21600"/>
                </a:moveTo>
                <a:lnTo>
                  <a:pt x="0" y="21600"/>
                </a:lnTo>
                <a:lnTo>
                  <a:pt x="1400" y="20200"/>
                </a:lnTo>
                <a:lnTo>
                  <a:pt x="20577" y="20200"/>
                </a:lnTo>
                <a:close/>
              </a:path>
              <a:path fill="lighten" w="21977" h="21600">
                <a:moveTo>
                  <a:pt x="0" y="21600"/>
                </a:moveTo>
                <a:lnTo>
                  <a:pt x="0" y="0"/>
                </a:lnTo>
                <a:lnTo>
                  <a:pt x="1400" y="1400"/>
                </a:lnTo>
                <a:lnTo>
                  <a:pt x="1400" y="20200"/>
                </a:lnTo>
                <a:close/>
              </a:path>
              <a:path fill="darken" w="21977" h="21600">
                <a:moveTo>
                  <a:pt x="3982" y="10800"/>
                </a:moveTo>
                <a:lnTo>
                  <a:pt x="17995" y="3794"/>
                </a:lnTo>
                <a:lnTo>
                  <a:pt x="17995"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700" name="">
            <a:hlinkClick r:id="" action="ppaction://hlinkshowjump?jump=nextslide"/>
          </p:cNvPr>
          <p:cNvSpPr/>
          <p:nvPr/>
        </p:nvSpPr>
        <p:spPr>
          <a:xfrm>
            <a:off x="125892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4263" y="3794"/>
                </a:moveTo>
                <a:lnTo>
                  <a:pt x="18276" y="10800"/>
                </a:lnTo>
                <a:lnTo>
                  <a:pt x="4263"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701" name="">
            <a:hlinkClick r:id="" action="ppaction://hlinkshowjump?jump=firstslide"/>
          </p:cNvPr>
          <p:cNvSpPr/>
          <p:nvPr/>
        </p:nvSpPr>
        <p:spPr>
          <a:xfrm>
            <a:off x="61128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11270" y="3837"/>
                </a:moveTo>
                <a:lnTo>
                  <a:pt x="13846" y="6448"/>
                </a:lnTo>
                <a:lnTo>
                  <a:pt x="13846" y="4707"/>
                </a:lnTo>
                <a:lnTo>
                  <a:pt x="15621" y="4707"/>
                </a:lnTo>
                <a:lnTo>
                  <a:pt x="15621" y="8224"/>
                </a:lnTo>
                <a:lnTo>
                  <a:pt x="18233" y="10800"/>
                </a:lnTo>
                <a:lnTo>
                  <a:pt x="16579" y="10800"/>
                </a:lnTo>
                <a:lnTo>
                  <a:pt x="16579" y="17989"/>
                </a:lnTo>
                <a:lnTo>
                  <a:pt x="5960" y="17989"/>
                </a:lnTo>
                <a:lnTo>
                  <a:pt x="5960" y="10800"/>
                </a:lnTo>
                <a:lnTo>
                  <a:pt x="4307" y="10800"/>
                </a:lnTo>
                <a:close/>
              </a:path>
              <a:path fill="darkenLess" w="22539" h="21600">
                <a:moveTo>
                  <a:pt x="13846" y="6448"/>
                </a:moveTo>
                <a:lnTo>
                  <a:pt x="13846" y="4707"/>
                </a:lnTo>
                <a:lnTo>
                  <a:pt x="15621" y="4707"/>
                </a:lnTo>
                <a:lnTo>
                  <a:pt x="15621" y="8224"/>
                </a:lnTo>
                <a:close/>
              </a:path>
              <a:path fill="darkenLess" w="22539" h="21600">
                <a:moveTo>
                  <a:pt x="10347" y="14299"/>
                </a:moveTo>
                <a:lnTo>
                  <a:pt x="12192" y="14299"/>
                </a:lnTo>
                <a:lnTo>
                  <a:pt x="12192" y="17989"/>
                </a:lnTo>
                <a:lnTo>
                  <a:pt x="16579" y="17989"/>
                </a:lnTo>
                <a:lnTo>
                  <a:pt x="16579" y="10800"/>
                </a:lnTo>
                <a:lnTo>
                  <a:pt x="5960" y="10800"/>
                </a:lnTo>
                <a:lnTo>
                  <a:pt x="5960" y="17989"/>
                </a:lnTo>
                <a:lnTo>
                  <a:pt x="10347" y="17989"/>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Tree>
  </p:cSld>
  <p:transition spd="slow">
    <p:wheel spokes="1"/>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1" fill="hold"/>
                                        <p:tgtEl>
                                          <p:spTgt spid="6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702" name=""/>
          <p:cNvSpPr/>
          <p:nvPr/>
        </p:nvSpPr>
        <p:spPr>
          <a:xfrm>
            <a:off x="1943280" y="4869000"/>
            <a:ext cx="7200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703" name=""/>
          <p:cNvSpPr/>
          <p:nvPr/>
        </p:nvSpPr>
        <p:spPr>
          <a:xfrm>
            <a:off x="1547640" y="260280"/>
            <a:ext cx="6121440" cy="619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Verdana"/>
              </a:rPr>
              <a:t>Göstermek için güzel sesini</a:t>
            </a:r>
            <a:endParaRPr b="0" lang="en-US" sz="28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Verdana"/>
              </a:rPr>
              <a:t>Açınca ağzını düşürdü nevâlesini.</a:t>
            </a:r>
            <a:endParaRPr b="0" lang="en-US" sz="28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Verdana"/>
              </a:rPr>
              <a:t>Tilki kapıp onu dedi ki: "Efendiciğim,</a:t>
            </a:r>
            <a:endParaRPr b="0" lang="en-US" sz="28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Verdana"/>
              </a:rPr>
              <a:t>Size küçük bir ders vereceğim;</a:t>
            </a:r>
            <a:endParaRPr b="0" lang="en-US" sz="28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Verdana"/>
              </a:rPr>
              <a:t>Alıklar olmasa iş kalmaz açık gözlere;</a:t>
            </a:r>
            <a:endParaRPr b="0" lang="en-US" sz="28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Verdana"/>
              </a:rPr>
              <a:t>Böyle bir ders de değer sanırım bir peynire"</a:t>
            </a:r>
            <a:endParaRPr b="0" lang="en-US" sz="28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Verdana"/>
              </a:rPr>
              <a:t>Karga şaşkın, mahcup biraz da geç ama,</a:t>
            </a:r>
            <a:endParaRPr b="0" lang="en-US" sz="28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Verdana"/>
              </a:rPr>
              <a:t>Yemin etti gayrı faka basmayacağına</a:t>
            </a:r>
            <a:r>
              <a:rPr b="0" lang="tr-TR" sz="2400" spc="-1" strike="noStrike">
                <a:solidFill>
                  <a:srgbClr val="ffffff"/>
                </a:solidFill>
                <a:latin typeface="Arial"/>
              </a:rPr>
              <a:t>. </a:t>
            </a:r>
            <a:endParaRPr b="0" lang="en-US" sz="2400" spc="-1" strike="noStrike">
              <a:solidFill>
                <a:srgbClr val="ffffff"/>
              </a:solidFill>
              <a:latin typeface="Candara"/>
            </a:endParaRPr>
          </a:p>
          <a:p>
            <a:pPr>
              <a:lnSpc>
                <a:spcPct val="100000"/>
              </a:lnSpc>
              <a:spcBef>
                <a:spcPts val="15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ndara"/>
            </a:endParaRPr>
          </a:p>
        </p:txBody>
      </p:sp>
      <p:sp>
        <p:nvSpPr>
          <p:cNvPr id="704" name="">
            <a:hlinkClick r:id="" action="ppaction://hlinkshowjump?jump=previousslide"/>
          </p:cNvPr>
          <p:cNvSpPr/>
          <p:nvPr/>
        </p:nvSpPr>
        <p:spPr>
          <a:xfrm>
            <a:off x="0" y="6219720"/>
            <a:ext cx="649440" cy="638280"/>
          </a:xfrm>
          <a:custGeom>
            <a:avLst/>
            <a:gdLst>
              <a:gd name="textAreaLeft" fmla="*/ 41040 w 649440"/>
              <a:gd name="textAreaRight" fmla="*/ 608400 w 649440"/>
              <a:gd name="textAreaTop" fmla="*/ 41040 h 638280"/>
              <a:gd name="textAreaBottom" fmla="*/ 597240 h 638280"/>
            </a:gdLst>
            <a:ahLst/>
            <a:rect l="textAreaLeft" t="textAreaTop" r="textAreaRight" b="textAreaBottom"/>
            <a:pathLst>
              <a:path w="21977" h="21600">
                <a:moveTo>
                  <a:pt x="0" y="0"/>
                </a:moveTo>
                <a:lnTo>
                  <a:pt x="21977" y="0"/>
                </a:lnTo>
                <a:lnTo>
                  <a:pt x="21977" y="21600"/>
                </a:lnTo>
                <a:lnTo>
                  <a:pt x="0" y="21600"/>
                </a:lnTo>
                <a:close/>
              </a:path>
              <a:path fill="lightenLess" w="21977" h="21600">
                <a:moveTo>
                  <a:pt x="0" y="0"/>
                </a:moveTo>
                <a:lnTo>
                  <a:pt x="21977" y="0"/>
                </a:lnTo>
                <a:lnTo>
                  <a:pt x="20577" y="1400"/>
                </a:lnTo>
                <a:lnTo>
                  <a:pt x="1400" y="1400"/>
                </a:lnTo>
                <a:close/>
              </a:path>
              <a:path fill="darken" w="21977" h="21600">
                <a:moveTo>
                  <a:pt x="21977" y="0"/>
                </a:moveTo>
                <a:lnTo>
                  <a:pt x="21977" y="21600"/>
                </a:lnTo>
                <a:lnTo>
                  <a:pt x="20577" y="20200"/>
                </a:lnTo>
                <a:lnTo>
                  <a:pt x="20577" y="1400"/>
                </a:lnTo>
                <a:close/>
              </a:path>
              <a:path fill="darkenLess" w="21977" h="21600">
                <a:moveTo>
                  <a:pt x="21977" y="21600"/>
                </a:moveTo>
                <a:lnTo>
                  <a:pt x="0" y="21600"/>
                </a:lnTo>
                <a:lnTo>
                  <a:pt x="1400" y="20200"/>
                </a:lnTo>
                <a:lnTo>
                  <a:pt x="20577" y="20200"/>
                </a:lnTo>
                <a:close/>
              </a:path>
              <a:path fill="lighten" w="21977" h="21600">
                <a:moveTo>
                  <a:pt x="0" y="21600"/>
                </a:moveTo>
                <a:lnTo>
                  <a:pt x="0" y="0"/>
                </a:lnTo>
                <a:lnTo>
                  <a:pt x="1400" y="1400"/>
                </a:lnTo>
                <a:lnTo>
                  <a:pt x="1400" y="20200"/>
                </a:lnTo>
                <a:close/>
              </a:path>
              <a:path fill="darken" w="21977" h="21600">
                <a:moveTo>
                  <a:pt x="3982" y="10800"/>
                </a:moveTo>
                <a:lnTo>
                  <a:pt x="17995" y="3794"/>
                </a:lnTo>
                <a:lnTo>
                  <a:pt x="17995"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705" name="">
            <a:hlinkClick r:id="" action="ppaction://hlinkshowjump?jump=nextslide"/>
          </p:cNvPr>
          <p:cNvSpPr/>
          <p:nvPr/>
        </p:nvSpPr>
        <p:spPr>
          <a:xfrm>
            <a:off x="125892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4263" y="3794"/>
                </a:moveTo>
                <a:lnTo>
                  <a:pt x="18276" y="10800"/>
                </a:lnTo>
                <a:lnTo>
                  <a:pt x="4263"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706" name="">
            <a:hlinkClick r:id="" action="ppaction://hlinkshowjump?jump=firstslide"/>
          </p:cNvPr>
          <p:cNvSpPr/>
          <p:nvPr/>
        </p:nvSpPr>
        <p:spPr>
          <a:xfrm>
            <a:off x="61128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11270" y="3837"/>
                </a:moveTo>
                <a:lnTo>
                  <a:pt x="13846" y="6448"/>
                </a:lnTo>
                <a:lnTo>
                  <a:pt x="13846" y="4707"/>
                </a:lnTo>
                <a:lnTo>
                  <a:pt x="15621" y="4707"/>
                </a:lnTo>
                <a:lnTo>
                  <a:pt x="15621" y="8224"/>
                </a:lnTo>
                <a:lnTo>
                  <a:pt x="18233" y="10800"/>
                </a:lnTo>
                <a:lnTo>
                  <a:pt x="16579" y="10800"/>
                </a:lnTo>
                <a:lnTo>
                  <a:pt x="16579" y="17989"/>
                </a:lnTo>
                <a:lnTo>
                  <a:pt x="5960" y="17989"/>
                </a:lnTo>
                <a:lnTo>
                  <a:pt x="5960" y="10800"/>
                </a:lnTo>
                <a:lnTo>
                  <a:pt x="4307" y="10800"/>
                </a:lnTo>
                <a:close/>
              </a:path>
              <a:path fill="darkenLess" w="22539" h="21600">
                <a:moveTo>
                  <a:pt x="13846" y="6448"/>
                </a:moveTo>
                <a:lnTo>
                  <a:pt x="13846" y="4707"/>
                </a:lnTo>
                <a:lnTo>
                  <a:pt x="15621" y="4707"/>
                </a:lnTo>
                <a:lnTo>
                  <a:pt x="15621" y="8224"/>
                </a:lnTo>
                <a:close/>
              </a:path>
              <a:path fill="darkenLess" w="22539" h="21600">
                <a:moveTo>
                  <a:pt x="10347" y="14299"/>
                </a:moveTo>
                <a:lnTo>
                  <a:pt x="12192" y="14299"/>
                </a:lnTo>
                <a:lnTo>
                  <a:pt x="12192" y="17989"/>
                </a:lnTo>
                <a:lnTo>
                  <a:pt x="16579" y="17989"/>
                </a:lnTo>
                <a:lnTo>
                  <a:pt x="16579" y="10800"/>
                </a:lnTo>
                <a:lnTo>
                  <a:pt x="5960" y="10800"/>
                </a:lnTo>
                <a:lnTo>
                  <a:pt x="5960" y="17989"/>
                </a:lnTo>
                <a:lnTo>
                  <a:pt x="10347" y="17989"/>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Tree>
  </p:cSld>
  <p:transition spd="slow">
    <p:wheel spokes="1"/>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7" name="Dikdörtgen 3"/>
          <p:cNvSpPr/>
          <p:nvPr/>
        </p:nvSpPr>
        <p:spPr>
          <a:xfrm>
            <a:off x="1979640" y="1700280"/>
            <a:ext cx="4572000" cy="329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Şunlar ki çoktur malları</a:t>
            </a:r>
            <a:endParaRPr b="0" lang="en-US" sz="3000" spc="-1" strike="noStrike">
              <a:solidFill>
                <a:srgbClr val="ffffff"/>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Gör nice oldu halleri </a:t>
            </a:r>
            <a:endParaRPr b="0" lang="en-US" sz="3000" spc="-1" strike="noStrike">
              <a:solidFill>
                <a:srgbClr val="ffffff"/>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Sonucu bir gömlek imiş</a:t>
            </a:r>
            <a:endParaRPr b="0" lang="en-US" sz="3000" spc="-1" strike="noStrike">
              <a:solidFill>
                <a:srgbClr val="ffffff"/>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Anında yoktur yenleri </a:t>
            </a:r>
            <a:endParaRPr b="0" lang="en-US" sz="3000" spc="-1" strike="noStrike">
              <a:solidFill>
                <a:srgbClr val="ffffff"/>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                       </a:t>
            </a:r>
            <a:r>
              <a:rPr b="0" lang="en-US" sz="3000" spc="-1" strike="noStrike">
                <a:solidFill>
                  <a:srgbClr val="000000"/>
                </a:solidFill>
                <a:latin typeface="Candara"/>
              </a:rPr>
              <a:t>( Yunus EMRE</a:t>
            </a:r>
            <a:r>
              <a:rPr b="0" lang="en-US" sz="3000" spc="-1" strike="noStrike">
                <a:solidFill>
                  <a:srgbClr val="ffffff"/>
                </a:solidFill>
                <a:latin typeface="Candara"/>
              </a:rPr>
              <a:t> </a:t>
            </a:r>
            <a:r>
              <a:rPr b="0" lang="en-US" sz="3000" spc="-1" strike="noStrike">
                <a:solidFill>
                  <a:srgbClr val="000000"/>
                </a:solidFill>
                <a:latin typeface="Candara"/>
              </a:rPr>
              <a:t>)</a:t>
            </a:r>
            <a:endParaRPr b="0" lang="en-US" sz="3000" spc="-1" strike="noStrike">
              <a:solidFill>
                <a:srgbClr val="ffffff"/>
              </a:solidFill>
              <a:latin typeface="Candara"/>
            </a:endParaRPr>
          </a:p>
        </p:txBody>
      </p:sp>
      <p:sp>
        <p:nvSpPr>
          <p:cNvPr id="708" name="">
            <a:hlinkClick r:id="" action="ppaction://hlinkshowjump?jump=previousslide"/>
          </p:cNvPr>
          <p:cNvSpPr/>
          <p:nvPr/>
        </p:nvSpPr>
        <p:spPr>
          <a:xfrm>
            <a:off x="0" y="6219720"/>
            <a:ext cx="649440" cy="638280"/>
          </a:xfrm>
          <a:custGeom>
            <a:avLst/>
            <a:gdLst>
              <a:gd name="textAreaLeft" fmla="*/ 41040 w 649440"/>
              <a:gd name="textAreaRight" fmla="*/ 608400 w 649440"/>
              <a:gd name="textAreaTop" fmla="*/ 41040 h 638280"/>
              <a:gd name="textAreaBottom" fmla="*/ 597240 h 638280"/>
            </a:gdLst>
            <a:ahLst/>
            <a:rect l="textAreaLeft" t="textAreaTop" r="textAreaRight" b="textAreaBottom"/>
            <a:pathLst>
              <a:path w="21977" h="21600">
                <a:moveTo>
                  <a:pt x="0" y="0"/>
                </a:moveTo>
                <a:lnTo>
                  <a:pt x="21977" y="0"/>
                </a:lnTo>
                <a:lnTo>
                  <a:pt x="21977" y="21600"/>
                </a:lnTo>
                <a:lnTo>
                  <a:pt x="0" y="21600"/>
                </a:lnTo>
                <a:close/>
              </a:path>
              <a:path fill="lightenLess" w="21977" h="21600">
                <a:moveTo>
                  <a:pt x="0" y="0"/>
                </a:moveTo>
                <a:lnTo>
                  <a:pt x="21977" y="0"/>
                </a:lnTo>
                <a:lnTo>
                  <a:pt x="20577" y="1400"/>
                </a:lnTo>
                <a:lnTo>
                  <a:pt x="1400" y="1400"/>
                </a:lnTo>
                <a:close/>
              </a:path>
              <a:path fill="darken" w="21977" h="21600">
                <a:moveTo>
                  <a:pt x="21977" y="0"/>
                </a:moveTo>
                <a:lnTo>
                  <a:pt x="21977" y="21600"/>
                </a:lnTo>
                <a:lnTo>
                  <a:pt x="20577" y="20200"/>
                </a:lnTo>
                <a:lnTo>
                  <a:pt x="20577" y="1400"/>
                </a:lnTo>
                <a:close/>
              </a:path>
              <a:path fill="darkenLess" w="21977" h="21600">
                <a:moveTo>
                  <a:pt x="21977" y="21600"/>
                </a:moveTo>
                <a:lnTo>
                  <a:pt x="0" y="21600"/>
                </a:lnTo>
                <a:lnTo>
                  <a:pt x="1400" y="20200"/>
                </a:lnTo>
                <a:lnTo>
                  <a:pt x="20577" y="20200"/>
                </a:lnTo>
                <a:close/>
              </a:path>
              <a:path fill="lighten" w="21977" h="21600">
                <a:moveTo>
                  <a:pt x="0" y="21600"/>
                </a:moveTo>
                <a:lnTo>
                  <a:pt x="0" y="0"/>
                </a:lnTo>
                <a:lnTo>
                  <a:pt x="1400" y="1400"/>
                </a:lnTo>
                <a:lnTo>
                  <a:pt x="1400" y="20200"/>
                </a:lnTo>
                <a:close/>
              </a:path>
              <a:path fill="darken" w="21977" h="21600">
                <a:moveTo>
                  <a:pt x="3982" y="10800"/>
                </a:moveTo>
                <a:lnTo>
                  <a:pt x="17995" y="3794"/>
                </a:lnTo>
                <a:lnTo>
                  <a:pt x="17995"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709" name="">
            <a:hlinkClick r:id="" action="ppaction://hlinkshowjump?jump=nextslide"/>
          </p:cNvPr>
          <p:cNvSpPr/>
          <p:nvPr/>
        </p:nvSpPr>
        <p:spPr>
          <a:xfrm>
            <a:off x="125892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4263" y="3794"/>
                </a:moveTo>
                <a:lnTo>
                  <a:pt x="18276" y="10800"/>
                </a:lnTo>
                <a:lnTo>
                  <a:pt x="4263"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710" name="">
            <a:hlinkClick r:id="" action="ppaction://hlinkshowjump?jump=firstslide"/>
          </p:cNvPr>
          <p:cNvSpPr/>
          <p:nvPr/>
        </p:nvSpPr>
        <p:spPr>
          <a:xfrm>
            <a:off x="61128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11270" y="3837"/>
                </a:moveTo>
                <a:lnTo>
                  <a:pt x="13846" y="6448"/>
                </a:lnTo>
                <a:lnTo>
                  <a:pt x="13846" y="4707"/>
                </a:lnTo>
                <a:lnTo>
                  <a:pt x="15621" y="4707"/>
                </a:lnTo>
                <a:lnTo>
                  <a:pt x="15621" y="8224"/>
                </a:lnTo>
                <a:lnTo>
                  <a:pt x="18233" y="10800"/>
                </a:lnTo>
                <a:lnTo>
                  <a:pt x="16579" y="10800"/>
                </a:lnTo>
                <a:lnTo>
                  <a:pt x="16579" y="17989"/>
                </a:lnTo>
                <a:lnTo>
                  <a:pt x="5960" y="17989"/>
                </a:lnTo>
                <a:lnTo>
                  <a:pt x="5960" y="10800"/>
                </a:lnTo>
                <a:lnTo>
                  <a:pt x="4307" y="10800"/>
                </a:lnTo>
                <a:close/>
              </a:path>
              <a:path fill="darkenLess" w="22539" h="21600">
                <a:moveTo>
                  <a:pt x="13846" y="6448"/>
                </a:moveTo>
                <a:lnTo>
                  <a:pt x="13846" y="4707"/>
                </a:lnTo>
                <a:lnTo>
                  <a:pt x="15621" y="4707"/>
                </a:lnTo>
                <a:lnTo>
                  <a:pt x="15621" y="8224"/>
                </a:lnTo>
                <a:close/>
              </a:path>
              <a:path fill="darkenLess" w="22539" h="21600">
                <a:moveTo>
                  <a:pt x="10347" y="14299"/>
                </a:moveTo>
                <a:lnTo>
                  <a:pt x="12192" y="14299"/>
                </a:lnTo>
                <a:lnTo>
                  <a:pt x="12192" y="17989"/>
                </a:lnTo>
                <a:lnTo>
                  <a:pt x="16579" y="17989"/>
                </a:lnTo>
                <a:lnTo>
                  <a:pt x="16579" y="10800"/>
                </a:lnTo>
                <a:lnTo>
                  <a:pt x="5960" y="10800"/>
                </a:lnTo>
                <a:lnTo>
                  <a:pt x="5960" y="17989"/>
                </a:lnTo>
                <a:lnTo>
                  <a:pt x="10347" y="17989"/>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Tree>
  </p:cSld>
  <p:transition spd="slow">
    <p:wheel spokes="1"/>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11" name="Dikdörtgen 3" descr=""/>
          <p:cNvPicPr/>
          <p:nvPr/>
        </p:nvPicPr>
        <p:blipFill>
          <a:blip r:embed="rId2"/>
          <a:stretch/>
        </p:blipFill>
        <p:spPr>
          <a:xfrm>
            <a:off x="2219400" y="201600"/>
            <a:ext cx="4687920" cy="1189080"/>
          </a:xfrm>
          <a:prstGeom prst="rect">
            <a:avLst/>
          </a:prstGeom>
          <a:ln w="0">
            <a:noFill/>
          </a:ln>
        </p:spPr>
      </p:pic>
      <p:sp>
        <p:nvSpPr>
          <p:cNvPr id="712" name="Dikdörtgen 4"/>
          <p:cNvSpPr/>
          <p:nvPr/>
        </p:nvSpPr>
        <p:spPr>
          <a:xfrm>
            <a:off x="611280" y="1996920"/>
            <a:ext cx="8532720" cy="439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0d0d"/>
                </a:solidFill>
                <a:latin typeface="Candara"/>
              </a:rPr>
              <a:t>  </a:t>
            </a:r>
            <a:r>
              <a:rPr b="0" lang="en-US" sz="2800" spc="-1" strike="noStrike">
                <a:solidFill>
                  <a:srgbClr val="0d0d0d"/>
                </a:solidFill>
                <a:latin typeface="Candara"/>
              </a:rPr>
              <a:t>Eleştirici bir anlatımı olan şiirlerdir. Bir kişi, olay, durum, iğneleyici sözlerle, alaylı ifadelerle eleştirilir. Bunlarda didaktik özellikler de görüldüğünden, didaktik şiir içinde de incelenebilir. Ancak açık bir eleştiri olduğundan ayrı bir sınıfa alınması </a:t>
            </a:r>
            <a:r>
              <a:rPr b="0" lang="en-US" sz="2800" spc="-1" strike="noStrike">
                <a:solidFill>
                  <a:srgbClr val="0d0d0d"/>
                </a:solidFill>
                <a:latin typeface="Verdana"/>
              </a:rPr>
              <a:t>daha</a:t>
            </a:r>
            <a:r>
              <a:rPr b="0" lang="en-US" sz="2800" spc="-1" strike="noStrike">
                <a:solidFill>
                  <a:srgbClr val="0d0d0d"/>
                </a:solidFill>
                <a:latin typeface="Candara"/>
              </a:rPr>
              <a:t> doğru olur. </a:t>
            </a:r>
            <a:r>
              <a:rPr b="0" lang="en-US" sz="2800" spc="-1" strike="noStrike">
                <a:solidFill>
                  <a:srgbClr val="ff5698"/>
                </a:solidFill>
                <a:latin typeface="Candara"/>
              </a:rPr>
              <a:t>Bu tür şiirlere Divan edebiyatında hiciv, Halk edebiyatında taşlama, yeni edebiyatımızda ise yergi verilir.</a:t>
            </a:r>
            <a:endParaRPr b="0" lang="en-US" sz="2800" spc="-1" strike="noStrike">
              <a:solidFill>
                <a:srgbClr val="ffffff"/>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ndara"/>
            </a:endParaRPr>
          </a:p>
        </p:txBody>
      </p:sp>
      <p:sp>
        <p:nvSpPr>
          <p:cNvPr id="713" name="">
            <a:hlinkClick r:id="" action="ppaction://hlinkshowjump?jump=previousslide"/>
          </p:cNvPr>
          <p:cNvSpPr/>
          <p:nvPr/>
        </p:nvSpPr>
        <p:spPr>
          <a:xfrm>
            <a:off x="0" y="6219720"/>
            <a:ext cx="649440" cy="638280"/>
          </a:xfrm>
          <a:custGeom>
            <a:avLst/>
            <a:gdLst>
              <a:gd name="textAreaLeft" fmla="*/ 41040 w 649440"/>
              <a:gd name="textAreaRight" fmla="*/ 608400 w 649440"/>
              <a:gd name="textAreaTop" fmla="*/ 41040 h 638280"/>
              <a:gd name="textAreaBottom" fmla="*/ 597240 h 638280"/>
            </a:gdLst>
            <a:ahLst/>
            <a:rect l="textAreaLeft" t="textAreaTop" r="textAreaRight" b="textAreaBottom"/>
            <a:pathLst>
              <a:path w="21977" h="21600">
                <a:moveTo>
                  <a:pt x="0" y="0"/>
                </a:moveTo>
                <a:lnTo>
                  <a:pt x="21977" y="0"/>
                </a:lnTo>
                <a:lnTo>
                  <a:pt x="21977" y="21600"/>
                </a:lnTo>
                <a:lnTo>
                  <a:pt x="0" y="21600"/>
                </a:lnTo>
                <a:close/>
              </a:path>
              <a:path fill="lightenLess" w="21977" h="21600">
                <a:moveTo>
                  <a:pt x="0" y="0"/>
                </a:moveTo>
                <a:lnTo>
                  <a:pt x="21977" y="0"/>
                </a:lnTo>
                <a:lnTo>
                  <a:pt x="20577" y="1400"/>
                </a:lnTo>
                <a:lnTo>
                  <a:pt x="1400" y="1400"/>
                </a:lnTo>
                <a:close/>
              </a:path>
              <a:path fill="darken" w="21977" h="21600">
                <a:moveTo>
                  <a:pt x="21977" y="0"/>
                </a:moveTo>
                <a:lnTo>
                  <a:pt x="21977" y="21600"/>
                </a:lnTo>
                <a:lnTo>
                  <a:pt x="20577" y="20200"/>
                </a:lnTo>
                <a:lnTo>
                  <a:pt x="20577" y="1400"/>
                </a:lnTo>
                <a:close/>
              </a:path>
              <a:path fill="darkenLess" w="21977" h="21600">
                <a:moveTo>
                  <a:pt x="21977" y="21600"/>
                </a:moveTo>
                <a:lnTo>
                  <a:pt x="0" y="21600"/>
                </a:lnTo>
                <a:lnTo>
                  <a:pt x="1400" y="20200"/>
                </a:lnTo>
                <a:lnTo>
                  <a:pt x="20577" y="20200"/>
                </a:lnTo>
                <a:close/>
              </a:path>
              <a:path fill="lighten" w="21977" h="21600">
                <a:moveTo>
                  <a:pt x="0" y="21600"/>
                </a:moveTo>
                <a:lnTo>
                  <a:pt x="0" y="0"/>
                </a:lnTo>
                <a:lnTo>
                  <a:pt x="1400" y="1400"/>
                </a:lnTo>
                <a:lnTo>
                  <a:pt x="1400" y="20200"/>
                </a:lnTo>
                <a:close/>
              </a:path>
              <a:path fill="darken" w="21977" h="21600">
                <a:moveTo>
                  <a:pt x="3982" y="10800"/>
                </a:moveTo>
                <a:lnTo>
                  <a:pt x="17995" y="3794"/>
                </a:lnTo>
                <a:lnTo>
                  <a:pt x="17995"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714" name="">
            <a:hlinkClick r:id="" action="ppaction://hlinkshowjump?jump=nextslide"/>
          </p:cNvPr>
          <p:cNvSpPr/>
          <p:nvPr/>
        </p:nvSpPr>
        <p:spPr>
          <a:xfrm>
            <a:off x="125892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4263" y="3794"/>
                </a:moveTo>
                <a:lnTo>
                  <a:pt x="18276" y="10800"/>
                </a:lnTo>
                <a:lnTo>
                  <a:pt x="4263"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715" name="">
            <a:hlinkClick r:id="" action="ppaction://hlinkshowjump?jump=firstslide"/>
          </p:cNvPr>
          <p:cNvSpPr/>
          <p:nvPr/>
        </p:nvSpPr>
        <p:spPr>
          <a:xfrm>
            <a:off x="61128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11270" y="3837"/>
                </a:moveTo>
                <a:lnTo>
                  <a:pt x="13846" y="6448"/>
                </a:lnTo>
                <a:lnTo>
                  <a:pt x="13846" y="4707"/>
                </a:lnTo>
                <a:lnTo>
                  <a:pt x="15621" y="4707"/>
                </a:lnTo>
                <a:lnTo>
                  <a:pt x="15621" y="8224"/>
                </a:lnTo>
                <a:lnTo>
                  <a:pt x="18233" y="10800"/>
                </a:lnTo>
                <a:lnTo>
                  <a:pt x="16579" y="10800"/>
                </a:lnTo>
                <a:lnTo>
                  <a:pt x="16579" y="17989"/>
                </a:lnTo>
                <a:lnTo>
                  <a:pt x="5960" y="17989"/>
                </a:lnTo>
                <a:lnTo>
                  <a:pt x="5960" y="10800"/>
                </a:lnTo>
                <a:lnTo>
                  <a:pt x="4307" y="10800"/>
                </a:lnTo>
                <a:close/>
              </a:path>
              <a:path fill="darkenLess" w="22539" h="21600">
                <a:moveTo>
                  <a:pt x="13846" y="6448"/>
                </a:moveTo>
                <a:lnTo>
                  <a:pt x="13846" y="4707"/>
                </a:lnTo>
                <a:lnTo>
                  <a:pt x="15621" y="4707"/>
                </a:lnTo>
                <a:lnTo>
                  <a:pt x="15621" y="8224"/>
                </a:lnTo>
                <a:close/>
              </a:path>
              <a:path fill="darkenLess" w="22539" h="21600">
                <a:moveTo>
                  <a:pt x="10347" y="14299"/>
                </a:moveTo>
                <a:lnTo>
                  <a:pt x="12192" y="14299"/>
                </a:lnTo>
                <a:lnTo>
                  <a:pt x="12192" y="17989"/>
                </a:lnTo>
                <a:lnTo>
                  <a:pt x="16579" y="17989"/>
                </a:lnTo>
                <a:lnTo>
                  <a:pt x="16579" y="10800"/>
                </a:lnTo>
                <a:lnTo>
                  <a:pt x="5960" y="10800"/>
                </a:lnTo>
                <a:lnTo>
                  <a:pt x="5960" y="17989"/>
                </a:lnTo>
                <a:lnTo>
                  <a:pt x="10347" y="17989"/>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Tree>
  </p:cSld>
  <p:transition spd="slow">
    <p:wheel spokes="1"/>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716" name="PlaceHolder 1"/>
          <p:cNvSpPr>
            <a:spLocks noGrp="1"/>
          </p:cNvSpPr>
          <p:nvPr>
            <p:ph/>
          </p:nvPr>
        </p:nvSpPr>
        <p:spPr>
          <a:xfrm>
            <a:off x="1618920" y="333360"/>
            <a:ext cx="6048360" cy="4572000"/>
          </a:xfrm>
          <a:prstGeom prst="rect">
            <a:avLst/>
          </a:prstGeom>
          <a:noFill/>
          <a:ln w="0">
            <a:noFill/>
          </a:ln>
        </p:spPr>
        <p:txBody>
          <a:bodyPr lIns="90000" rIns="90000" tIns="46800" bIns="46800" anchor="t">
            <a:normAutofit fontScale="94000"/>
          </a:bodyPr>
          <a:p>
            <a:pPr marL="420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Verdana"/>
              </a:rPr>
              <a:t>Pek rengine aldanma felek eski felektir</a:t>
            </a:r>
            <a:endParaRPr b="0" lang="en-US" sz="2400" spc="-1" strike="noStrike">
              <a:solidFill>
                <a:srgbClr val="ffffff"/>
              </a:solidFill>
              <a:latin typeface="Candara"/>
            </a:endParaRPr>
          </a:p>
          <a:p>
            <a:pPr marL="420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Verdana"/>
              </a:rPr>
              <a:t>Zira feleğin meşreb-i nâ-sâzı dönektir</a:t>
            </a:r>
            <a:endParaRPr b="0" lang="en-US" sz="2400" spc="-1" strike="noStrike">
              <a:solidFill>
                <a:srgbClr val="ffffff"/>
              </a:solidFill>
              <a:latin typeface="Candara"/>
            </a:endParaRPr>
          </a:p>
          <a:p>
            <a:pPr marL="420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Verdana"/>
              </a:rPr>
              <a:t>Ya bister-i kemhâda , yâ virânede can ver</a:t>
            </a:r>
            <a:endParaRPr b="0" lang="en-US" sz="2400" spc="-1" strike="noStrike">
              <a:solidFill>
                <a:srgbClr val="ffffff"/>
              </a:solidFill>
              <a:latin typeface="Candara"/>
            </a:endParaRPr>
          </a:p>
          <a:p>
            <a:pPr marL="420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Verdana"/>
              </a:rPr>
              <a:t>Çün bay ü gedâ hâke beraber girecektir </a:t>
            </a:r>
            <a:endParaRPr b="0" lang="en-US" sz="2400" spc="-1" strike="noStrike">
              <a:solidFill>
                <a:srgbClr val="ffffff"/>
              </a:solidFill>
              <a:latin typeface="Candara"/>
            </a:endParaRPr>
          </a:p>
          <a:p>
            <a:pPr marL="420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Verdana"/>
              </a:rPr>
              <a:t>Allaha sığın şahs-ı halimin gazabından</a:t>
            </a:r>
            <a:endParaRPr b="0" lang="en-US" sz="2400" spc="-1" strike="noStrike">
              <a:solidFill>
                <a:srgbClr val="ffffff"/>
              </a:solidFill>
              <a:latin typeface="Candara"/>
            </a:endParaRPr>
          </a:p>
          <a:p>
            <a:pPr marL="420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Verdana"/>
              </a:rPr>
              <a:t>Zira yumuşak huylu atın çiftesi pektir</a:t>
            </a:r>
            <a:endParaRPr b="0" lang="en-US" sz="2400" spc="-1" strike="noStrike">
              <a:solidFill>
                <a:srgbClr val="ffffff"/>
              </a:solidFill>
              <a:latin typeface="Candara"/>
            </a:endParaRPr>
          </a:p>
          <a:p>
            <a:pPr marL="420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Verdana"/>
              </a:rPr>
              <a:t>Yaktı nice canlar o nezaketle tebessüm </a:t>
            </a:r>
            <a:endParaRPr b="0" lang="en-US" sz="2400" spc="-1" strike="noStrike">
              <a:solidFill>
                <a:srgbClr val="ffffff"/>
              </a:solidFill>
              <a:latin typeface="Candara"/>
            </a:endParaRPr>
          </a:p>
          <a:p>
            <a:pPr marL="420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Verdana"/>
              </a:rPr>
              <a:t>Şirin dahi kasdetmesi cana gülerektir</a:t>
            </a:r>
            <a:endParaRPr b="0" lang="en-US" sz="2400" spc="-1" strike="noStrike">
              <a:solidFill>
                <a:srgbClr val="ffffff"/>
              </a:solidFill>
              <a:latin typeface="Candara"/>
            </a:endParaRPr>
          </a:p>
          <a:p>
            <a:pPr marL="420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Verdana"/>
              </a:rPr>
              <a:t>Bed asla necabet mi verir hiç üniforma</a:t>
            </a:r>
            <a:endParaRPr b="0" lang="en-US" sz="2400" spc="-1" strike="noStrike">
              <a:solidFill>
                <a:srgbClr val="ffffff"/>
              </a:solidFill>
              <a:latin typeface="Candara"/>
            </a:endParaRPr>
          </a:p>
          <a:p>
            <a:pPr marL="420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ndara"/>
            </a:endParaRPr>
          </a:p>
          <a:p>
            <a:pPr marL="420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ndara"/>
            </a:endParaRPr>
          </a:p>
        </p:txBody>
      </p:sp>
      <p:sp>
        <p:nvSpPr>
          <p:cNvPr id="717" name="">
            <a:hlinkClick r:id="" action="ppaction://hlinkshowjump?jump=previousslide"/>
          </p:cNvPr>
          <p:cNvSpPr/>
          <p:nvPr/>
        </p:nvSpPr>
        <p:spPr>
          <a:xfrm>
            <a:off x="0" y="6219720"/>
            <a:ext cx="649440" cy="638280"/>
          </a:xfrm>
          <a:custGeom>
            <a:avLst/>
            <a:gdLst>
              <a:gd name="textAreaLeft" fmla="*/ 41040 w 649440"/>
              <a:gd name="textAreaRight" fmla="*/ 608400 w 649440"/>
              <a:gd name="textAreaTop" fmla="*/ 41040 h 638280"/>
              <a:gd name="textAreaBottom" fmla="*/ 597240 h 638280"/>
            </a:gdLst>
            <a:ahLst/>
            <a:rect l="textAreaLeft" t="textAreaTop" r="textAreaRight" b="textAreaBottom"/>
            <a:pathLst>
              <a:path w="21977" h="21600">
                <a:moveTo>
                  <a:pt x="0" y="0"/>
                </a:moveTo>
                <a:lnTo>
                  <a:pt x="21977" y="0"/>
                </a:lnTo>
                <a:lnTo>
                  <a:pt x="21977" y="21600"/>
                </a:lnTo>
                <a:lnTo>
                  <a:pt x="0" y="21600"/>
                </a:lnTo>
                <a:close/>
              </a:path>
              <a:path fill="lightenLess" w="21977" h="21600">
                <a:moveTo>
                  <a:pt x="0" y="0"/>
                </a:moveTo>
                <a:lnTo>
                  <a:pt x="21977" y="0"/>
                </a:lnTo>
                <a:lnTo>
                  <a:pt x="20577" y="1400"/>
                </a:lnTo>
                <a:lnTo>
                  <a:pt x="1400" y="1400"/>
                </a:lnTo>
                <a:close/>
              </a:path>
              <a:path fill="darken" w="21977" h="21600">
                <a:moveTo>
                  <a:pt x="21977" y="0"/>
                </a:moveTo>
                <a:lnTo>
                  <a:pt x="21977" y="21600"/>
                </a:lnTo>
                <a:lnTo>
                  <a:pt x="20577" y="20200"/>
                </a:lnTo>
                <a:lnTo>
                  <a:pt x="20577" y="1400"/>
                </a:lnTo>
                <a:close/>
              </a:path>
              <a:path fill="darkenLess" w="21977" h="21600">
                <a:moveTo>
                  <a:pt x="21977" y="21600"/>
                </a:moveTo>
                <a:lnTo>
                  <a:pt x="0" y="21600"/>
                </a:lnTo>
                <a:lnTo>
                  <a:pt x="1400" y="20200"/>
                </a:lnTo>
                <a:lnTo>
                  <a:pt x="20577" y="20200"/>
                </a:lnTo>
                <a:close/>
              </a:path>
              <a:path fill="lighten" w="21977" h="21600">
                <a:moveTo>
                  <a:pt x="0" y="21600"/>
                </a:moveTo>
                <a:lnTo>
                  <a:pt x="0" y="0"/>
                </a:lnTo>
                <a:lnTo>
                  <a:pt x="1400" y="1400"/>
                </a:lnTo>
                <a:lnTo>
                  <a:pt x="1400" y="20200"/>
                </a:lnTo>
                <a:close/>
              </a:path>
              <a:path fill="darken" w="21977" h="21600">
                <a:moveTo>
                  <a:pt x="3982" y="10800"/>
                </a:moveTo>
                <a:lnTo>
                  <a:pt x="17995" y="3794"/>
                </a:lnTo>
                <a:lnTo>
                  <a:pt x="17995"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718" name="">
            <a:hlinkClick r:id="" action="ppaction://hlinkshowjump?jump=nextslide"/>
          </p:cNvPr>
          <p:cNvSpPr/>
          <p:nvPr/>
        </p:nvSpPr>
        <p:spPr>
          <a:xfrm>
            <a:off x="125892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4263" y="3794"/>
                </a:moveTo>
                <a:lnTo>
                  <a:pt x="18276" y="10800"/>
                </a:lnTo>
                <a:lnTo>
                  <a:pt x="4263"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719" name="">
            <a:hlinkClick r:id="" action="ppaction://hlinkshowjump?jump=firstslide"/>
          </p:cNvPr>
          <p:cNvSpPr/>
          <p:nvPr/>
        </p:nvSpPr>
        <p:spPr>
          <a:xfrm>
            <a:off x="61128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11270" y="3837"/>
                </a:moveTo>
                <a:lnTo>
                  <a:pt x="13846" y="6448"/>
                </a:lnTo>
                <a:lnTo>
                  <a:pt x="13846" y="4707"/>
                </a:lnTo>
                <a:lnTo>
                  <a:pt x="15621" y="4707"/>
                </a:lnTo>
                <a:lnTo>
                  <a:pt x="15621" y="8224"/>
                </a:lnTo>
                <a:lnTo>
                  <a:pt x="18233" y="10800"/>
                </a:lnTo>
                <a:lnTo>
                  <a:pt x="16579" y="10800"/>
                </a:lnTo>
                <a:lnTo>
                  <a:pt x="16579" y="17989"/>
                </a:lnTo>
                <a:lnTo>
                  <a:pt x="5960" y="17989"/>
                </a:lnTo>
                <a:lnTo>
                  <a:pt x="5960" y="10800"/>
                </a:lnTo>
                <a:lnTo>
                  <a:pt x="4307" y="10800"/>
                </a:lnTo>
                <a:close/>
              </a:path>
              <a:path fill="darkenLess" w="22539" h="21600">
                <a:moveTo>
                  <a:pt x="13846" y="6448"/>
                </a:moveTo>
                <a:lnTo>
                  <a:pt x="13846" y="4707"/>
                </a:lnTo>
                <a:lnTo>
                  <a:pt x="15621" y="4707"/>
                </a:lnTo>
                <a:lnTo>
                  <a:pt x="15621" y="8224"/>
                </a:lnTo>
                <a:close/>
              </a:path>
              <a:path fill="darkenLess" w="22539" h="21600">
                <a:moveTo>
                  <a:pt x="10347" y="14299"/>
                </a:moveTo>
                <a:lnTo>
                  <a:pt x="12192" y="14299"/>
                </a:lnTo>
                <a:lnTo>
                  <a:pt x="12192" y="17989"/>
                </a:lnTo>
                <a:lnTo>
                  <a:pt x="16579" y="17989"/>
                </a:lnTo>
                <a:lnTo>
                  <a:pt x="16579" y="10800"/>
                </a:lnTo>
                <a:lnTo>
                  <a:pt x="5960" y="10800"/>
                </a:lnTo>
                <a:lnTo>
                  <a:pt x="5960" y="17989"/>
                </a:lnTo>
                <a:lnTo>
                  <a:pt x="10347" y="17989"/>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Tree>
  </p:cSld>
  <p:transition spd="slow">
    <p:wheel spokes="1"/>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720" name="PlaceHolder 1"/>
          <p:cNvSpPr>
            <a:spLocks noGrp="1"/>
          </p:cNvSpPr>
          <p:nvPr>
            <p:ph/>
          </p:nvPr>
        </p:nvSpPr>
        <p:spPr>
          <a:xfrm>
            <a:off x="611280" y="476280"/>
            <a:ext cx="8229600" cy="4572000"/>
          </a:xfrm>
          <a:prstGeom prst="rect">
            <a:avLst/>
          </a:prstGeom>
          <a:noFill/>
          <a:ln w="0">
            <a:noFill/>
          </a:ln>
        </p:spPr>
        <p:txBody>
          <a:bodyPr lIns="90000" rIns="90000" tIns="46800" bIns="46800" anchor="t">
            <a:normAutofit fontScale="88000"/>
          </a:bodyPr>
          <a:p>
            <a:pPr marL="393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Verdana"/>
              </a:rPr>
              <a:t>Zerdüz palan ursan eşek yine eşektir</a:t>
            </a:r>
            <a:endParaRPr b="0" lang="en-US" sz="2400" spc="-1" strike="noStrike">
              <a:solidFill>
                <a:srgbClr val="ffffff"/>
              </a:solidFill>
              <a:latin typeface="Candara"/>
            </a:endParaRPr>
          </a:p>
          <a:p>
            <a:pPr marL="393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Verdana"/>
              </a:rPr>
              <a:t>Bed mâye olan anlaşılır meclis-i meyde </a:t>
            </a:r>
            <a:endParaRPr b="0" lang="en-US" sz="2400" spc="-1" strike="noStrike">
              <a:solidFill>
                <a:srgbClr val="ffffff"/>
              </a:solidFill>
              <a:latin typeface="Candara"/>
            </a:endParaRPr>
          </a:p>
          <a:p>
            <a:pPr marL="393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İşret , güher-i âdemi temyize mihenktir</a:t>
            </a:r>
            <a:endParaRPr b="0" lang="en-US" sz="2400" spc="-1" strike="noStrike">
              <a:solidFill>
                <a:srgbClr val="ffffff"/>
              </a:solidFill>
              <a:latin typeface="Candara"/>
            </a:endParaRPr>
          </a:p>
          <a:p>
            <a:pPr marL="393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Nush ile yola gelmeyeni etmeli tektir </a:t>
            </a:r>
            <a:endParaRPr b="0" lang="en-US" sz="2400" spc="-1" strike="noStrike">
              <a:solidFill>
                <a:srgbClr val="ffffff"/>
              </a:solidFill>
              <a:latin typeface="Candara"/>
            </a:endParaRPr>
          </a:p>
          <a:p>
            <a:pPr marL="393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Tekdir ile uslanmayanın hakkı kötektir </a:t>
            </a:r>
            <a:endParaRPr b="0" lang="en-US" sz="2400" spc="-1" strike="noStrike">
              <a:solidFill>
                <a:srgbClr val="ffffff"/>
              </a:solidFill>
              <a:latin typeface="Candara"/>
            </a:endParaRPr>
          </a:p>
          <a:p>
            <a:pPr marL="393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Nâdânlar eder sohbet-i nâdânla telezzüz </a:t>
            </a:r>
            <a:endParaRPr b="0" lang="en-US" sz="2400" spc="-1" strike="noStrike">
              <a:solidFill>
                <a:srgbClr val="ffffff"/>
              </a:solidFill>
              <a:latin typeface="Candara"/>
            </a:endParaRPr>
          </a:p>
          <a:p>
            <a:pPr marL="393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Divânelerin hemdemi divâane gerektir </a:t>
            </a:r>
            <a:endParaRPr b="0" lang="en-US" sz="2400" spc="-1" strike="noStrike">
              <a:solidFill>
                <a:srgbClr val="ffffff"/>
              </a:solidFill>
              <a:latin typeface="Candara"/>
            </a:endParaRPr>
          </a:p>
          <a:p>
            <a:pPr marL="393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Aff ile mübeşşer midir eshâb-ı meratip </a:t>
            </a:r>
            <a:endParaRPr b="0" lang="en-US" sz="2400" spc="-1" strike="noStrike">
              <a:solidFill>
                <a:srgbClr val="ffffff"/>
              </a:solidFill>
              <a:latin typeface="Candara"/>
            </a:endParaRPr>
          </a:p>
          <a:p>
            <a:pPr marL="393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Kanun-i ceza âcize mi hâs demektir </a:t>
            </a:r>
            <a:endParaRPr b="0" lang="en-US" sz="2400" spc="-1" strike="noStrike">
              <a:solidFill>
                <a:srgbClr val="ffffff"/>
              </a:solidFill>
              <a:latin typeface="Candara"/>
            </a:endParaRPr>
          </a:p>
          <a:p>
            <a:pPr marL="393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Milyonla çalan mesned-i izzetde serefrâz</a:t>
            </a:r>
            <a:endParaRPr b="0" lang="en-US" sz="2400" spc="-1" strike="noStrike">
              <a:solidFill>
                <a:srgbClr val="ffffff"/>
              </a:solidFill>
              <a:latin typeface="Candara"/>
            </a:endParaRPr>
          </a:p>
          <a:p>
            <a:pPr marL="393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Bir kaç kuruşu mürtekibin câyı kürektir </a:t>
            </a:r>
            <a:endParaRPr b="0" lang="en-US" sz="2400" spc="-1" strike="noStrike">
              <a:solidFill>
                <a:srgbClr val="ffffff"/>
              </a:solidFill>
              <a:latin typeface="Candara"/>
            </a:endParaRPr>
          </a:p>
          <a:p>
            <a:pPr marL="393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İman ile din , akçadır erbâb-ı gınâda </a:t>
            </a:r>
            <a:endParaRPr b="0" lang="en-US" sz="2400" spc="-1" strike="noStrike">
              <a:solidFill>
                <a:srgbClr val="ffffff"/>
              </a:solidFill>
              <a:latin typeface="Candara"/>
            </a:endParaRPr>
          </a:p>
          <a:p>
            <a:pPr marL="393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Namus ü hamiyyet sözü kaldı fukarada</a:t>
            </a:r>
            <a:endParaRPr b="0" lang="en-US" sz="2400" spc="-1" strike="noStrike">
              <a:solidFill>
                <a:srgbClr val="ffffff"/>
              </a:solidFill>
              <a:latin typeface="Candara"/>
            </a:endParaRPr>
          </a:p>
          <a:p>
            <a:pPr marL="393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                                             </a:t>
            </a:r>
            <a:r>
              <a:rPr b="0" lang="tr-TR" sz="2400" spc="-1" strike="noStrike">
                <a:solidFill>
                  <a:srgbClr val="ffffff"/>
                </a:solidFill>
                <a:latin typeface="Verdana"/>
              </a:rPr>
              <a:t>(Ziya Paşa)</a:t>
            </a:r>
            <a:endParaRPr b="0" lang="en-US" sz="2400" spc="-1" strike="noStrike">
              <a:solidFill>
                <a:srgbClr val="ffffff"/>
              </a:solidFill>
              <a:latin typeface="Candara"/>
            </a:endParaRPr>
          </a:p>
          <a:p>
            <a:pPr marL="393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ndara"/>
            </a:endParaRPr>
          </a:p>
          <a:p>
            <a:pPr marL="393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ndara"/>
            </a:endParaRPr>
          </a:p>
        </p:txBody>
      </p:sp>
      <p:sp>
        <p:nvSpPr>
          <p:cNvPr id="721" name="">
            <a:hlinkClick r:id="" action="ppaction://hlinkshowjump?jump=previousslide"/>
          </p:cNvPr>
          <p:cNvSpPr/>
          <p:nvPr/>
        </p:nvSpPr>
        <p:spPr>
          <a:xfrm>
            <a:off x="0" y="6219720"/>
            <a:ext cx="649440" cy="638280"/>
          </a:xfrm>
          <a:custGeom>
            <a:avLst/>
            <a:gdLst>
              <a:gd name="textAreaLeft" fmla="*/ 41040 w 649440"/>
              <a:gd name="textAreaRight" fmla="*/ 608400 w 649440"/>
              <a:gd name="textAreaTop" fmla="*/ 41040 h 638280"/>
              <a:gd name="textAreaBottom" fmla="*/ 597240 h 638280"/>
            </a:gdLst>
            <a:ahLst/>
            <a:rect l="textAreaLeft" t="textAreaTop" r="textAreaRight" b="textAreaBottom"/>
            <a:pathLst>
              <a:path w="21977" h="21600">
                <a:moveTo>
                  <a:pt x="0" y="0"/>
                </a:moveTo>
                <a:lnTo>
                  <a:pt x="21977" y="0"/>
                </a:lnTo>
                <a:lnTo>
                  <a:pt x="21977" y="21600"/>
                </a:lnTo>
                <a:lnTo>
                  <a:pt x="0" y="21600"/>
                </a:lnTo>
                <a:close/>
              </a:path>
              <a:path fill="lightenLess" w="21977" h="21600">
                <a:moveTo>
                  <a:pt x="0" y="0"/>
                </a:moveTo>
                <a:lnTo>
                  <a:pt x="21977" y="0"/>
                </a:lnTo>
                <a:lnTo>
                  <a:pt x="20577" y="1400"/>
                </a:lnTo>
                <a:lnTo>
                  <a:pt x="1400" y="1400"/>
                </a:lnTo>
                <a:close/>
              </a:path>
              <a:path fill="darken" w="21977" h="21600">
                <a:moveTo>
                  <a:pt x="21977" y="0"/>
                </a:moveTo>
                <a:lnTo>
                  <a:pt x="21977" y="21600"/>
                </a:lnTo>
                <a:lnTo>
                  <a:pt x="20577" y="20200"/>
                </a:lnTo>
                <a:lnTo>
                  <a:pt x="20577" y="1400"/>
                </a:lnTo>
                <a:close/>
              </a:path>
              <a:path fill="darkenLess" w="21977" h="21600">
                <a:moveTo>
                  <a:pt x="21977" y="21600"/>
                </a:moveTo>
                <a:lnTo>
                  <a:pt x="0" y="21600"/>
                </a:lnTo>
                <a:lnTo>
                  <a:pt x="1400" y="20200"/>
                </a:lnTo>
                <a:lnTo>
                  <a:pt x="20577" y="20200"/>
                </a:lnTo>
                <a:close/>
              </a:path>
              <a:path fill="lighten" w="21977" h="21600">
                <a:moveTo>
                  <a:pt x="0" y="21600"/>
                </a:moveTo>
                <a:lnTo>
                  <a:pt x="0" y="0"/>
                </a:lnTo>
                <a:lnTo>
                  <a:pt x="1400" y="1400"/>
                </a:lnTo>
                <a:lnTo>
                  <a:pt x="1400" y="20200"/>
                </a:lnTo>
                <a:close/>
              </a:path>
              <a:path fill="darken" w="21977" h="21600">
                <a:moveTo>
                  <a:pt x="3982" y="10800"/>
                </a:moveTo>
                <a:lnTo>
                  <a:pt x="17995" y="3794"/>
                </a:lnTo>
                <a:lnTo>
                  <a:pt x="17995"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722" name="">
            <a:hlinkClick r:id="" action="ppaction://hlinkshowjump?jump=nextslide"/>
          </p:cNvPr>
          <p:cNvSpPr/>
          <p:nvPr/>
        </p:nvSpPr>
        <p:spPr>
          <a:xfrm>
            <a:off x="125892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4263" y="3794"/>
                </a:moveTo>
                <a:lnTo>
                  <a:pt x="18276" y="10800"/>
                </a:lnTo>
                <a:lnTo>
                  <a:pt x="4263"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723" name="">
            <a:hlinkClick r:id="" action="ppaction://hlinkshowjump?jump=firstslide"/>
          </p:cNvPr>
          <p:cNvSpPr/>
          <p:nvPr/>
        </p:nvSpPr>
        <p:spPr>
          <a:xfrm>
            <a:off x="61128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11270" y="3837"/>
                </a:moveTo>
                <a:lnTo>
                  <a:pt x="13846" y="6448"/>
                </a:lnTo>
                <a:lnTo>
                  <a:pt x="13846" y="4707"/>
                </a:lnTo>
                <a:lnTo>
                  <a:pt x="15621" y="4707"/>
                </a:lnTo>
                <a:lnTo>
                  <a:pt x="15621" y="8224"/>
                </a:lnTo>
                <a:lnTo>
                  <a:pt x="18233" y="10800"/>
                </a:lnTo>
                <a:lnTo>
                  <a:pt x="16579" y="10800"/>
                </a:lnTo>
                <a:lnTo>
                  <a:pt x="16579" y="17989"/>
                </a:lnTo>
                <a:lnTo>
                  <a:pt x="5960" y="17989"/>
                </a:lnTo>
                <a:lnTo>
                  <a:pt x="5960" y="10800"/>
                </a:lnTo>
                <a:lnTo>
                  <a:pt x="4307" y="10800"/>
                </a:lnTo>
                <a:close/>
              </a:path>
              <a:path fill="darkenLess" w="22539" h="21600">
                <a:moveTo>
                  <a:pt x="13846" y="6448"/>
                </a:moveTo>
                <a:lnTo>
                  <a:pt x="13846" y="4707"/>
                </a:lnTo>
                <a:lnTo>
                  <a:pt x="15621" y="4707"/>
                </a:lnTo>
                <a:lnTo>
                  <a:pt x="15621" y="8224"/>
                </a:lnTo>
                <a:close/>
              </a:path>
              <a:path fill="darkenLess" w="22539" h="21600">
                <a:moveTo>
                  <a:pt x="10347" y="14299"/>
                </a:moveTo>
                <a:lnTo>
                  <a:pt x="12192" y="14299"/>
                </a:lnTo>
                <a:lnTo>
                  <a:pt x="12192" y="17989"/>
                </a:lnTo>
                <a:lnTo>
                  <a:pt x="16579" y="17989"/>
                </a:lnTo>
                <a:lnTo>
                  <a:pt x="16579" y="10800"/>
                </a:lnTo>
                <a:lnTo>
                  <a:pt x="5960" y="10800"/>
                </a:lnTo>
                <a:lnTo>
                  <a:pt x="5960" y="17989"/>
                </a:lnTo>
                <a:lnTo>
                  <a:pt x="10347" y="17989"/>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Tree>
  </p:cSld>
  <p:transition spd="slow">
    <p:wheel spokes="1"/>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4" name="Dikdörtgen 3" descr=""/>
          <p:cNvPicPr/>
          <p:nvPr/>
        </p:nvPicPr>
        <p:blipFill>
          <a:blip r:embed="rId2"/>
          <a:stretch/>
        </p:blipFill>
        <p:spPr>
          <a:xfrm>
            <a:off x="2048040" y="353880"/>
            <a:ext cx="5492520" cy="1150920"/>
          </a:xfrm>
          <a:prstGeom prst="rect">
            <a:avLst/>
          </a:prstGeom>
          <a:ln w="0">
            <a:noFill/>
          </a:ln>
        </p:spPr>
      </p:pic>
      <p:sp>
        <p:nvSpPr>
          <p:cNvPr id="725" name="Dikdörtgen 4"/>
          <p:cNvSpPr/>
          <p:nvPr/>
        </p:nvSpPr>
        <p:spPr>
          <a:xfrm>
            <a:off x="0" y="1859040"/>
            <a:ext cx="9325080" cy="341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ndara"/>
              </a:rPr>
              <a:t>   </a:t>
            </a:r>
            <a:r>
              <a:rPr b="1" lang="en-US" sz="2400" spc="-1" strike="noStrike">
                <a:solidFill>
                  <a:srgbClr val="0d0d0d"/>
                </a:solidFill>
                <a:latin typeface="Verdana"/>
              </a:rPr>
              <a:t>Tiyatroda kullanılan şiir türüdür. Eski Yunan edebiyatında oyuncuların sahnede söyleyecekleri sözler şiir haline getirilir ve onlara ezberletilirdi. Bu durum dram tiyatro türünün ( 19. yy. ) çıkışına kadar sürer. Bundan sonra tiyatro metinleri düz yazıyla yazılmaya başlanır.</a:t>
            </a:r>
            <a:endParaRPr b="0" lang="en-US" sz="24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Verdana"/>
              </a:rPr>
              <a:t>Dramatik şiir harekete çevrilebilen şiir türüdür. Başlangıçta trajedi ve komedi olmak üzere iki tür olan bu şiir türü dramın eklenmesiyle üç kere çıkmıştır.</a:t>
            </a:r>
            <a:endParaRPr b="0" lang="en-US" sz="2400" spc="-1" strike="noStrike">
              <a:solidFill>
                <a:srgbClr val="ffffff"/>
              </a:solidFill>
              <a:latin typeface="Candara"/>
            </a:endParaRPr>
          </a:p>
        </p:txBody>
      </p:sp>
      <p:sp>
        <p:nvSpPr>
          <p:cNvPr id="726" name="">
            <a:hlinkClick r:id="" action="ppaction://hlinkshowjump?jump=previousslide"/>
          </p:cNvPr>
          <p:cNvSpPr/>
          <p:nvPr/>
        </p:nvSpPr>
        <p:spPr>
          <a:xfrm>
            <a:off x="0" y="6219720"/>
            <a:ext cx="649440" cy="638280"/>
          </a:xfrm>
          <a:custGeom>
            <a:avLst/>
            <a:gdLst>
              <a:gd name="textAreaLeft" fmla="*/ 41040 w 649440"/>
              <a:gd name="textAreaRight" fmla="*/ 608400 w 649440"/>
              <a:gd name="textAreaTop" fmla="*/ 41040 h 638280"/>
              <a:gd name="textAreaBottom" fmla="*/ 597240 h 638280"/>
            </a:gdLst>
            <a:ahLst/>
            <a:rect l="textAreaLeft" t="textAreaTop" r="textAreaRight" b="textAreaBottom"/>
            <a:pathLst>
              <a:path w="21977" h="21600">
                <a:moveTo>
                  <a:pt x="0" y="0"/>
                </a:moveTo>
                <a:lnTo>
                  <a:pt x="21977" y="0"/>
                </a:lnTo>
                <a:lnTo>
                  <a:pt x="21977" y="21600"/>
                </a:lnTo>
                <a:lnTo>
                  <a:pt x="0" y="21600"/>
                </a:lnTo>
                <a:close/>
              </a:path>
              <a:path fill="lightenLess" w="21977" h="21600">
                <a:moveTo>
                  <a:pt x="0" y="0"/>
                </a:moveTo>
                <a:lnTo>
                  <a:pt x="21977" y="0"/>
                </a:lnTo>
                <a:lnTo>
                  <a:pt x="20577" y="1400"/>
                </a:lnTo>
                <a:lnTo>
                  <a:pt x="1400" y="1400"/>
                </a:lnTo>
                <a:close/>
              </a:path>
              <a:path fill="darken" w="21977" h="21600">
                <a:moveTo>
                  <a:pt x="21977" y="0"/>
                </a:moveTo>
                <a:lnTo>
                  <a:pt x="21977" y="21600"/>
                </a:lnTo>
                <a:lnTo>
                  <a:pt x="20577" y="20200"/>
                </a:lnTo>
                <a:lnTo>
                  <a:pt x="20577" y="1400"/>
                </a:lnTo>
                <a:close/>
              </a:path>
              <a:path fill="darkenLess" w="21977" h="21600">
                <a:moveTo>
                  <a:pt x="21977" y="21600"/>
                </a:moveTo>
                <a:lnTo>
                  <a:pt x="0" y="21600"/>
                </a:lnTo>
                <a:lnTo>
                  <a:pt x="1400" y="20200"/>
                </a:lnTo>
                <a:lnTo>
                  <a:pt x="20577" y="20200"/>
                </a:lnTo>
                <a:close/>
              </a:path>
              <a:path fill="lighten" w="21977" h="21600">
                <a:moveTo>
                  <a:pt x="0" y="21600"/>
                </a:moveTo>
                <a:lnTo>
                  <a:pt x="0" y="0"/>
                </a:lnTo>
                <a:lnTo>
                  <a:pt x="1400" y="1400"/>
                </a:lnTo>
                <a:lnTo>
                  <a:pt x="1400" y="20200"/>
                </a:lnTo>
                <a:close/>
              </a:path>
              <a:path fill="darken" w="21977" h="21600">
                <a:moveTo>
                  <a:pt x="3982" y="10800"/>
                </a:moveTo>
                <a:lnTo>
                  <a:pt x="17995" y="3794"/>
                </a:lnTo>
                <a:lnTo>
                  <a:pt x="17995"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727" name="">
            <a:hlinkClick r:id="" action="ppaction://hlinkshowjump?jump=nextslide"/>
          </p:cNvPr>
          <p:cNvSpPr/>
          <p:nvPr/>
        </p:nvSpPr>
        <p:spPr>
          <a:xfrm>
            <a:off x="125892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4263" y="3794"/>
                </a:moveTo>
                <a:lnTo>
                  <a:pt x="18276" y="10800"/>
                </a:lnTo>
                <a:lnTo>
                  <a:pt x="4263"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728" name="">
            <a:hlinkClick r:id="" action="ppaction://hlinkshowjump?jump=firstslide"/>
          </p:cNvPr>
          <p:cNvSpPr/>
          <p:nvPr/>
        </p:nvSpPr>
        <p:spPr>
          <a:xfrm>
            <a:off x="61128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11270" y="3837"/>
                </a:moveTo>
                <a:lnTo>
                  <a:pt x="13846" y="6448"/>
                </a:lnTo>
                <a:lnTo>
                  <a:pt x="13846" y="4707"/>
                </a:lnTo>
                <a:lnTo>
                  <a:pt x="15621" y="4707"/>
                </a:lnTo>
                <a:lnTo>
                  <a:pt x="15621" y="8224"/>
                </a:lnTo>
                <a:lnTo>
                  <a:pt x="18233" y="10800"/>
                </a:lnTo>
                <a:lnTo>
                  <a:pt x="16579" y="10800"/>
                </a:lnTo>
                <a:lnTo>
                  <a:pt x="16579" y="17989"/>
                </a:lnTo>
                <a:lnTo>
                  <a:pt x="5960" y="17989"/>
                </a:lnTo>
                <a:lnTo>
                  <a:pt x="5960" y="10800"/>
                </a:lnTo>
                <a:lnTo>
                  <a:pt x="4307" y="10800"/>
                </a:lnTo>
                <a:close/>
              </a:path>
              <a:path fill="darkenLess" w="22539" h="21600">
                <a:moveTo>
                  <a:pt x="13846" y="6448"/>
                </a:moveTo>
                <a:lnTo>
                  <a:pt x="13846" y="4707"/>
                </a:lnTo>
                <a:lnTo>
                  <a:pt x="15621" y="4707"/>
                </a:lnTo>
                <a:lnTo>
                  <a:pt x="15621" y="8224"/>
                </a:lnTo>
                <a:close/>
              </a:path>
              <a:path fill="darkenLess" w="22539" h="21600">
                <a:moveTo>
                  <a:pt x="10347" y="14299"/>
                </a:moveTo>
                <a:lnTo>
                  <a:pt x="12192" y="14299"/>
                </a:lnTo>
                <a:lnTo>
                  <a:pt x="12192" y="17989"/>
                </a:lnTo>
                <a:lnTo>
                  <a:pt x="16579" y="17989"/>
                </a:lnTo>
                <a:lnTo>
                  <a:pt x="16579" y="10800"/>
                </a:lnTo>
                <a:lnTo>
                  <a:pt x="5960" y="10800"/>
                </a:lnTo>
                <a:lnTo>
                  <a:pt x="5960" y="17989"/>
                </a:lnTo>
                <a:lnTo>
                  <a:pt x="10347" y="17989"/>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Tree>
  </p:cSld>
  <p:transition spd="slow">
    <p:wheel spokes="1"/>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9" name="Dikdörtgen 3"/>
          <p:cNvSpPr/>
          <p:nvPr/>
        </p:nvSpPr>
        <p:spPr>
          <a:xfrm>
            <a:off x="611280" y="301680"/>
            <a:ext cx="82087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 </a:t>
            </a:r>
            <a:r>
              <a:rPr b="1" lang="tr-TR" sz="2400" spc="-1" strike="noStrike">
                <a:solidFill>
                  <a:srgbClr val="0d0d0d"/>
                </a:solidFill>
                <a:latin typeface="Verdana"/>
              </a:rPr>
              <a:t>Bizde dramatik şiir türüne örnek verilmemiştir. Çünkü bizim Batı'ya açıldığımız dönemde ( Tanzimat ) Batı'da da bu tür şiirler yazılmıyordu; nesir kullanılıyordu tiyatroda. Bizim tiyatrocularımız da tiyatro eserlerini bundan dolayı nesirle yazmışlardır. Ancak nadirde olsa nazımla tiyatro yazan da olmuştur. Abdülhak Hamit Tarhan gibi...</a:t>
            </a:r>
            <a:endParaRPr b="0" lang="en-US" sz="24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d0d0d"/>
                </a:solidFill>
                <a:latin typeface="Verdana"/>
              </a:rPr>
              <a:t>Batı edebiyatında Corneille, Racine, Shakespeare;Türk edebiyatında Namık Kemal, Abdülhak Hamit Tarhan, Faruk Nafiz Çamlıbel dramatik şiirin en güzel örneklerini vermişlerdir</a:t>
            </a:r>
            <a:r>
              <a:rPr b="0" lang="tr-TR" sz="2400" spc="-1" strike="noStrike">
                <a:solidFill>
                  <a:srgbClr val="0d0d0d"/>
                </a:solidFill>
                <a:latin typeface="Verdana"/>
              </a:rPr>
              <a:t>.</a:t>
            </a:r>
            <a:endParaRPr b="0" lang="en-US" sz="2400" spc="-1" strike="noStrike">
              <a:solidFill>
                <a:srgbClr val="ffffff"/>
              </a:solidFill>
              <a:latin typeface="Candara"/>
            </a:endParaRPr>
          </a:p>
        </p:txBody>
      </p:sp>
      <p:sp>
        <p:nvSpPr>
          <p:cNvPr id="730" name="">
            <a:hlinkClick r:id="" action="ppaction://hlinkshowjump?jump=previousslide"/>
          </p:cNvPr>
          <p:cNvSpPr/>
          <p:nvPr/>
        </p:nvSpPr>
        <p:spPr>
          <a:xfrm>
            <a:off x="0" y="6219720"/>
            <a:ext cx="649440" cy="638280"/>
          </a:xfrm>
          <a:custGeom>
            <a:avLst/>
            <a:gdLst>
              <a:gd name="textAreaLeft" fmla="*/ 41040 w 649440"/>
              <a:gd name="textAreaRight" fmla="*/ 608400 w 649440"/>
              <a:gd name="textAreaTop" fmla="*/ 41040 h 638280"/>
              <a:gd name="textAreaBottom" fmla="*/ 597240 h 638280"/>
            </a:gdLst>
            <a:ahLst/>
            <a:rect l="textAreaLeft" t="textAreaTop" r="textAreaRight" b="textAreaBottom"/>
            <a:pathLst>
              <a:path w="21977" h="21600">
                <a:moveTo>
                  <a:pt x="0" y="0"/>
                </a:moveTo>
                <a:lnTo>
                  <a:pt x="21977" y="0"/>
                </a:lnTo>
                <a:lnTo>
                  <a:pt x="21977" y="21600"/>
                </a:lnTo>
                <a:lnTo>
                  <a:pt x="0" y="21600"/>
                </a:lnTo>
                <a:close/>
              </a:path>
              <a:path fill="lightenLess" w="21977" h="21600">
                <a:moveTo>
                  <a:pt x="0" y="0"/>
                </a:moveTo>
                <a:lnTo>
                  <a:pt x="21977" y="0"/>
                </a:lnTo>
                <a:lnTo>
                  <a:pt x="20577" y="1400"/>
                </a:lnTo>
                <a:lnTo>
                  <a:pt x="1400" y="1400"/>
                </a:lnTo>
                <a:close/>
              </a:path>
              <a:path fill="darken" w="21977" h="21600">
                <a:moveTo>
                  <a:pt x="21977" y="0"/>
                </a:moveTo>
                <a:lnTo>
                  <a:pt x="21977" y="21600"/>
                </a:lnTo>
                <a:lnTo>
                  <a:pt x="20577" y="20200"/>
                </a:lnTo>
                <a:lnTo>
                  <a:pt x="20577" y="1400"/>
                </a:lnTo>
                <a:close/>
              </a:path>
              <a:path fill="darkenLess" w="21977" h="21600">
                <a:moveTo>
                  <a:pt x="21977" y="21600"/>
                </a:moveTo>
                <a:lnTo>
                  <a:pt x="0" y="21600"/>
                </a:lnTo>
                <a:lnTo>
                  <a:pt x="1400" y="20200"/>
                </a:lnTo>
                <a:lnTo>
                  <a:pt x="20577" y="20200"/>
                </a:lnTo>
                <a:close/>
              </a:path>
              <a:path fill="lighten" w="21977" h="21600">
                <a:moveTo>
                  <a:pt x="0" y="21600"/>
                </a:moveTo>
                <a:lnTo>
                  <a:pt x="0" y="0"/>
                </a:lnTo>
                <a:lnTo>
                  <a:pt x="1400" y="1400"/>
                </a:lnTo>
                <a:lnTo>
                  <a:pt x="1400" y="20200"/>
                </a:lnTo>
                <a:close/>
              </a:path>
              <a:path fill="darken" w="21977" h="21600">
                <a:moveTo>
                  <a:pt x="3982" y="10800"/>
                </a:moveTo>
                <a:lnTo>
                  <a:pt x="17995" y="3794"/>
                </a:lnTo>
                <a:lnTo>
                  <a:pt x="17995"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731" name="">
            <a:hlinkClick r:id="" action="ppaction://hlinkshowjump?jump=nextslide"/>
          </p:cNvPr>
          <p:cNvSpPr/>
          <p:nvPr/>
        </p:nvSpPr>
        <p:spPr>
          <a:xfrm>
            <a:off x="125892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4263" y="3794"/>
                </a:moveTo>
                <a:lnTo>
                  <a:pt x="18276" y="10800"/>
                </a:lnTo>
                <a:lnTo>
                  <a:pt x="4263"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732" name="">
            <a:hlinkClick r:id="" action="ppaction://hlinkshowjump?jump=firstslide"/>
          </p:cNvPr>
          <p:cNvSpPr/>
          <p:nvPr/>
        </p:nvSpPr>
        <p:spPr>
          <a:xfrm>
            <a:off x="61128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11270" y="3837"/>
                </a:moveTo>
                <a:lnTo>
                  <a:pt x="13846" y="6448"/>
                </a:lnTo>
                <a:lnTo>
                  <a:pt x="13846" y="4707"/>
                </a:lnTo>
                <a:lnTo>
                  <a:pt x="15621" y="4707"/>
                </a:lnTo>
                <a:lnTo>
                  <a:pt x="15621" y="8224"/>
                </a:lnTo>
                <a:lnTo>
                  <a:pt x="18233" y="10800"/>
                </a:lnTo>
                <a:lnTo>
                  <a:pt x="16579" y="10800"/>
                </a:lnTo>
                <a:lnTo>
                  <a:pt x="16579" y="17989"/>
                </a:lnTo>
                <a:lnTo>
                  <a:pt x="5960" y="17989"/>
                </a:lnTo>
                <a:lnTo>
                  <a:pt x="5960" y="10800"/>
                </a:lnTo>
                <a:lnTo>
                  <a:pt x="4307" y="10800"/>
                </a:lnTo>
                <a:close/>
              </a:path>
              <a:path fill="darkenLess" w="22539" h="21600">
                <a:moveTo>
                  <a:pt x="13846" y="6448"/>
                </a:moveTo>
                <a:lnTo>
                  <a:pt x="13846" y="4707"/>
                </a:lnTo>
                <a:lnTo>
                  <a:pt x="15621" y="4707"/>
                </a:lnTo>
                <a:lnTo>
                  <a:pt x="15621" y="8224"/>
                </a:lnTo>
                <a:close/>
              </a:path>
              <a:path fill="darkenLess" w="22539" h="21600">
                <a:moveTo>
                  <a:pt x="10347" y="14299"/>
                </a:moveTo>
                <a:lnTo>
                  <a:pt x="12192" y="14299"/>
                </a:lnTo>
                <a:lnTo>
                  <a:pt x="12192" y="17989"/>
                </a:lnTo>
                <a:lnTo>
                  <a:pt x="16579" y="17989"/>
                </a:lnTo>
                <a:lnTo>
                  <a:pt x="16579" y="10800"/>
                </a:lnTo>
                <a:lnTo>
                  <a:pt x="5960" y="10800"/>
                </a:lnTo>
                <a:lnTo>
                  <a:pt x="5960" y="17989"/>
                </a:lnTo>
                <a:lnTo>
                  <a:pt x="10347" y="17989"/>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Tree>
  </p:cSld>
  <p:transition spd="slow">
    <p:wheel spokes="1"/>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Arial"/>
              </a:rPr>
              <a:t>KAZANIMLAR</a:t>
            </a:r>
            <a:endParaRPr b="0" lang="en-US" sz="4200" spc="-1" strike="noStrike">
              <a:solidFill>
                <a:srgbClr val="ff5c9c"/>
              </a:solidFill>
              <a:latin typeface="Candara"/>
            </a:endParaRPr>
          </a:p>
        </p:txBody>
      </p:sp>
      <p:sp>
        <p:nvSpPr>
          <p:cNvPr id="61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marL="447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orumluluk duygusu kazandırabilme.</a:t>
            </a:r>
            <a:endParaRPr b="0" lang="en-US" sz="3000" spc="-1" strike="noStrike">
              <a:solidFill>
                <a:srgbClr val="ffffff"/>
              </a:solidFill>
              <a:latin typeface="Candara"/>
            </a:endParaRPr>
          </a:p>
          <a:p>
            <a:pPr marL="447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İletişim araçlarını anlama ve doğru kullanma becerileri kazandırma.</a:t>
            </a:r>
            <a:endParaRPr b="0" lang="en-US" sz="3000" spc="-1" strike="noStrike">
              <a:solidFill>
                <a:srgbClr val="ffffff"/>
              </a:solidFill>
              <a:latin typeface="Candara"/>
            </a:endParaRPr>
          </a:p>
          <a:p>
            <a:pPr marL="447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Eleştirel düşünme yeteneği kazandırma.</a:t>
            </a:r>
            <a:endParaRPr b="0" lang="en-US" sz="3000" spc="-1" strike="noStrike">
              <a:solidFill>
                <a:srgbClr val="ffffff"/>
              </a:solidFill>
              <a:latin typeface="Candara"/>
            </a:endParaRPr>
          </a:p>
          <a:p>
            <a:pPr marL="447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Takım çalışmaları ve başkalarına saygı duyma becerileri kazandırma.</a:t>
            </a:r>
            <a:endParaRPr b="0" lang="en-US" sz="3000" spc="-1" strike="noStrike">
              <a:solidFill>
                <a:srgbClr val="ffffff"/>
              </a:solidFill>
              <a:latin typeface="Candara"/>
            </a:endParaRPr>
          </a:p>
          <a:p>
            <a:pPr marL="447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Kendilerini anlama ve öğrendiklerini başka alanlarda kullanabilme becerileri kazandırma.</a:t>
            </a:r>
            <a:endParaRPr b="0" lang="en-US" sz="3000" spc="-1" strike="noStrike">
              <a:solidFill>
                <a:srgbClr val="ffffff"/>
              </a:solidFill>
              <a:latin typeface="Candara"/>
            </a:endParaRPr>
          </a:p>
          <a:p>
            <a:pPr marL="447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611" name="">
            <a:hlinkClick r:id="" action="ppaction://hlinkshowjump?jump=previousslide"/>
          </p:cNvPr>
          <p:cNvSpPr/>
          <p:nvPr/>
        </p:nvSpPr>
        <p:spPr>
          <a:xfrm>
            <a:off x="0" y="6291360"/>
            <a:ext cx="647640" cy="566640"/>
          </a:xfrm>
          <a:custGeom>
            <a:avLst/>
            <a:gdLst>
              <a:gd name="textAreaLeft" fmla="*/ 36720 w 647640"/>
              <a:gd name="textAreaRight" fmla="*/ 610920 w 647640"/>
              <a:gd name="textAreaTop" fmla="*/ 36720 h 566640"/>
              <a:gd name="textAreaBottom" fmla="*/ 529920 h 566640"/>
            </a:gdLst>
            <a:ahLst/>
            <a:rect l="textAreaLeft" t="textAreaTop" r="textAreaRight" b="textAreaBottom"/>
            <a:pathLst>
              <a:path w="24686" h="21600">
                <a:moveTo>
                  <a:pt x="0" y="0"/>
                </a:moveTo>
                <a:lnTo>
                  <a:pt x="24686" y="0"/>
                </a:lnTo>
                <a:lnTo>
                  <a:pt x="24686" y="21600"/>
                </a:lnTo>
                <a:lnTo>
                  <a:pt x="0" y="21600"/>
                </a:lnTo>
                <a:close/>
              </a:path>
              <a:path fill="lightenLess" w="24686" h="21600">
                <a:moveTo>
                  <a:pt x="0" y="0"/>
                </a:moveTo>
                <a:lnTo>
                  <a:pt x="24686" y="0"/>
                </a:lnTo>
                <a:lnTo>
                  <a:pt x="23286" y="1400"/>
                </a:lnTo>
                <a:lnTo>
                  <a:pt x="1400" y="1400"/>
                </a:lnTo>
                <a:close/>
              </a:path>
              <a:path fill="darken" w="24686" h="21600">
                <a:moveTo>
                  <a:pt x="24686" y="0"/>
                </a:moveTo>
                <a:lnTo>
                  <a:pt x="24686" y="21600"/>
                </a:lnTo>
                <a:lnTo>
                  <a:pt x="23286" y="20200"/>
                </a:lnTo>
                <a:lnTo>
                  <a:pt x="23286" y="1400"/>
                </a:lnTo>
                <a:close/>
              </a:path>
              <a:path fill="darkenLess" w="24686" h="21600">
                <a:moveTo>
                  <a:pt x="24686" y="21600"/>
                </a:moveTo>
                <a:lnTo>
                  <a:pt x="0" y="21600"/>
                </a:lnTo>
                <a:lnTo>
                  <a:pt x="1400" y="20200"/>
                </a:lnTo>
                <a:lnTo>
                  <a:pt x="23286" y="20200"/>
                </a:lnTo>
                <a:close/>
              </a:path>
              <a:path fill="lighten" w="24686" h="21600">
                <a:moveTo>
                  <a:pt x="0" y="21600"/>
                </a:moveTo>
                <a:lnTo>
                  <a:pt x="0" y="0"/>
                </a:lnTo>
                <a:lnTo>
                  <a:pt x="1400" y="1400"/>
                </a:lnTo>
                <a:lnTo>
                  <a:pt x="1400" y="20200"/>
                </a:lnTo>
                <a:close/>
              </a:path>
              <a:path fill="darken" w="24686" h="21600">
                <a:moveTo>
                  <a:pt x="5336" y="10800"/>
                </a:moveTo>
                <a:lnTo>
                  <a:pt x="19349" y="3794"/>
                </a:lnTo>
                <a:lnTo>
                  <a:pt x="19349"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612" name="">
            <a:hlinkClick r:id="" action="ppaction://hlinkshowjump?jump=nextslide"/>
          </p:cNvPr>
          <p:cNvSpPr/>
          <p:nvPr/>
        </p:nvSpPr>
        <p:spPr>
          <a:xfrm>
            <a:off x="1258920" y="6283440"/>
            <a:ext cx="647640" cy="574560"/>
          </a:xfrm>
          <a:custGeom>
            <a:avLst/>
            <a:gdLst>
              <a:gd name="textAreaLeft" fmla="*/ 37080 w 647640"/>
              <a:gd name="textAreaRight" fmla="*/ 610560 w 647640"/>
              <a:gd name="textAreaTop" fmla="*/ 37080 h 574560"/>
              <a:gd name="textAreaBottom" fmla="*/ 537480 h 574560"/>
            </a:gdLst>
            <a:ahLst/>
            <a:rect l="textAreaLeft" t="textAreaTop" r="textAreaRight" b="textAreaBottom"/>
            <a:pathLst>
              <a:path w="24346" h="21600">
                <a:moveTo>
                  <a:pt x="0" y="0"/>
                </a:moveTo>
                <a:lnTo>
                  <a:pt x="24346" y="0"/>
                </a:lnTo>
                <a:lnTo>
                  <a:pt x="24346" y="21600"/>
                </a:lnTo>
                <a:lnTo>
                  <a:pt x="0" y="21600"/>
                </a:lnTo>
                <a:close/>
              </a:path>
              <a:path fill="lightenLess" w="24346" h="21600">
                <a:moveTo>
                  <a:pt x="0" y="0"/>
                </a:moveTo>
                <a:lnTo>
                  <a:pt x="24346" y="0"/>
                </a:lnTo>
                <a:lnTo>
                  <a:pt x="22946" y="1400"/>
                </a:lnTo>
                <a:lnTo>
                  <a:pt x="1400" y="1400"/>
                </a:lnTo>
                <a:close/>
              </a:path>
              <a:path fill="darken" w="24346" h="21600">
                <a:moveTo>
                  <a:pt x="24346" y="0"/>
                </a:moveTo>
                <a:lnTo>
                  <a:pt x="24346" y="21600"/>
                </a:lnTo>
                <a:lnTo>
                  <a:pt x="22946" y="20200"/>
                </a:lnTo>
                <a:lnTo>
                  <a:pt x="22946" y="1400"/>
                </a:lnTo>
                <a:close/>
              </a:path>
              <a:path fill="darkenLess" w="24346" h="21600">
                <a:moveTo>
                  <a:pt x="24346" y="21600"/>
                </a:moveTo>
                <a:lnTo>
                  <a:pt x="0" y="21600"/>
                </a:lnTo>
                <a:lnTo>
                  <a:pt x="1400" y="20200"/>
                </a:lnTo>
                <a:lnTo>
                  <a:pt x="22946" y="20200"/>
                </a:lnTo>
                <a:close/>
              </a:path>
              <a:path fill="lighten" w="24346" h="21600">
                <a:moveTo>
                  <a:pt x="0" y="21600"/>
                </a:moveTo>
                <a:lnTo>
                  <a:pt x="0" y="0"/>
                </a:lnTo>
                <a:lnTo>
                  <a:pt x="1400" y="1400"/>
                </a:lnTo>
                <a:lnTo>
                  <a:pt x="1400" y="20200"/>
                </a:lnTo>
                <a:close/>
              </a:path>
              <a:path fill="darken" w="24346" h="21600">
                <a:moveTo>
                  <a:pt x="5166" y="3794"/>
                </a:moveTo>
                <a:lnTo>
                  <a:pt x="19179" y="10800"/>
                </a:lnTo>
                <a:lnTo>
                  <a:pt x="5166"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613" name="">
            <a:hlinkClick r:id="" action="ppaction://hlinkshowjump?jump=firstslide"/>
          </p:cNvPr>
          <p:cNvSpPr/>
          <p:nvPr/>
        </p:nvSpPr>
        <p:spPr>
          <a:xfrm>
            <a:off x="61128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11270" y="3837"/>
                </a:moveTo>
                <a:lnTo>
                  <a:pt x="13846" y="6448"/>
                </a:lnTo>
                <a:lnTo>
                  <a:pt x="13846" y="4707"/>
                </a:lnTo>
                <a:lnTo>
                  <a:pt x="15621" y="4707"/>
                </a:lnTo>
                <a:lnTo>
                  <a:pt x="15621" y="8224"/>
                </a:lnTo>
                <a:lnTo>
                  <a:pt x="18233" y="10800"/>
                </a:lnTo>
                <a:lnTo>
                  <a:pt x="16579" y="10800"/>
                </a:lnTo>
                <a:lnTo>
                  <a:pt x="16579" y="17989"/>
                </a:lnTo>
                <a:lnTo>
                  <a:pt x="5960" y="17989"/>
                </a:lnTo>
                <a:lnTo>
                  <a:pt x="5960" y="10800"/>
                </a:lnTo>
                <a:lnTo>
                  <a:pt x="4307" y="10800"/>
                </a:lnTo>
                <a:close/>
              </a:path>
              <a:path fill="darkenLess" w="22539" h="21600">
                <a:moveTo>
                  <a:pt x="13846" y="6448"/>
                </a:moveTo>
                <a:lnTo>
                  <a:pt x="13846" y="4707"/>
                </a:lnTo>
                <a:lnTo>
                  <a:pt x="15621" y="4707"/>
                </a:lnTo>
                <a:lnTo>
                  <a:pt x="15621" y="8224"/>
                </a:lnTo>
                <a:close/>
              </a:path>
              <a:path fill="darkenLess" w="22539" h="21600">
                <a:moveTo>
                  <a:pt x="10347" y="14299"/>
                </a:moveTo>
                <a:lnTo>
                  <a:pt x="12192" y="14299"/>
                </a:lnTo>
                <a:lnTo>
                  <a:pt x="12192" y="17989"/>
                </a:lnTo>
                <a:lnTo>
                  <a:pt x="16579" y="17989"/>
                </a:lnTo>
                <a:lnTo>
                  <a:pt x="16579" y="10800"/>
                </a:lnTo>
                <a:lnTo>
                  <a:pt x="5960" y="10800"/>
                </a:lnTo>
                <a:lnTo>
                  <a:pt x="5960" y="17989"/>
                </a:lnTo>
                <a:lnTo>
                  <a:pt x="10347" y="17989"/>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Tree>
  </p:cSld>
  <p:transition spd="slow">
    <p:wheel spokes="1"/>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3" name="Dikdörtgen 3"/>
          <p:cNvSpPr/>
          <p:nvPr/>
        </p:nvSpPr>
        <p:spPr>
          <a:xfrm>
            <a:off x="1763640" y="476280"/>
            <a:ext cx="4753080" cy="527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Verdana"/>
              </a:rPr>
              <a:t>Halketsem esirlerle leşker,</a:t>
            </a:r>
            <a:endParaRPr b="0" lang="en-US" sz="20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Verdana"/>
              </a:rPr>
              <a:t>Mahveylesem ordularla asker,</a:t>
            </a:r>
            <a:endParaRPr b="0" lang="en-US" sz="20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Verdana"/>
              </a:rPr>
              <a:t>Olsa bana hep mülûk çâker;</a:t>
            </a:r>
            <a:endParaRPr b="0" lang="en-US" sz="20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Verdana"/>
              </a:rPr>
              <a:t>Cinsince o iktidar münker,</a:t>
            </a:r>
            <a:endParaRPr b="0" lang="en-US" sz="20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Verdana"/>
              </a:rPr>
              <a:t>Fevkimde uçar tuyûr-u kemter!</a:t>
            </a:r>
            <a:endParaRPr b="0" lang="en-US" sz="20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Verdana"/>
              </a:rPr>
              <a:t>Âvâze-i dehr iken tanînim,</a:t>
            </a:r>
            <a:endParaRPr b="0" lang="en-US" sz="20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Verdana"/>
              </a:rPr>
              <a:t>Gördüm ana değmiyor enînim;</a:t>
            </a:r>
            <a:endParaRPr b="0" lang="en-US" sz="20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Verdana"/>
              </a:rPr>
              <a:t>Milletlere karşı âhenînim;</a:t>
            </a:r>
            <a:endParaRPr b="0" lang="en-US" sz="20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Verdana"/>
              </a:rPr>
              <a:t>Bir âfete karşı nazenînim.</a:t>
            </a:r>
            <a:endParaRPr b="0" lang="en-US" sz="20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Verdana"/>
              </a:rPr>
              <a:t>Afetse de ey ilâh göster!</a:t>
            </a:r>
            <a:endParaRPr b="0" lang="en-US" sz="20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Verdana"/>
              </a:rPr>
              <a:t>Bilmem bana ân mı, şân mı lâzım?</a:t>
            </a:r>
            <a:endParaRPr b="0" lang="en-US" sz="20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Verdana"/>
              </a:rPr>
              <a:t>Gülbün mü ya kehkeşân mı lâzım?</a:t>
            </a:r>
            <a:endParaRPr b="0" lang="en-US" sz="20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Verdana"/>
              </a:rPr>
              <a:t>Âguuş-u vefâ-nişân mı lâzım?</a:t>
            </a:r>
            <a:endParaRPr b="0" lang="en-US" sz="20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Verdana"/>
              </a:rPr>
              <a:t>Bir pençe-i hun-feşân mı lâzım?</a:t>
            </a:r>
            <a:endParaRPr b="0" lang="en-US" sz="20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Verdana"/>
              </a:rPr>
              <a:t>Canan mı güzel, cihan mı hoş-ter?    </a:t>
            </a:r>
            <a:endParaRPr b="0" lang="en-US" sz="20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Verdana"/>
              </a:rPr>
              <a:t>   </a:t>
            </a:r>
            <a:r>
              <a:rPr b="1" lang="tr-TR" sz="2400" spc="-1" strike="noStrike">
                <a:solidFill>
                  <a:srgbClr val="ffffff"/>
                </a:solidFill>
                <a:latin typeface="Verdana"/>
              </a:rPr>
              <a:t>(</a:t>
            </a:r>
            <a:r>
              <a:rPr b="1" lang="tr-TR" sz="1600" spc="-1" strike="noStrike">
                <a:solidFill>
                  <a:srgbClr val="ffffff"/>
                </a:solidFill>
                <a:latin typeface="Verdana"/>
              </a:rPr>
              <a:t>Abdülhak Hâmit TARHAN) </a:t>
            </a:r>
            <a:endParaRPr b="0" lang="en-US" sz="16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ndara"/>
            </a:endParaRPr>
          </a:p>
        </p:txBody>
      </p:sp>
      <p:pic>
        <p:nvPicPr>
          <p:cNvPr id="734" name="" descr=""/>
          <p:cNvPicPr/>
          <p:nvPr/>
        </p:nvPicPr>
        <p:blipFill>
          <a:blip r:embed="rId2"/>
          <a:stretch/>
        </p:blipFill>
        <p:spPr>
          <a:xfrm>
            <a:off x="8317080" y="6093000"/>
            <a:ext cx="304560" cy="304560"/>
          </a:xfrm>
          <a:prstGeom prst="rect">
            <a:avLst/>
          </a:prstGeom>
          <a:ln w="0">
            <a:noFill/>
          </a:ln>
        </p:spPr>
      </p:pic>
      <p:sp>
        <p:nvSpPr>
          <p:cNvPr id="735" name="">
            <a:hlinkClick r:id="" action="ppaction://hlinkshowjump?jump=previousslide"/>
          </p:cNvPr>
          <p:cNvSpPr/>
          <p:nvPr/>
        </p:nvSpPr>
        <p:spPr>
          <a:xfrm>
            <a:off x="0" y="6219720"/>
            <a:ext cx="649440" cy="638280"/>
          </a:xfrm>
          <a:custGeom>
            <a:avLst/>
            <a:gdLst>
              <a:gd name="textAreaLeft" fmla="*/ 41040 w 649440"/>
              <a:gd name="textAreaRight" fmla="*/ 608400 w 649440"/>
              <a:gd name="textAreaTop" fmla="*/ 41040 h 638280"/>
              <a:gd name="textAreaBottom" fmla="*/ 597240 h 638280"/>
            </a:gdLst>
            <a:ahLst/>
            <a:rect l="textAreaLeft" t="textAreaTop" r="textAreaRight" b="textAreaBottom"/>
            <a:pathLst>
              <a:path w="21977" h="21600">
                <a:moveTo>
                  <a:pt x="0" y="0"/>
                </a:moveTo>
                <a:lnTo>
                  <a:pt x="21977" y="0"/>
                </a:lnTo>
                <a:lnTo>
                  <a:pt x="21977" y="21600"/>
                </a:lnTo>
                <a:lnTo>
                  <a:pt x="0" y="21600"/>
                </a:lnTo>
                <a:close/>
              </a:path>
              <a:path fill="lightenLess" w="21977" h="21600">
                <a:moveTo>
                  <a:pt x="0" y="0"/>
                </a:moveTo>
                <a:lnTo>
                  <a:pt x="21977" y="0"/>
                </a:lnTo>
                <a:lnTo>
                  <a:pt x="20577" y="1400"/>
                </a:lnTo>
                <a:lnTo>
                  <a:pt x="1400" y="1400"/>
                </a:lnTo>
                <a:close/>
              </a:path>
              <a:path fill="darken" w="21977" h="21600">
                <a:moveTo>
                  <a:pt x="21977" y="0"/>
                </a:moveTo>
                <a:lnTo>
                  <a:pt x="21977" y="21600"/>
                </a:lnTo>
                <a:lnTo>
                  <a:pt x="20577" y="20200"/>
                </a:lnTo>
                <a:lnTo>
                  <a:pt x="20577" y="1400"/>
                </a:lnTo>
                <a:close/>
              </a:path>
              <a:path fill="darkenLess" w="21977" h="21600">
                <a:moveTo>
                  <a:pt x="21977" y="21600"/>
                </a:moveTo>
                <a:lnTo>
                  <a:pt x="0" y="21600"/>
                </a:lnTo>
                <a:lnTo>
                  <a:pt x="1400" y="20200"/>
                </a:lnTo>
                <a:lnTo>
                  <a:pt x="20577" y="20200"/>
                </a:lnTo>
                <a:close/>
              </a:path>
              <a:path fill="lighten" w="21977" h="21600">
                <a:moveTo>
                  <a:pt x="0" y="21600"/>
                </a:moveTo>
                <a:lnTo>
                  <a:pt x="0" y="0"/>
                </a:lnTo>
                <a:lnTo>
                  <a:pt x="1400" y="1400"/>
                </a:lnTo>
                <a:lnTo>
                  <a:pt x="1400" y="20200"/>
                </a:lnTo>
                <a:close/>
              </a:path>
              <a:path fill="darken" w="21977" h="21600">
                <a:moveTo>
                  <a:pt x="3982" y="10800"/>
                </a:moveTo>
                <a:lnTo>
                  <a:pt x="17995" y="3794"/>
                </a:lnTo>
                <a:lnTo>
                  <a:pt x="17995"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736" name="">
            <a:hlinkClick r:id="" action="ppaction://hlinkshowjump?jump=nextslide"/>
          </p:cNvPr>
          <p:cNvSpPr/>
          <p:nvPr/>
        </p:nvSpPr>
        <p:spPr>
          <a:xfrm>
            <a:off x="125892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4263" y="3794"/>
                </a:moveTo>
                <a:lnTo>
                  <a:pt x="18276" y="10800"/>
                </a:lnTo>
                <a:lnTo>
                  <a:pt x="4263"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737" name="">
            <a:hlinkClick r:id="" action="ppaction://hlinkshowjump?jump=firstslide"/>
          </p:cNvPr>
          <p:cNvSpPr/>
          <p:nvPr/>
        </p:nvSpPr>
        <p:spPr>
          <a:xfrm>
            <a:off x="61128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11270" y="3837"/>
                </a:moveTo>
                <a:lnTo>
                  <a:pt x="13846" y="6448"/>
                </a:lnTo>
                <a:lnTo>
                  <a:pt x="13846" y="4707"/>
                </a:lnTo>
                <a:lnTo>
                  <a:pt x="15621" y="4707"/>
                </a:lnTo>
                <a:lnTo>
                  <a:pt x="15621" y="8224"/>
                </a:lnTo>
                <a:lnTo>
                  <a:pt x="18233" y="10800"/>
                </a:lnTo>
                <a:lnTo>
                  <a:pt x="16579" y="10800"/>
                </a:lnTo>
                <a:lnTo>
                  <a:pt x="16579" y="17989"/>
                </a:lnTo>
                <a:lnTo>
                  <a:pt x="5960" y="17989"/>
                </a:lnTo>
                <a:lnTo>
                  <a:pt x="5960" y="10800"/>
                </a:lnTo>
                <a:lnTo>
                  <a:pt x="4307" y="10800"/>
                </a:lnTo>
                <a:close/>
              </a:path>
              <a:path fill="darkenLess" w="22539" h="21600">
                <a:moveTo>
                  <a:pt x="13846" y="6448"/>
                </a:moveTo>
                <a:lnTo>
                  <a:pt x="13846" y="4707"/>
                </a:lnTo>
                <a:lnTo>
                  <a:pt x="15621" y="4707"/>
                </a:lnTo>
                <a:lnTo>
                  <a:pt x="15621" y="8224"/>
                </a:lnTo>
                <a:close/>
              </a:path>
              <a:path fill="darkenLess" w="22539" h="21600">
                <a:moveTo>
                  <a:pt x="10347" y="14299"/>
                </a:moveTo>
                <a:lnTo>
                  <a:pt x="12192" y="14299"/>
                </a:lnTo>
                <a:lnTo>
                  <a:pt x="12192" y="17989"/>
                </a:lnTo>
                <a:lnTo>
                  <a:pt x="16579" y="17989"/>
                </a:lnTo>
                <a:lnTo>
                  <a:pt x="16579" y="10800"/>
                </a:lnTo>
                <a:lnTo>
                  <a:pt x="5960" y="10800"/>
                </a:lnTo>
                <a:lnTo>
                  <a:pt x="5960" y="17989"/>
                </a:lnTo>
                <a:lnTo>
                  <a:pt x="10347" y="17989"/>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Tree>
  </p:cSld>
  <p:transition spd="slow">
    <p:wheel spokes="1"/>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1" fill="hold"/>
                                        <p:tgtEl>
                                          <p:spTgt spid="7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738" name="PlaceHolder 1"/>
          <p:cNvSpPr>
            <a:spLocks noGrp="1"/>
          </p:cNvSpPr>
          <p:nvPr>
            <p:ph/>
          </p:nvPr>
        </p:nvSpPr>
        <p:spPr>
          <a:xfrm>
            <a:off x="457200" y="620640"/>
            <a:ext cx="8229600" cy="5834160"/>
          </a:xfrm>
          <a:prstGeom prst="rect">
            <a:avLst/>
          </a:prstGeom>
          <a:noFill/>
          <a:ln w="0">
            <a:noFill/>
          </a:ln>
        </p:spPr>
        <p:txBody>
          <a:bodyPr lIns="90000" rIns="90000" tIns="46800" bIns="46800" anchor="t">
            <a:normAutofit/>
          </a:bodyPr>
          <a:p>
            <a:pPr marL="4478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Candara"/>
              </a:rPr>
              <a:t>                      </a:t>
            </a:r>
            <a:endParaRPr b="0" lang="en-US" sz="3000" spc="-1" strike="noStrike">
              <a:solidFill>
                <a:srgbClr val="ffffff"/>
              </a:solidFill>
              <a:latin typeface="Candara"/>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Candara"/>
              </a:rPr>
              <a:t>                             </a:t>
            </a:r>
            <a:r>
              <a:rPr b="1" lang="tr-TR" sz="3200" spc="-1" strike="noStrike">
                <a:solidFill>
                  <a:srgbClr val="ffffff"/>
                </a:solidFill>
                <a:latin typeface="Candara"/>
              </a:rPr>
              <a:t>HAZIRLAYANLAR</a:t>
            </a:r>
            <a:endParaRPr b="0" lang="en-US" sz="3200" spc="-1" strike="noStrike">
              <a:solidFill>
                <a:srgbClr val="ffffff"/>
              </a:solidFill>
              <a:latin typeface="Candara"/>
            </a:endParaRPr>
          </a:p>
          <a:p>
            <a:pPr marL="4478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Candara"/>
              </a:rPr>
              <a:t>                             </a:t>
            </a:r>
            <a:r>
              <a:rPr b="0" lang="tr-TR" sz="3000" spc="-1" strike="noStrike">
                <a:solidFill>
                  <a:srgbClr val="ffffff"/>
                </a:solidFill>
                <a:latin typeface="Candara"/>
              </a:rPr>
              <a:t>DENİZ GRUBU: </a:t>
            </a:r>
            <a:endParaRPr b="0" lang="en-US" sz="3000" spc="-1" strike="noStrike">
              <a:solidFill>
                <a:srgbClr val="ffffff"/>
              </a:solidFill>
              <a:latin typeface="Candara"/>
            </a:endParaRPr>
          </a:p>
          <a:p>
            <a:pPr marL="4478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a:p>
            <a:pPr marL="4478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Candara"/>
              </a:rPr>
              <a:t>      </a:t>
            </a:r>
            <a:r>
              <a:rPr b="0" lang="tr-TR" sz="3000" spc="-1" strike="noStrike">
                <a:solidFill>
                  <a:srgbClr val="ffffff"/>
                </a:solidFill>
                <a:latin typeface="Candara"/>
              </a:rPr>
              <a:t>Ergül CELEP, Nursun KARAGÜL, Emel USLU, Nilüfer BEYAZIT</a:t>
            </a:r>
            <a:endParaRPr b="0" lang="en-US" sz="3000" spc="-1" strike="noStrike">
              <a:solidFill>
                <a:srgbClr val="ffffff"/>
              </a:solidFill>
              <a:latin typeface="Candara"/>
            </a:endParaRPr>
          </a:p>
          <a:p>
            <a:pPr marL="4478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ndara"/>
            </a:endParaRPr>
          </a:p>
        </p:txBody>
      </p:sp>
      <p:sp>
        <p:nvSpPr>
          <p:cNvPr id="739" name="">
            <a:hlinkClick r:id="" action="ppaction://hlinkshowjump?jump=previousslide"/>
          </p:cNvPr>
          <p:cNvSpPr/>
          <p:nvPr/>
        </p:nvSpPr>
        <p:spPr>
          <a:xfrm>
            <a:off x="0" y="6219720"/>
            <a:ext cx="649440" cy="638280"/>
          </a:xfrm>
          <a:custGeom>
            <a:avLst/>
            <a:gdLst>
              <a:gd name="textAreaLeft" fmla="*/ 41040 w 649440"/>
              <a:gd name="textAreaRight" fmla="*/ 608400 w 649440"/>
              <a:gd name="textAreaTop" fmla="*/ 41040 h 638280"/>
              <a:gd name="textAreaBottom" fmla="*/ 597240 h 638280"/>
            </a:gdLst>
            <a:ahLst/>
            <a:rect l="textAreaLeft" t="textAreaTop" r="textAreaRight" b="textAreaBottom"/>
            <a:pathLst>
              <a:path w="21977" h="21600">
                <a:moveTo>
                  <a:pt x="0" y="0"/>
                </a:moveTo>
                <a:lnTo>
                  <a:pt x="21977" y="0"/>
                </a:lnTo>
                <a:lnTo>
                  <a:pt x="21977" y="21600"/>
                </a:lnTo>
                <a:lnTo>
                  <a:pt x="0" y="21600"/>
                </a:lnTo>
                <a:close/>
              </a:path>
              <a:path fill="lightenLess" w="21977" h="21600">
                <a:moveTo>
                  <a:pt x="0" y="0"/>
                </a:moveTo>
                <a:lnTo>
                  <a:pt x="21977" y="0"/>
                </a:lnTo>
                <a:lnTo>
                  <a:pt x="20577" y="1400"/>
                </a:lnTo>
                <a:lnTo>
                  <a:pt x="1400" y="1400"/>
                </a:lnTo>
                <a:close/>
              </a:path>
              <a:path fill="darken" w="21977" h="21600">
                <a:moveTo>
                  <a:pt x="21977" y="0"/>
                </a:moveTo>
                <a:lnTo>
                  <a:pt x="21977" y="21600"/>
                </a:lnTo>
                <a:lnTo>
                  <a:pt x="20577" y="20200"/>
                </a:lnTo>
                <a:lnTo>
                  <a:pt x="20577" y="1400"/>
                </a:lnTo>
                <a:close/>
              </a:path>
              <a:path fill="darkenLess" w="21977" h="21600">
                <a:moveTo>
                  <a:pt x="21977" y="21600"/>
                </a:moveTo>
                <a:lnTo>
                  <a:pt x="0" y="21600"/>
                </a:lnTo>
                <a:lnTo>
                  <a:pt x="1400" y="20200"/>
                </a:lnTo>
                <a:lnTo>
                  <a:pt x="20577" y="20200"/>
                </a:lnTo>
                <a:close/>
              </a:path>
              <a:path fill="lighten" w="21977" h="21600">
                <a:moveTo>
                  <a:pt x="0" y="21600"/>
                </a:moveTo>
                <a:lnTo>
                  <a:pt x="0" y="0"/>
                </a:lnTo>
                <a:lnTo>
                  <a:pt x="1400" y="1400"/>
                </a:lnTo>
                <a:lnTo>
                  <a:pt x="1400" y="20200"/>
                </a:lnTo>
                <a:close/>
              </a:path>
              <a:path fill="darken" w="21977" h="21600">
                <a:moveTo>
                  <a:pt x="3982" y="10800"/>
                </a:moveTo>
                <a:lnTo>
                  <a:pt x="17995" y="3794"/>
                </a:lnTo>
                <a:lnTo>
                  <a:pt x="17995"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740" name="">
            <a:hlinkClick r:id="" action="ppaction://hlinkshowjump?jump=nextslide"/>
          </p:cNvPr>
          <p:cNvSpPr/>
          <p:nvPr/>
        </p:nvSpPr>
        <p:spPr>
          <a:xfrm>
            <a:off x="125892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4263" y="3794"/>
                </a:moveTo>
                <a:lnTo>
                  <a:pt x="18276" y="10800"/>
                </a:lnTo>
                <a:lnTo>
                  <a:pt x="4263"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741" name="">
            <a:hlinkClick r:id="" action="ppaction://hlinkshowjump?jump=firstslide"/>
          </p:cNvPr>
          <p:cNvSpPr/>
          <p:nvPr/>
        </p:nvSpPr>
        <p:spPr>
          <a:xfrm>
            <a:off x="61128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11270" y="3837"/>
                </a:moveTo>
                <a:lnTo>
                  <a:pt x="13846" y="6448"/>
                </a:lnTo>
                <a:lnTo>
                  <a:pt x="13846" y="4707"/>
                </a:lnTo>
                <a:lnTo>
                  <a:pt x="15621" y="4707"/>
                </a:lnTo>
                <a:lnTo>
                  <a:pt x="15621" y="8224"/>
                </a:lnTo>
                <a:lnTo>
                  <a:pt x="18233" y="10800"/>
                </a:lnTo>
                <a:lnTo>
                  <a:pt x="16579" y="10800"/>
                </a:lnTo>
                <a:lnTo>
                  <a:pt x="16579" y="17989"/>
                </a:lnTo>
                <a:lnTo>
                  <a:pt x="5960" y="17989"/>
                </a:lnTo>
                <a:lnTo>
                  <a:pt x="5960" y="10800"/>
                </a:lnTo>
                <a:lnTo>
                  <a:pt x="4307" y="10800"/>
                </a:lnTo>
                <a:close/>
              </a:path>
              <a:path fill="darkenLess" w="22539" h="21600">
                <a:moveTo>
                  <a:pt x="13846" y="6448"/>
                </a:moveTo>
                <a:lnTo>
                  <a:pt x="13846" y="4707"/>
                </a:lnTo>
                <a:lnTo>
                  <a:pt x="15621" y="4707"/>
                </a:lnTo>
                <a:lnTo>
                  <a:pt x="15621" y="8224"/>
                </a:lnTo>
                <a:close/>
              </a:path>
              <a:path fill="darkenLess" w="22539" h="21600">
                <a:moveTo>
                  <a:pt x="10347" y="14299"/>
                </a:moveTo>
                <a:lnTo>
                  <a:pt x="12192" y="14299"/>
                </a:lnTo>
                <a:lnTo>
                  <a:pt x="12192" y="17989"/>
                </a:lnTo>
                <a:lnTo>
                  <a:pt x="16579" y="17989"/>
                </a:lnTo>
                <a:lnTo>
                  <a:pt x="16579" y="10800"/>
                </a:lnTo>
                <a:lnTo>
                  <a:pt x="5960" y="10800"/>
                </a:lnTo>
                <a:lnTo>
                  <a:pt x="5960" y="17989"/>
                </a:lnTo>
                <a:lnTo>
                  <a:pt x="10347" y="17989"/>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Tree>
  </p:cSld>
  <p:transition spd="slow">
    <p:wheel spokes="1"/>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42" name="Dikdörtgen 5" descr=""/>
          <p:cNvPicPr/>
          <p:nvPr/>
        </p:nvPicPr>
        <p:blipFill>
          <a:blip r:embed="rId2"/>
          <a:stretch/>
        </p:blipFill>
        <p:spPr>
          <a:xfrm>
            <a:off x="2651040" y="219240"/>
            <a:ext cx="3359160" cy="1116000"/>
          </a:xfrm>
          <a:prstGeom prst="rect">
            <a:avLst/>
          </a:prstGeom>
          <a:ln w="0">
            <a:noFill/>
          </a:ln>
        </p:spPr>
      </p:pic>
      <p:sp>
        <p:nvSpPr>
          <p:cNvPr id="743" name="Dikdörtgen 6"/>
          <p:cNvSpPr/>
          <p:nvPr/>
        </p:nvSpPr>
        <p:spPr>
          <a:xfrm>
            <a:off x="324000" y="1996920"/>
            <a:ext cx="8569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andara"/>
              </a:rPr>
              <a:t> </a:t>
            </a:r>
            <a:r>
              <a:rPr b="0" lang="tr-TR" sz="1800" spc="-1" strike="noStrike" u="sng">
                <a:solidFill>
                  <a:srgbClr val="17bbfd"/>
                </a:solidFill>
                <a:uFillTx/>
                <a:latin typeface="Arial"/>
                <a:hlinkClick r:id="rId3"/>
              </a:rPr>
              <a:t>http://www.turkceciler.com/Dersnotlari/siirbilgisi.htm</a:t>
            </a:r>
            <a:endParaRPr b="0" lang="en-US" sz="18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u="sng">
                <a:solidFill>
                  <a:srgbClr val="17bbfd"/>
                </a:solidFill>
                <a:uFillTx/>
                <a:latin typeface="Arial"/>
                <a:hlinkClick r:id="rId4"/>
              </a:rPr>
              <a:t>http://edebiyatgunlugu.wordpress.com/2007/04/11/konularina-gore-siir-turleri/</a:t>
            </a:r>
            <a:endParaRPr b="0" lang="en-US" sz="18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http://www.baktabul.net/turkce/15865-siir-cesitleri-dize-beyit-vezin-olcutler-redif-kafiyeler.html</a:t>
            </a:r>
            <a:endParaRPr b="0" lang="en-US" sz="1800" spc="-1" strike="noStrike">
              <a:solidFill>
                <a:srgbClr val="ffffff"/>
              </a:solidFill>
              <a:latin typeface="Candara"/>
            </a:endParaRPr>
          </a:p>
        </p:txBody>
      </p:sp>
      <p:sp>
        <p:nvSpPr>
          <p:cNvPr id="744" name="">
            <a:hlinkClick r:id="" action="ppaction://hlinkshowjump?jump=previousslide"/>
          </p:cNvPr>
          <p:cNvSpPr/>
          <p:nvPr/>
        </p:nvSpPr>
        <p:spPr>
          <a:xfrm>
            <a:off x="0" y="6219720"/>
            <a:ext cx="649440" cy="638280"/>
          </a:xfrm>
          <a:custGeom>
            <a:avLst/>
            <a:gdLst>
              <a:gd name="textAreaLeft" fmla="*/ 41040 w 649440"/>
              <a:gd name="textAreaRight" fmla="*/ 608400 w 649440"/>
              <a:gd name="textAreaTop" fmla="*/ 41040 h 638280"/>
              <a:gd name="textAreaBottom" fmla="*/ 597240 h 638280"/>
            </a:gdLst>
            <a:ahLst/>
            <a:rect l="textAreaLeft" t="textAreaTop" r="textAreaRight" b="textAreaBottom"/>
            <a:pathLst>
              <a:path w="21977" h="21600">
                <a:moveTo>
                  <a:pt x="0" y="0"/>
                </a:moveTo>
                <a:lnTo>
                  <a:pt x="21977" y="0"/>
                </a:lnTo>
                <a:lnTo>
                  <a:pt x="21977" y="21600"/>
                </a:lnTo>
                <a:lnTo>
                  <a:pt x="0" y="21600"/>
                </a:lnTo>
                <a:close/>
              </a:path>
              <a:path fill="lightenLess" w="21977" h="21600">
                <a:moveTo>
                  <a:pt x="0" y="0"/>
                </a:moveTo>
                <a:lnTo>
                  <a:pt x="21977" y="0"/>
                </a:lnTo>
                <a:lnTo>
                  <a:pt x="20577" y="1400"/>
                </a:lnTo>
                <a:lnTo>
                  <a:pt x="1400" y="1400"/>
                </a:lnTo>
                <a:close/>
              </a:path>
              <a:path fill="darken" w="21977" h="21600">
                <a:moveTo>
                  <a:pt x="21977" y="0"/>
                </a:moveTo>
                <a:lnTo>
                  <a:pt x="21977" y="21600"/>
                </a:lnTo>
                <a:lnTo>
                  <a:pt x="20577" y="20200"/>
                </a:lnTo>
                <a:lnTo>
                  <a:pt x="20577" y="1400"/>
                </a:lnTo>
                <a:close/>
              </a:path>
              <a:path fill="darkenLess" w="21977" h="21600">
                <a:moveTo>
                  <a:pt x="21977" y="21600"/>
                </a:moveTo>
                <a:lnTo>
                  <a:pt x="0" y="21600"/>
                </a:lnTo>
                <a:lnTo>
                  <a:pt x="1400" y="20200"/>
                </a:lnTo>
                <a:lnTo>
                  <a:pt x="20577" y="20200"/>
                </a:lnTo>
                <a:close/>
              </a:path>
              <a:path fill="lighten" w="21977" h="21600">
                <a:moveTo>
                  <a:pt x="0" y="21600"/>
                </a:moveTo>
                <a:lnTo>
                  <a:pt x="0" y="0"/>
                </a:lnTo>
                <a:lnTo>
                  <a:pt x="1400" y="1400"/>
                </a:lnTo>
                <a:lnTo>
                  <a:pt x="1400" y="20200"/>
                </a:lnTo>
                <a:close/>
              </a:path>
              <a:path fill="darken" w="21977" h="21600">
                <a:moveTo>
                  <a:pt x="3982" y="10800"/>
                </a:moveTo>
                <a:lnTo>
                  <a:pt x="17995" y="3794"/>
                </a:lnTo>
                <a:lnTo>
                  <a:pt x="17995"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745" name="">
            <a:hlinkClick r:id="" action="ppaction://hlinkshowjump?jump=firstslide"/>
          </p:cNvPr>
          <p:cNvSpPr/>
          <p:nvPr/>
        </p:nvSpPr>
        <p:spPr>
          <a:xfrm>
            <a:off x="61128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11270" y="3837"/>
                </a:moveTo>
                <a:lnTo>
                  <a:pt x="13846" y="6448"/>
                </a:lnTo>
                <a:lnTo>
                  <a:pt x="13846" y="4707"/>
                </a:lnTo>
                <a:lnTo>
                  <a:pt x="15621" y="4707"/>
                </a:lnTo>
                <a:lnTo>
                  <a:pt x="15621" y="8224"/>
                </a:lnTo>
                <a:lnTo>
                  <a:pt x="18233" y="10800"/>
                </a:lnTo>
                <a:lnTo>
                  <a:pt x="16579" y="10800"/>
                </a:lnTo>
                <a:lnTo>
                  <a:pt x="16579" y="17989"/>
                </a:lnTo>
                <a:lnTo>
                  <a:pt x="5960" y="17989"/>
                </a:lnTo>
                <a:lnTo>
                  <a:pt x="5960" y="10800"/>
                </a:lnTo>
                <a:lnTo>
                  <a:pt x="4307" y="10800"/>
                </a:lnTo>
                <a:close/>
              </a:path>
              <a:path fill="darkenLess" w="22539" h="21600">
                <a:moveTo>
                  <a:pt x="13846" y="6448"/>
                </a:moveTo>
                <a:lnTo>
                  <a:pt x="13846" y="4707"/>
                </a:lnTo>
                <a:lnTo>
                  <a:pt x="15621" y="4707"/>
                </a:lnTo>
                <a:lnTo>
                  <a:pt x="15621" y="8224"/>
                </a:lnTo>
                <a:close/>
              </a:path>
              <a:path fill="darkenLess" w="22539" h="21600">
                <a:moveTo>
                  <a:pt x="10347" y="14299"/>
                </a:moveTo>
                <a:lnTo>
                  <a:pt x="12192" y="14299"/>
                </a:lnTo>
                <a:lnTo>
                  <a:pt x="12192" y="17989"/>
                </a:lnTo>
                <a:lnTo>
                  <a:pt x="16579" y="17989"/>
                </a:lnTo>
                <a:lnTo>
                  <a:pt x="16579" y="10800"/>
                </a:lnTo>
                <a:lnTo>
                  <a:pt x="5960" y="10800"/>
                </a:lnTo>
                <a:lnTo>
                  <a:pt x="5960" y="17989"/>
                </a:lnTo>
                <a:lnTo>
                  <a:pt x="10347" y="17989"/>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746" name="">
            <a:hlinkClick r:id="" action="ppaction://hlinkshowjump?jump=nextslide"/>
          </p:cNvPr>
          <p:cNvSpPr/>
          <p:nvPr/>
        </p:nvSpPr>
        <p:spPr>
          <a:xfrm>
            <a:off x="125892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4263" y="3794"/>
                </a:moveTo>
                <a:lnTo>
                  <a:pt x="18276" y="10800"/>
                </a:lnTo>
                <a:lnTo>
                  <a:pt x="4263"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Tree>
  </p:cSld>
  <p:transition spd="slow">
    <p:wheel spokes="1"/>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7" name="PlaceHolder 1"/>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marL="44784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BİZİ DİNLEDİĞİNİZ İÇİN</a:t>
            </a:r>
            <a:endParaRPr b="0" lang="en-US" sz="4400" spc="-1" strike="noStrike">
              <a:solidFill>
                <a:srgbClr val="ffffff"/>
              </a:solidFill>
              <a:latin typeface="Candara"/>
            </a:endParaRPr>
          </a:p>
          <a:p>
            <a:pPr marL="44784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TEŞEKKÜR EDERİZ</a:t>
            </a:r>
            <a:endParaRPr b="0" lang="en-US" sz="4400" spc="-1" strike="noStrike">
              <a:solidFill>
                <a:srgbClr val="ffffff"/>
              </a:solidFill>
              <a:latin typeface="Candara"/>
            </a:endParaRPr>
          </a:p>
        </p:txBody>
      </p:sp>
      <p:sp>
        <p:nvSpPr>
          <p:cNvPr id="748" name="">
            <a:hlinkClick r:id="" action="ppaction://hlinkshowjump?jump=previousslide"/>
          </p:cNvPr>
          <p:cNvSpPr/>
          <p:nvPr/>
        </p:nvSpPr>
        <p:spPr>
          <a:xfrm>
            <a:off x="0" y="6219720"/>
            <a:ext cx="649440" cy="638280"/>
          </a:xfrm>
          <a:custGeom>
            <a:avLst/>
            <a:gdLst>
              <a:gd name="textAreaLeft" fmla="*/ 41040 w 649440"/>
              <a:gd name="textAreaRight" fmla="*/ 608400 w 649440"/>
              <a:gd name="textAreaTop" fmla="*/ 41040 h 638280"/>
              <a:gd name="textAreaBottom" fmla="*/ 597240 h 638280"/>
            </a:gdLst>
            <a:ahLst/>
            <a:rect l="textAreaLeft" t="textAreaTop" r="textAreaRight" b="textAreaBottom"/>
            <a:pathLst>
              <a:path w="21977" h="21600">
                <a:moveTo>
                  <a:pt x="0" y="0"/>
                </a:moveTo>
                <a:lnTo>
                  <a:pt x="21977" y="0"/>
                </a:lnTo>
                <a:lnTo>
                  <a:pt x="21977" y="21600"/>
                </a:lnTo>
                <a:lnTo>
                  <a:pt x="0" y="21600"/>
                </a:lnTo>
                <a:close/>
              </a:path>
              <a:path fill="lightenLess" w="21977" h="21600">
                <a:moveTo>
                  <a:pt x="0" y="0"/>
                </a:moveTo>
                <a:lnTo>
                  <a:pt x="21977" y="0"/>
                </a:lnTo>
                <a:lnTo>
                  <a:pt x="20577" y="1400"/>
                </a:lnTo>
                <a:lnTo>
                  <a:pt x="1400" y="1400"/>
                </a:lnTo>
                <a:close/>
              </a:path>
              <a:path fill="darken" w="21977" h="21600">
                <a:moveTo>
                  <a:pt x="21977" y="0"/>
                </a:moveTo>
                <a:lnTo>
                  <a:pt x="21977" y="21600"/>
                </a:lnTo>
                <a:lnTo>
                  <a:pt x="20577" y="20200"/>
                </a:lnTo>
                <a:lnTo>
                  <a:pt x="20577" y="1400"/>
                </a:lnTo>
                <a:close/>
              </a:path>
              <a:path fill="darkenLess" w="21977" h="21600">
                <a:moveTo>
                  <a:pt x="21977" y="21600"/>
                </a:moveTo>
                <a:lnTo>
                  <a:pt x="0" y="21600"/>
                </a:lnTo>
                <a:lnTo>
                  <a:pt x="1400" y="20200"/>
                </a:lnTo>
                <a:lnTo>
                  <a:pt x="20577" y="20200"/>
                </a:lnTo>
                <a:close/>
              </a:path>
              <a:path fill="lighten" w="21977" h="21600">
                <a:moveTo>
                  <a:pt x="0" y="21600"/>
                </a:moveTo>
                <a:lnTo>
                  <a:pt x="0" y="0"/>
                </a:lnTo>
                <a:lnTo>
                  <a:pt x="1400" y="1400"/>
                </a:lnTo>
                <a:lnTo>
                  <a:pt x="1400" y="20200"/>
                </a:lnTo>
                <a:close/>
              </a:path>
              <a:path fill="darken" w="21977" h="21600">
                <a:moveTo>
                  <a:pt x="3982" y="10800"/>
                </a:moveTo>
                <a:lnTo>
                  <a:pt x="17995" y="3794"/>
                </a:lnTo>
                <a:lnTo>
                  <a:pt x="17995"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749" name="">
            <a:hlinkClick r:id="" action="ppaction://hlinkshowjump?jump=firstslide"/>
          </p:cNvPr>
          <p:cNvSpPr/>
          <p:nvPr/>
        </p:nvSpPr>
        <p:spPr>
          <a:xfrm>
            <a:off x="61128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11270" y="3837"/>
                </a:moveTo>
                <a:lnTo>
                  <a:pt x="13846" y="6448"/>
                </a:lnTo>
                <a:lnTo>
                  <a:pt x="13846" y="4707"/>
                </a:lnTo>
                <a:lnTo>
                  <a:pt x="15621" y="4707"/>
                </a:lnTo>
                <a:lnTo>
                  <a:pt x="15621" y="8224"/>
                </a:lnTo>
                <a:lnTo>
                  <a:pt x="18233" y="10800"/>
                </a:lnTo>
                <a:lnTo>
                  <a:pt x="16579" y="10800"/>
                </a:lnTo>
                <a:lnTo>
                  <a:pt x="16579" y="17989"/>
                </a:lnTo>
                <a:lnTo>
                  <a:pt x="5960" y="17989"/>
                </a:lnTo>
                <a:lnTo>
                  <a:pt x="5960" y="10800"/>
                </a:lnTo>
                <a:lnTo>
                  <a:pt x="4307" y="10800"/>
                </a:lnTo>
                <a:close/>
              </a:path>
              <a:path fill="darkenLess" w="22539" h="21600">
                <a:moveTo>
                  <a:pt x="13846" y="6448"/>
                </a:moveTo>
                <a:lnTo>
                  <a:pt x="13846" y="4707"/>
                </a:lnTo>
                <a:lnTo>
                  <a:pt x="15621" y="4707"/>
                </a:lnTo>
                <a:lnTo>
                  <a:pt x="15621" y="8224"/>
                </a:lnTo>
                <a:close/>
              </a:path>
              <a:path fill="darkenLess" w="22539" h="21600">
                <a:moveTo>
                  <a:pt x="10347" y="14299"/>
                </a:moveTo>
                <a:lnTo>
                  <a:pt x="12192" y="14299"/>
                </a:lnTo>
                <a:lnTo>
                  <a:pt x="12192" y="17989"/>
                </a:lnTo>
                <a:lnTo>
                  <a:pt x="16579" y="17989"/>
                </a:lnTo>
                <a:lnTo>
                  <a:pt x="16579" y="10800"/>
                </a:lnTo>
                <a:lnTo>
                  <a:pt x="5960" y="10800"/>
                </a:lnTo>
                <a:lnTo>
                  <a:pt x="5960" y="17989"/>
                </a:lnTo>
                <a:lnTo>
                  <a:pt x="10347" y="17989"/>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Tree>
  </p:cSld>
  <p:transition spd="slow">
    <p:wheel spokes="1"/>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14" name="Dikdörtgen 3" descr=""/>
          <p:cNvPicPr/>
          <p:nvPr/>
        </p:nvPicPr>
        <p:blipFill>
          <a:blip r:embed="rId2"/>
          <a:stretch/>
        </p:blipFill>
        <p:spPr>
          <a:xfrm>
            <a:off x="-1481040" y="2139840"/>
            <a:ext cx="8723160" cy="1567080"/>
          </a:xfrm>
          <a:prstGeom prst="rect">
            <a:avLst/>
          </a:prstGeom>
          <a:ln w="0">
            <a:noFill/>
          </a:ln>
        </p:spPr>
      </p:pic>
      <p:sp>
        <p:nvSpPr>
          <p:cNvPr id="615" name="">
            <a:hlinkClick r:id="" action="ppaction://hlinkshowjump?jump=previousslide"/>
          </p:cNvPr>
          <p:cNvSpPr/>
          <p:nvPr/>
        </p:nvSpPr>
        <p:spPr>
          <a:xfrm>
            <a:off x="0" y="6219720"/>
            <a:ext cx="649440" cy="638280"/>
          </a:xfrm>
          <a:custGeom>
            <a:avLst/>
            <a:gdLst>
              <a:gd name="textAreaLeft" fmla="*/ 41040 w 649440"/>
              <a:gd name="textAreaRight" fmla="*/ 608400 w 649440"/>
              <a:gd name="textAreaTop" fmla="*/ 41040 h 638280"/>
              <a:gd name="textAreaBottom" fmla="*/ 597240 h 638280"/>
            </a:gdLst>
            <a:ahLst/>
            <a:rect l="textAreaLeft" t="textAreaTop" r="textAreaRight" b="textAreaBottom"/>
            <a:pathLst>
              <a:path w="21977" h="21600">
                <a:moveTo>
                  <a:pt x="0" y="0"/>
                </a:moveTo>
                <a:lnTo>
                  <a:pt x="21977" y="0"/>
                </a:lnTo>
                <a:lnTo>
                  <a:pt x="21977" y="21600"/>
                </a:lnTo>
                <a:lnTo>
                  <a:pt x="0" y="21600"/>
                </a:lnTo>
                <a:close/>
              </a:path>
              <a:path fill="lightenLess" w="21977" h="21600">
                <a:moveTo>
                  <a:pt x="0" y="0"/>
                </a:moveTo>
                <a:lnTo>
                  <a:pt x="21977" y="0"/>
                </a:lnTo>
                <a:lnTo>
                  <a:pt x="20577" y="1400"/>
                </a:lnTo>
                <a:lnTo>
                  <a:pt x="1400" y="1400"/>
                </a:lnTo>
                <a:close/>
              </a:path>
              <a:path fill="darken" w="21977" h="21600">
                <a:moveTo>
                  <a:pt x="21977" y="0"/>
                </a:moveTo>
                <a:lnTo>
                  <a:pt x="21977" y="21600"/>
                </a:lnTo>
                <a:lnTo>
                  <a:pt x="20577" y="20200"/>
                </a:lnTo>
                <a:lnTo>
                  <a:pt x="20577" y="1400"/>
                </a:lnTo>
                <a:close/>
              </a:path>
              <a:path fill="darkenLess" w="21977" h="21600">
                <a:moveTo>
                  <a:pt x="21977" y="21600"/>
                </a:moveTo>
                <a:lnTo>
                  <a:pt x="0" y="21600"/>
                </a:lnTo>
                <a:lnTo>
                  <a:pt x="1400" y="20200"/>
                </a:lnTo>
                <a:lnTo>
                  <a:pt x="20577" y="20200"/>
                </a:lnTo>
                <a:close/>
              </a:path>
              <a:path fill="lighten" w="21977" h="21600">
                <a:moveTo>
                  <a:pt x="0" y="21600"/>
                </a:moveTo>
                <a:lnTo>
                  <a:pt x="0" y="0"/>
                </a:lnTo>
                <a:lnTo>
                  <a:pt x="1400" y="1400"/>
                </a:lnTo>
                <a:lnTo>
                  <a:pt x="1400" y="20200"/>
                </a:lnTo>
                <a:close/>
              </a:path>
              <a:path fill="darken" w="21977" h="21600">
                <a:moveTo>
                  <a:pt x="3982" y="10800"/>
                </a:moveTo>
                <a:lnTo>
                  <a:pt x="17995" y="3794"/>
                </a:lnTo>
                <a:lnTo>
                  <a:pt x="17995"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616" name="">
            <a:hlinkClick r:id="" action="ppaction://hlinkshowjump?jump=nextslide"/>
          </p:cNvPr>
          <p:cNvSpPr/>
          <p:nvPr/>
        </p:nvSpPr>
        <p:spPr>
          <a:xfrm>
            <a:off x="125892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4263" y="3794"/>
                </a:moveTo>
                <a:lnTo>
                  <a:pt x="18276" y="10800"/>
                </a:lnTo>
                <a:lnTo>
                  <a:pt x="4263"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617" name="">
            <a:hlinkClick r:id="" action="ppaction://hlinkshowjump?jump=firstslide"/>
          </p:cNvPr>
          <p:cNvSpPr/>
          <p:nvPr/>
        </p:nvSpPr>
        <p:spPr>
          <a:xfrm>
            <a:off x="61128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11270" y="3837"/>
                </a:moveTo>
                <a:lnTo>
                  <a:pt x="13846" y="6448"/>
                </a:lnTo>
                <a:lnTo>
                  <a:pt x="13846" y="4707"/>
                </a:lnTo>
                <a:lnTo>
                  <a:pt x="15621" y="4707"/>
                </a:lnTo>
                <a:lnTo>
                  <a:pt x="15621" y="8224"/>
                </a:lnTo>
                <a:lnTo>
                  <a:pt x="18233" y="10800"/>
                </a:lnTo>
                <a:lnTo>
                  <a:pt x="16579" y="10800"/>
                </a:lnTo>
                <a:lnTo>
                  <a:pt x="16579" y="17989"/>
                </a:lnTo>
                <a:lnTo>
                  <a:pt x="5960" y="17989"/>
                </a:lnTo>
                <a:lnTo>
                  <a:pt x="5960" y="10800"/>
                </a:lnTo>
                <a:lnTo>
                  <a:pt x="4307" y="10800"/>
                </a:lnTo>
                <a:close/>
              </a:path>
              <a:path fill="darkenLess" w="22539" h="21600">
                <a:moveTo>
                  <a:pt x="13846" y="6448"/>
                </a:moveTo>
                <a:lnTo>
                  <a:pt x="13846" y="4707"/>
                </a:lnTo>
                <a:lnTo>
                  <a:pt x="15621" y="4707"/>
                </a:lnTo>
                <a:lnTo>
                  <a:pt x="15621" y="8224"/>
                </a:lnTo>
                <a:close/>
              </a:path>
              <a:path fill="darkenLess" w="22539" h="21600">
                <a:moveTo>
                  <a:pt x="10347" y="14299"/>
                </a:moveTo>
                <a:lnTo>
                  <a:pt x="12192" y="14299"/>
                </a:lnTo>
                <a:lnTo>
                  <a:pt x="12192" y="17989"/>
                </a:lnTo>
                <a:lnTo>
                  <a:pt x="16579" y="17989"/>
                </a:lnTo>
                <a:lnTo>
                  <a:pt x="16579" y="10800"/>
                </a:lnTo>
                <a:lnTo>
                  <a:pt x="5960" y="10800"/>
                </a:lnTo>
                <a:lnTo>
                  <a:pt x="5960" y="17989"/>
                </a:lnTo>
                <a:lnTo>
                  <a:pt x="10347" y="17989"/>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Tree>
  </p:cSld>
  <p:transition spd="slow">
    <p:wheel spokes="1"/>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8" name="PlaceHolder 1"/>
          <p:cNvSpPr>
            <a:spLocks noGrp="1"/>
          </p:cNvSpPr>
          <p:nvPr>
            <p:ph/>
          </p:nvPr>
        </p:nvSpPr>
        <p:spPr>
          <a:xfrm>
            <a:off x="611280" y="1268280"/>
            <a:ext cx="8183520" cy="1873440"/>
          </a:xfrm>
          <a:prstGeom prst="rect">
            <a:avLst/>
          </a:prstGeom>
          <a:noFill/>
          <a:ln w="0">
            <a:noFill/>
          </a:ln>
        </p:spPr>
        <p:txBody>
          <a:bodyPr lIns="90000" rIns="90000" tIns="46800" bIns="46800" anchor="t">
            <a:normAutofit fontScale="59000"/>
          </a:bodyPr>
          <a:p>
            <a:pPr marL="316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Duygu, hayal ve</a:t>
            </a:r>
            <a:endParaRPr b="0" lang="en-US" sz="4800" spc="-1" strike="noStrike">
              <a:solidFill>
                <a:srgbClr val="ffffff"/>
              </a:solidFill>
              <a:latin typeface="Candara"/>
            </a:endParaRPr>
          </a:p>
          <a:p>
            <a:pPr marL="316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Verdana"/>
              </a:rPr>
              <a:t>düşüncelerin bir düzene bağlı olarak, çekici bir dil ve ahenkli mısralar içinde aktarılmasıdır.</a:t>
            </a:r>
            <a:endParaRPr b="0" lang="en-US" sz="4800" spc="-1" strike="noStrike">
              <a:solidFill>
                <a:srgbClr val="ffffff"/>
              </a:solidFill>
              <a:latin typeface="Candara"/>
            </a:endParaRPr>
          </a:p>
          <a:p>
            <a:pPr marL="316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ndara"/>
            </a:endParaRPr>
          </a:p>
        </p:txBody>
      </p:sp>
      <p:sp>
        <p:nvSpPr>
          <p:cNvPr id="619" name="">
            <a:hlinkClick r:id="" action="ppaction://hlinkshowjump?jump=previousslide"/>
          </p:cNvPr>
          <p:cNvSpPr/>
          <p:nvPr/>
        </p:nvSpPr>
        <p:spPr>
          <a:xfrm>
            <a:off x="0" y="6219720"/>
            <a:ext cx="649440" cy="638280"/>
          </a:xfrm>
          <a:custGeom>
            <a:avLst/>
            <a:gdLst>
              <a:gd name="textAreaLeft" fmla="*/ 41040 w 649440"/>
              <a:gd name="textAreaRight" fmla="*/ 608400 w 649440"/>
              <a:gd name="textAreaTop" fmla="*/ 41040 h 638280"/>
              <a:gd name="textAreaBottom" fmla="*/ 597240 h 638280"/>
            </a:gdLst>
            <a:ahLst/>
            <a:rect l="textAreaLeft" t="textAreaTop" r="textAreaRight" b="textAreaBottom"/>
            <a:pathLst>
              <a:path w="21977" h="21600">
                <a:moveTo>
                  <a:pt x="0" y="0"/>
                </a:moveTo>
                <a:lnTo>
                  <a:pt x="21977" y="0"/>
                </a:lnTo>
                <a:lnTo>
                  <a:pt x="21977" y="21600"/>
                </a:lnTo>
                <a:lnTo>
                  <a:pt x="0" y="21600"/>
                </a:lnTo>
                <a:close/>
              </a:path>
              <a:path fill="lightenLess" w="21977" h="21600">
                <a:moveTo>
                  <a:pt x="0" y="0"/>
                </a:moveTo>
                <a:lnTo>
                  <a:pt x="21977" y="0"/>
                </a:lnTo>
                <a:lnTo>
                  <a:pt x="20577" y="1400"/>
                </a:lnTo>
                <a:lnTo>
                  <a:pt x="1400" y="1400"/>
                </a:lnTo>
                <a:close/>
              </a:path>
              <a:path fill="darken" w="21977" h="21600">
                <a:moveTo>
                  <a:pt x="21977" y="0"/>
                </a:moveTo>
                <a:lnTo>
                  <a:pt x="21977" y="21600"/>
                </a:lnTo>
                <a:lnTo>
                  <a:pt x="20577" y="20200"/>
                </a:lnTo>
                <a:lnTo>
                  <a:pt x="20577" y="1400"/>
                </a:lnTo>
                <a:close/>
              </a:path>
              <a:path fill="darkenLess" w="21977" h="21600">
                <a:moveTo>
                  <a:pt x="21977" y="21600"/>
                </a:moveTo>
                <a:lnTo>
                  <a:pt x="0" y="21600"/>
                </a:lnTo>
                <a:lnTo>
                  <a:pt x="1400" y="20200"/>
                </a:lnTo>
                <a:lnTo>
                  <a:pt x="20577" y="20200"/>
                </a:lnTo>
                <a:close/>
              </a:path>
              <a:path fill="lighten" w="21977" h="21600">
                <a:moveTo>
                  <a:pt x="0" y="21600"/>
                </a:moveTo>
                <a:lnTo>
                  <a:pt x="0" y="0"/>
                </a:lnTo>
                <a:lnTo>
                  <a:pt x="1400" y="1400"/>
                </a:lnTo>
                <a:lnTo>
                  <a:pt x="1400" y="20200"/>
                </a:lnTo>
                <a:close/>
              </a:path>
              <a:path fill="darken" w="21977" h="21600">
                <a:moveTo>
                  <a:pt x="3982" y="10800"/>
                </a:moveTo>
                <a:lnTo>
                  <a:pt x="17995" y="3794"/>
                </a:lnTo>
                <a:lnTo>
                  <a:pt x="17995"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620" name="">
            <a:hlinkClick r:id="" action="ppaction://hlinkshowjump?jump=nextslide"/>
          </p:cNvPr>
          <p:cNvSpPr/>
          <p:nvPr/>
        </p:nvSpPr>
        <p:spPr>
          <a:xfrm>
            <a:off x="125892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4263" y="3794"/>
                </a:moveTo>
                <a:lnTo>
                  <a:pt x="18276" y="10800"/>
                </a:lnTo>
                <a:lnTo>
                  <a:pt x="4263"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621" name="">
            <a:hlinkClick r:id="" action="ppaction://hlinkshowjump?jump=firstslide"/>
          </p:cNvPr>
          <p:cNvSpPr/>
          <p:nvPr/>
        </p:nvSpPr>
        <p:spPr>
          <a:xfrm>
            <a:off x="61128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11270" y="3837"/>
                </a:moveTo>
                <a:lnTo>
                  <a:pt x="13846" y="6448"/>
                </a:lnTo>
                <a:lnTo>
                  <a:pt x="13846" y="4707"/>
                </a:lnTo>
                <a:lnTo>
                  <a:pt x="15621" y="4707"/>
                </a:lnTo>
                <a:lnTo>
                  <a:pt x="15621" y="8224"/>
                </a:lnTo>
                <a:lnTo>
                  <a:pt x="18233" y="10800"/>
                </a:lnTo>
                <a:lnTo>
                  <a:pt x="16579" y="10800"/>
                </a:lnTo>
                <a:lnTo>
                  <a:pt x="16579" y="17989"/>
                </a:lnTo>
                <a:lnTo>
                  <a:pt x="5960" y="17989"/>
                </a:lnTo>
                <a:lnTo>
                  <a:pt x="5960" y="10800"/>
                </a:lnTo>
                <a:lnTo>
                  <a:pt x="4307" y="10800"/>
                </a:lnTo>
                <a:close/>
              </a:path>
              <a:path fill="darkenLess" w="22539" h="21600">
                <a:moveTo>
                  <a:pt x="13846" y="6448"/>
                </a:moveTo>
                <a:lnTo>
                  <a:pt x="13846" y="4707"/>
                </a:lnTo>
                <a:lnTo>
                  <a:pt x="15621" y="4707"/>
                </a:lnTo>
                <a:lnTo>
                  <a:pt x="15621" y="8224"/>
                </a:lnTo>
                <a:close/>
              </a:path>
              <a:path fill="darkenLess" w="22539" h="21600">
                <a:moveTo>
                  <a:pt x="10347" y="14299"/>
                </a:moveTo>
                <a:lnTo>
                  <a:pt x="12192" y="14299"/>
                </a:lnTo>
                <a:lnTo>
                  <a:pt x="12192" y="17989"/>
                </a:lnTo>
                <a:lnTo>
                  <a:pt x="16579" y="17989"/>
                </a:lnTo>
                <a:lnTo>
                  <a:pt x="16579" y="10800"/>
                </a:lnTo>
                <a:lnTo>
                  <a:pt x="5960" y="10800"/>
                </a:lnTo>
                <a:lnTo>
                  <a:pt x="5960" y="17989"/>
                </a:lnTo>
                <a:lnTo>
                  <a:pt x="10347" y="17989"/>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Tree>
  </p:cSld>
  <p:transition spd="slow">
    <p:wheel spokes="1"/>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2" name="PlaceHolder 1"/>
          <p:cNvSpPr>
            <a:spLocks noGrp="1"/>
          </p:cNvSpPr>
          <p:nvPr>
            <p:ph/>
          </p:nvPr>
        </p:nvSpPr>
        <p:spPr>
          <a:xfrm>
            <a:off x="250920" y="259920"/>
            <a:ext cx="8688240" cy="6048360"/>
          </a:xfrm>
          <a:prstGeom prst="rect">
            <a:avLst/>
          </a:prstGeom>
          <a:noFill/>
          <a:ln w="0">
            <a:noFill/>
          </a:ln>
        </p:spPr>
        <p:txBody>
          <a:bodyPr lIns="90000" rIns="90000" tIns="46800" bIns="46800" anchor="t">
            <a:normAutofit/>
          </a:bodyPr>
          <a:p>
            <a:pPr marL="54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a:p>
            <a:pPr marL="54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a:p>
            <a:pPr marL="54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a:p>
            <a:pPr marL="540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Verdana"/>
              </a:rPr>
              <a:t>Edebiyat türlerinin en eskisi şiirdir. Bugüne kadar şiirin birçok tanımı yapılmıştır. Bu tanımlamalar çağdan çağa, kişiden kişiye değişmiş; kesin bir tanıma ulaşmamıştır. Şiir türü öznel nitelikleri ağır basan bir türdür. </a:t>
            </a:r>
            <a:endParaRPr b="0" lang="en-US" sz="2800" spc="-1" strike="noStrike">
              <a:solidFill>
                <a:srgbClr val="ffffff"/>
              </a:solidFill>
              <a:latin typeface="Candara"/>
            </a:endParaRPr>
          </a:p>
        </p:txBody>
      </p:sp>
      <p:sp>
        <p:nvSpPr>
          <p:cNvPr id="623" name="">
            <a:hlinkClick r:id="" action="ppaction://hlinkshowjump?jump=previousslide"/>
          </p:cNvPr>
          <p:cNvSpPr/>
          <p:nvPr/>
        </p:nvSpPr>
        <p:spPr>
          <a:xfrm>
            <a:off x="0" y="6219720"/>
            <a:ext cx="649440" cy="638280"/>
          </a:xfrm>
          <a:custGeom>
            <a:avLst/>
            <a:gdLst>
              <a:gd name="textAreaLeft" fmla="*/ 41040 w 649440"/>
              <a:gd name="textAreaRight" fmla="*/ 608400 w 649440"/>
              <a:gd name="textAreaTop" fmla="*/ 41040 h 638280"/>
              <a:gd name="textAreaBottom" fmla="*/ 597240 h 638280"/>
            </a:gdLst>
            <a:ahLst/>
            <a:rect l="textAreaLeft" t="textAreaTop" r="textAreaRight" b="textAreaBottom"/>
            <a:pathLst>
              <a:path w="21977" h="21600">
                <a:moveTo>
                  <a:pt x="0" y="0"/>
                </a:moveTo>
                <a:lnTo>
                  <a:pt x="21977" y="0"/>
                </a:lnTo>
                <a:lnTo>
                  <a:pt x="21977" y="21600"/>
                </a:lnTo>
                <a:lnTo>
                  <a:pt x="0" y="21600"/>
                </a:lnTo>
                <a:close/>
              </a:path>
              <a:path fill="lightenLess" w="21977" h="21600">
                <a:moveTo>
                  <a:pt x="0" y="0"/>
                </a:moveTo>
                <a:lnTo>
                  <a:pt x="21977" y="0"/>
                </a:lnTo>
                <a:lnTo>
                  <a:pt x="20577" y="1400"/>
                </a:lnTo>
                <a:lnTo>
                  <a:pt x="1400" y="1400"/>
                </a:lnTo>
                <a:close/>
              </a:path>
              <a:path fill="darken" w="21977" h="21600">
                <a:moveTo>
                  <a:pt x="21977" y="0"/>
                </a:moveTo>
                <a:lnTo>
                  <a:pt x="21977" y="21600"/>
                </a:lnTo>
                <a:lnTo>
                  <a:pt x="20577" y="20200"/>
                </a:lnTo>
                <a:lnTo>
                  <a:pt x="20577" y="1400"/>
                </a:lnTo>
                <a:close/>
              </a:path>
              <a:path fill="darkenLess" w="21977" h="21600">
                <a:moveTo>
                  <a:pt x="21977" y="21600"/>
                </a:moveTo>
                <a:lnTo>
                  <a:pt x="0" y="21600"/>
                </a:lnTo>
                <a:lnTo>
                  <a:pt x="1400" y="20200"/>
                </a:lnTo>
                <a:lnTo>
                  <a:pt x="20577" y="20200"/>
                </a:lnTo>
                <a:close/>
              </a:path>
              <a:path fill="lighten" w="21977" h="21600">
                <a:moveTo>
                  <a:pt x="0" y="21600"/>
                </a:moveTo>
                <a:lnTo>
                  <a:pt x="0" y="0"/>
                </a:lnTo>
                <a:lnTo>
                  <a:pt x="1400" y="1400"/>
                </a:lnTo>
                <a:lnTo>
                  <a:pt x="1400" y="20200"/>
                </a:lnTo>
                <a:close/>
              </a:path>
              <a:path fill="darken" w="21977" h="21600">
                <a:moveTo>
                  <a:pt x="3982" y="10800"/>
                </a:moveTo>
                <a:lnTo>
                  <a:pt x="17995" y="3794"/>
                </a:lnTo>
                <a:lnTo>
                  <a:pt x="17995"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624" name="">
            <a:hlinkClick r:id="" action="ppaction://hlinkshowjump?jump=nextslide"/>
          </p:cNvPr>
          <p:cNvSpPr/>
          <p:nvPr/>
        </p:nvSpPr>
        <p:spPr>
          <a:xfrm>
            <a:off x="125892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4263" y="3794"/>
                </a:moveTo>
                <a:lnTo>
                  <a:pt x="18276" y="10800"/>
                </a:lnTo>
                <a:lnTo>
                  <a:pt x="4263"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625" name="">
            <a:hlinkClick r:id="" action="ppaction://hlinkshowjump?jump=firstslide"/>
          </p:cNvPr>
          <p:cNvSpPr/>
          <p:nvPr/>
        </p:nvSpPr>
        <p:spPr>
          <a:xfrm>
            <a:off x="61128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11270" y="3837"/>
                </a:moveTo>
                <a:lnTo>
                  <a:pt x="13846" y="6448"/>
                </a:lnTo>
                <a:lnTo>
                  <a:pt x="13846" y="4707"/>
                </a:lnTo>
                <a:lnTo>
                  <a:pt x="15621" y="4707"/>
                </a:lnTo>
                <a:lnTo>
                  <a:pt x="15621" y="8224"/>
                </a:lnTo>
                <a:lnTo>
                  <a:pt x="18233" y="10800"/>
                </a:lnTo>
                <a:lnTo>
                  <a:pt x="16579" y="10800"/>
                </a:lnTo>
                <a:lnTo>
                  <a:pt x="16579" y="17989"/>
                </a:lnTo>
                <a:lnTo>
                  <a:pt x="5960" y="17989"/>
                </a:lnTo>
                <a:lnTo>
                  <a:pt x="5960" y="10800"/>
                </a:lnTo>
                <a:lnTo>
                  <a:pt x="4307" y="10800"/>
                </a:lnTo>
                <a:close/>
              </a:path>
              <a:path fill="darkenLess" w="22539" h="21600">
                <a:moveTo>
                  <a:pt x="13846" y="6448"/>
                </a:moveTo>
                <a:lnTo>
                  <a:pt x="13846" y="4707"/>
                </a:lnTo>
                <a:lnTo>
                  <a:pt x="15621" y="4707"/>
                </a:lnTo>
                <a:lnTo>
                  <a:pt x="15621" y="8224"/>
                </a:lnTo>
                <a:close/>
              </a:path>
              <a:path fill="darkenLess" w="22539" h="21600">
                <a:moveTo>
                  <a:pt x="10347" y="14299"/>
                </a:moveTo>
                <a:lnTo>
                  <a:pt x="12192" y="14299"/>
                </a:lnTo>
                <a:lnTo>
                  <a:pt x="12192" y="17989"/>
                </a:lnTo>
                <a:lnTo>
                  <a:pt x="16579" y="17989"/>
                </a:lnTo>
                <a:lnTo>
                  <a:pt x="16579" y="10800"/>
                </a:lnTo>
                <a:lnTo>
                  <a:pt x="5960" y="10800"/>
                </a:lnTo>
                <a:lnTo>
                  <a:pt x="5960" y="17989"/>
                </a:lnTo>
                <a:lnTo>
                  <a:pt x="10347" y="17989"/>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Tree>
  </p:cSld>
  <p:transition spd="slow">
    <p:wheel spokes="1"/>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626" name="PlaceHolder 1"/>
          <p:cNvSpPr>
            <a:spLocks noGrp="1"/>
          </p:cNvSpPr>
          <p:nvPr>
            <p:ph/>
          </p:nvPr>
        </p:nvSpPr>
        <p:spPr>
          <a:xfrm>
            <a:off x="468360" y="836640"/>
            <a:ext cx="4680000" cy="5208480"/>
          </a:xfrm>
          <a:prstGeom prst="rect">
            <a:avLst/>
          </a:prstGeom>
          <a:noFill/>
          <a:ln w="0">
            <a:noFill/>
          </a:ln>
        </p:spPr>
        <p:txBody>
          <a:bodyPr lIns="90000" rIns="90000" tIns="46800" bIns="46800" anchor="t">
            <a:normAutofit/>
          </a:bodyPr>
          <a:p>
            <a:pPr marL="54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hmet HAŞİM , şiiri "Nesre çevrilmesi mümkün olmayan nazım ' olarak tanımlar. </a:t>
            </a:r>
            <a:endParaRPr b="0" lang="en-US" sz="2400" spc="-1" strike="noStrike">
              <a:solidFill>
                <a:srgbClr val="ffffff"/>
              </a:solidFill>
              <a:latin typeface="Candara"/>
            </a:endParaRPr>
          </a:p>
          <a:p>
            <a:pPr marL="540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a:p>
            <a:pPr marL="540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a:p>
            <a:pPr marL="540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a:p>
            <a:pPr marL="540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a:p>
            <a:pPr marL="540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a:p>
            <a:pPr marL="54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ndara"/>
            </a:endParaRPr>
          </a:p>
          <a:p>
            <a:pPr marL="54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ahit Sıtkı TARANCI ‘ ya göre ise "Şiir, sözcüklerle güzel şekiller kurma sanatıdır."</a:t>
            </a:r>
            <a:endParaRPr b="0" lang="en-US" sz="2400" spc="-1" strike="noStrike">
              <a:solidFill>
                <a:srgbClr val="ffffff"/>
              </a:solidFill>
              <a:latin typeface="Candara"/>
            </a:endParaRPr>
          </a:p>
          <a:p>
            <a:pPr marL="54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ndara"/>
            </a:endParaRPr>
          </a:p>
        </p:txBody>
      </p:sp>
      <p:pic>
        <p:nvPicPr>
          <p:cNvPr id="627" name="Picture 2" descr="C:\Users\emre\Pictures\222222.jpg"/>
          <p:cNvPicPr/>
          <p:nvPr/>
        </p:nvPicPr>
        <p:blipFill>
          <a:blip r:embed="rId1"/>
          <a:stretch/>
        </p:blipFill>
        <p:spPr>
          <a:xfrm>
            <a:off x="6948360" y="4005360"/>
            <a:ext cx="1857600" cy="2457360"/>
          </a:xfrm>
          <a:prstGeom prst="rect">
            <a:avLst/>
          </a:prstGeom>
          <a:ln w="0">
            <a:noFill/>
          </a:ln>
        </p:spPr>
      </p:pic>
      <p:pic>
        <p:nvPicPr>
          <p:cNvPr id="628" name="Picture 3" descr="C:\Users\emre\Pictures\111111.bmp"/>
          <p:cNvPicPr/>
          <p:nvPr/>
        </p:nvPicPr>
        <p:blipFill>
          <a:blip r:embed="rId2"/>
          <a:stretch/>
        </p:blipFill>
        <p:spPr>
          <a:xfrm>
            <a:off x="6948360" y="404640"/>
            <a:ext cx="1857600" cy="2519640"/>
          </a:xfrm>
          <a:prstGeom prst="rect">
            <a:avLst/>
          </a:prstGeom>
          <a:ln w="0">
            <a:noFill/>
          </a:ln>
        </p:spPr>
      </p:pic>
      <p:sp>
        <p:nvSpPr>
          <p:cNvPr id="629" name="">
            <a:hlinkClick r:id="" action="ppaction://hlinkshowjump?jump=previousslide"/>
          </p:cNvPr>
          <p:cNvSpPr/>
          <p:nvPr/>
        </p:nvSpPr>
        <p:spPr>
          <a:xfrm>
            <a:off x="0" y="6219720"/>
            <a:ext cx="649440" cy="638280"/>
          </a:xfrm>
          <a:custGeom>
            <a:avLst/>
            <a:gdLst>
              <a:gd name="textAreaLeft" fmla="*/ 41040 w 649440"/>
              <a:gd name="textAreaRight" fmla="*/ 608400 w 649440"/>
              <a:gd name="textAreaTop" fmla="*/ 41040 h 638280"/>
              <a:gd name="textAreaBottom" fmla="*/ 597240 h 638280"/>
            </a:gdLst>
            <a:ahLst/>
            <a:rect l="textAreaLeft" t="textAreaTop" r="textAreaRight" b="textAreaBottom"/>
            <a:pathLst>
              <a:path w="21977" h="21600">
                <a:moveTo>
                  <a:pt x="0" y="0"/>
                </a:moveTo>
                <a:lnTo>
                  <a:pt x="21977" y="0"/>
                </a:lnTo>
                <a:lnTo>
                  <a:pt x="21977" y="21600"/>
                </a:lnTo>
                <a:lnTo>
                  <a:pt x="0" y="21600"/>
                </a:lnTo>
                <a:close/>
              </a:path>
              <a:path fill="lightenLess" w="21977" h="21600">
                <a:moveTo>
                  <a:pt x="0" y="0"/>
                </a:moveTo>
                <a:lnTo>
                  <a:pt x="21977" y="0"/>
                </a:lnTo>
                <a:lnTo>
                  <a:pt x="20577" y="1400"/>
                </a:lnTo>
                <a:lnTo>
                  <a:pt x="1400" y="1400"/>
                </a:lnTo>
                <a:close/>
              </a:path>
              <a:path fill="darken" w="21977" h="21600">
                <a:moveTo>
                  <a:pt x="21977" y="0"/>
                </a:moveTo>
                <a:lnTo>
                  <a:pt x="21977" y="21600"/>
                </a:lnTo>
                <a:lnTo>
                  <a:pt x="20577" y="20200"/>
                </a:lnTo>
                <a:lnTo>
                  <a:pt x="20577" y="1400"/>
                </a:lnTo>
                <a:close/>
              </a:path>
              <a:path fill="darkenLess" w="21977" h="21600">
                <a:moveTo>
                  <a:pt x="21977" y="21600"/>
                </a:moveTo>
                <a:lnTo>
                  <a:pt x="0" y="21600"/>
                </a:lnTo>
                <a:lnTo>
                  <a:pt x="1400" y="20200"/>
                </a:lnTo>
                <a:lnTo>
                  <a:pt x="20577" y="20200"/>
                </a:lnTo>
                <a:close/>
              </a:path>
              <a:path fill="lighten" w="21977" h="21600">
                <a:moveTo>
                  <a:pt x="0" y="21600"/>
                </a:moveTo>
                <a:lnTo>
                  <a:pt x="0" y="0"/>
                </a:lnTo>
                <a:lnTo>
                  <a:pt x="1400" y="1400"/>
                </a:lnTo>
                <a:lnTo>
                  <a:pt x="1400" y="20200"/>
                </a:lnTo>
                <a:close/>
              </a:path>
              <a:path fill="darken" w="21977" h="21600">
                <a:moveTo>
                  <a:pt x="3982" y="10800"/>
                </a:moveTo>
                <a:lnTo>
                  <a:pt x="17995" y="3794"/>
                </a:lnTo>
                <a:lnTo>
                  <a:pt x="17995"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630" name="">
            <a:hlinkClick r:id="" action="ppaction://hlinkshowjump?jump=nextslide"/>
          </p:cNvPr>
          <p:cNvSpPr/>
          <p:nvPr/>
        </p:nvSpPr>
        <p:spPr>
          <a:xfrm>
            <a:off x="125892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4263" y="3794"/>
                </a:moveTo>
                <a:lnTo>
                  <a:pt x="18276" y="10800"/>
                </a:lnTo>
                <a:lnTo>
                  <a:pt x="4263"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631" name="">
            <a:hlinkClick r:id="" action="ppaction://hlinkshowjump?jump=firstslide"/>
          </p:cNvPr>
          <p:cNvSpPr/>
          <p:nvPr/>
        </p:nvSpPr>
        <p:spPr>
          <a:xfrm>
            <a:off x="61128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11270" y="3837"/>
                </a:moveTo>
                <a:lnTo>
                  <a:pt x="13846" y="6448"/>
                </a:lnTo>
                <a:lnTo>
                  <a:pt x="13846" y="4707"/>
                </a:lnTo>
                <a:lnTo>
                  <a:pt x="15621" y="4707"/>
                </a:lnTo>
                <a:lnTo>
                  <a:pt x="15621" y="8224"/>
                </a:lnTo>
                <a:lnTo>
                  <a:pt x="18233" y="10800"/>
                </a:lnTo>
                <a:lnTo>
                  <a:pt x="16579" y="10800"/>
                </a:lnTo>
                <a:lnTo>
                  <a:pt x="16579" y="17989"/>
                </a:lnTo>
                <a:lnTo>
                  <a:pt x="5960" y="17989"/>
                </a:lnTo>
                <a:lnTo>
                  <a:pt x="5960" y="10800"/>
                </a:lnTo>
                <a:lnTo>
                  <a:pt x="4307" y="10800"/>
                </a:lnTo>
                <a:close/>
              </a:path>
              <a:path fill="darkenLess" w="22539" h="21600">
                <a:moveTo>
                  <a:pt x="13846" y="6448"/>
                </a:moveTo>
                <a:lnTo>
                  <a:pt x="13846" y="4707"/>
                </a:lnTo>
                <a:lnTo>
                  <a:pt x="15621" y="4707"/>
                </a:lnTo>
                <a:lnTo>
                  <a:pt x="15621" y="8224"/>
                </a:lnTo>
                <a:close/>
              </a:path>
              <a:path fill="darkenLess" w="22539" h="21600">
                <a:moveTo>
                  <a:pt x="10347" y="14299"/>
                </a:moveTo>
                <a:lnTo>
                  <a:pt x="12192" y="14299"/>
                </a:lnTo>
                <a:lnTo>
                  <a:pt x="12192" y="17989"/>
                </a:lnTo>
                <a:lnTo>
                  <a:pt x="16579" y="17989"/>
                </a:lnTo>
                <a:lnTo>
                  <a:pt x="16579" y="10800"/>
                </a:lnTo>
                <a:lnTo>
                  <a:pt x="5960" y="10800"/>
                </a:lnTo>
                <a:lnTo>
                  <a:pt x="5960" y="17989"/>
                </a:lnTo>
                <a:lnTo>
                  <a:pt x="10347" y="17989"/>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Tree>
  </p:cSld>
  <p:transition spd="slow">
    <p:wheel spokes="1"/>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632" name="PlaceHolder 1"/>
          <p:cNvSpPr>
            <a:spLocks noGrp="1"/>
          </p:cNvSpPr>
          <p:nvPr>
            <p:ph/>
          </p:nvPr>
        </p:nvSpPr>
        <p:spPr>
          <a:xfrm>
            <a:off x="468000" y="620640"/>
            <a:ext cx="8327880" cy="4919760"/>
          </a:xfrm>
          <a:prstGeom prst="rect">
            <a:avLst/>
          </a:prstGeom>
          <a:noFill/>
          <a:ln w="0">
            <a:noFill/>
          </a:ln>
        </p:spPr>
        <p:txBody>
          <a:bodyPr lIns="90000" rIns="90000" tIns="46800" bIns="46800" anchor="t">
            <a:normAutofit/>
          </a:bodyPr>
          <a:p>
            <a:pPr marL="5400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ndara"/>
            </a:endParaRPr>
          </a:p>
          <a:p>
            <a:pPr marL="5400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5698"/>
                </a:solidFill>
                <a:latin typeface="Verdana"/>
              </a:rPr>
              <a:t>Şiiri düz yazıdan ayıran ölçü, mısra, ahenk gibi unsurlar vardır.</a:t>
            </a:r>
            <a:endParaRPr b="0" lang="en-US" sz="4800" spc="-1" strike="noStrike">
              <a:solidFill>
                <a:srgbClr val="ffffff"/>
              </a:solidFill>
              <a:latin typeface="Candara"/>
            </a:endParaRPr>
          </a:p>
          <a:p>
            <a:pPr marL="5400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ndara"/>
            </a:endParaRPr>
          </a:p>
        </p:txBody>
      </p:sp>
      <p:sp>
        <p:nvSpPr>
          <p:cNvPr id="633" name="">
            <a:hlinkClick r:id="" action="ppaction://hlinkshowjump?jump=previousslide"/>
          </p:cNvPr>
          <p:cNvSpPr/>
          <p:nvPr/>
        </p:nvSpPr>
        <p:spPr>
          <a:xfrm>
            <a:off x="0" y="6219720"/>
            <a:ext cx="649440" cy="638280"/>
          </a:xfrm>
          <a:custGeom>
            <a:avLst/>
            <a:gdLst>
              <a:gd name="textAreaLeft" fmla="*/ 41040 w 649440"/>
              <a:gd name="textAreaRight" fmla="*/ 608400 w 649440"/>
              <a:gd name="textAreaTop" fmla="*/ 41040 h 638280"/>
              <a:gd name="textAreaBottom" fmla="*/ 597240 h 638280"/>
            </a:gdLst>
            <a:ahLst/>
            <a:rect l="textAreaLeft" t="textAreaTop" r="textAreaRight" b="textAreaBottom"/>
            <a:pathLst>
              <a:path w="21977" h="21600">
                <a:moveTo>
                  <a:pt x="0" y="0"/>
                </a:moveTo>
                <a:lnTo>
                  <a:pt x="21977" y="0"/>
                </a:lnTo>
                <a:lnTo>
                  <a:pt x="21977" y="21600"/>
                </a:lnTo>
                <a:lnTo>
                  <a:pt x="0" y="21600"/>
                </a:lnTo>
                <a:close/>
              </a:path>
              <a:path fill="lightenLess" w="21977" h="21600">
                <a:moveTo>
                  <a:pt x="0" y="0"/>
                </a:moveTo>
                <a:lnTo>
                  <a:pt x="21977" y="0"/>
                </a:lnTo>
                <a:lnTo>
                  <a:pt x="20577" y="1400"/>
                </a:lnTo>
                <a:lnTo>
                  <a:pt x="1400" y="1400"/>
                </a:lnTo>
                <a:close/>
              </a:path>
              <a:path fill="darken" w="21977" h="21600">
                <a:moveTo>
                  <a:pt x="21977" y="0"/>
                </a:moveTo>
                <a:lnTo>
                  <a:pt x="21977" y="21600"/>
                </a:lnTo>
                <a:lnTo>
                  <a:pt x="20577" y="20200"/>
                </a:lnTo>
                <a:lnTo>
                  <a:pt x="20577" y="1400"/>
                </a:lnTo>
                <a:close/>
              </a:path>
              <a:path fill="darkenLess" w="21977" h="21600">
                <a:moveTo>
                  <a:pt x="21977" y="21600"/>
                </a:moveTo>
                <a:lnTo>
                  <a:pt x="0" y="21600"/>
                </a:lnTo>
                <a:lnTo>
                  <a:pt x="1400" y="20200"/>
                </a:lnTo>
                <a:lnTo>
                  <a:pt x="20577" y="20200"/>
                </a:lnTo>
                <a:close/>
              </a:path>
              <a:path fill="lighten" w="21977" h="21600">
                <a:moveTo>
                  <a:pt x="0" y="21600"/>
                </a:moveTo>
                <a:lnTo>
                  <a:pt x="0" y="0"/>
                </a:lnTo>
                <a:lnTo>
                  <a:pt x="1400" y="1400"/>
                </a:lnTo>
                <a:lnTo>
                  <a:pt x="1400" y="20200"/>
                </a:lnTo>
                <a:close/>
              </a:path>
              <a:path fill="darken" w="21977" h="21600">
                <a:moveTo>
                  <a:pt x="3982" y="10800"/>
                </a:moveTo>
                <a:lnTo>
                  <a:pt x="17995" y="3794"/>
                </a:lnTo>
                <a:lnTo>
                  <a:pt x="17995"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634" name="">
            <a:hlinkClick r:id="" action="ppaction://hlinkshowjump?jump=nextslide"/>
          </p:cNvPr>
          <p:cNvSpPr/>
          <p:nvPr/>
        </p:nvSpPr>
        <p:spPr>
          <a:xfrm>
            <a:off x="125892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4263" y="3794"/>
                </a:moveTo>
                <a:lnTo>
                  <a:pt x="18276" y="10800"/>
                </a:lnTo>
                <a:lnTo>
                  <a:pt x="4263"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635" name="">
            <a:hlinkClick r:id="" action="ppaction://hlinkshowjump?jump=firstslide"/>
          </p:cNvPr>
          <p:cNvSpPr/>
          <p:nvPr/>
        </p:nvSpPr>
        <p:spPr>
          <a:xfrm>
            <a:off x="61128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11270" y="3837"/>
                </a:moveTo>
                <a:lnTo>
                  <a:pt x="13846" y="6448"/>
                </a:lnTo>
                <a:lnTo>
                  <a:pt x="13846" y="4707"/>
                </a:lnTo>
                <a:lnTo>
                  <a:pt x="15621" y="4707"/>
                </a:lnTo>
                <a:lnTo>
                  <a:pt x="15621" y="8224"/>
                </a:lnTo>
                <a:lnTo>
                  <a:pt x="18233" y="10800"/>
                </a:lnTo>
                <a:lnTo>
                  <a:pt x="16579" y="10800"/>
                </a:lnTo>
                <a:lnTo>
                  <a:pt x="16579" y="17989"/>
                </a:lnTo>
                <a:lnTo>
                  <a:pt x="5960" y="17989"/>
                </a:lnTo>
                <a:lnTo>
                  <a:pt x="5960" y="10800"/>
                </a:lnTo>
                <a:lnTo>
                  <a:pt x="4307" y="10800"/>
                </a:lnTo>
                <a:close/>
              </a:path>
              <a:path fill="darkenLess" w="22539" h="21600">
                <a:moveTo>
                  <a:pt x="13846" y="6448"/>
                </a:moveTo>
                <a:lnTo>
                  <a:pt x="13846" y="4707"/>
                </a:lnTo>
                <a:lnTo>
                  <a:pt x="15621" y="4707"/>
                </a:lnTo>
                <a:lnTo>
                  <a:pt x="15621" y="8224"/>
                </a:lnTo>
                <a:close/>
              </a:path>
              <a:path fill="darkenLess" w="22539" h="21600">
                <a:moveTo>
                  <a:pt x="10347" y="14299"/>
                </a:moveTo>
                <a:lnTo>
                  <a:pt x="12192" y="14299"/>
                </a:lnTo>
                <a:lnTo>
                  <a:pt x="12192" y="17989"/>
                </a:lnTo>
                <a:lnTo>
                  <a:pt x="16579" y="17989"/>
                </a:lnTo>
                <a:lnTo>
                  <a:pt x="16579" y="10800"/>
                </a:lnTo>
                <a:lnTo>
                  <a:pt x="5960" y="10800"/>
                </a:lnTo>
                <a:lnTo>
                  <a:pt x="5960" y="17989"/>
                </a:lnTo>
                <a:lnTo>
                  <a:pt x="10347" y="17989"/>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Tree>
  </p:cSld>
  <p:transition spd="slow">
    <p:wheel spokes="1"/>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36" name="Dikdörtgen 3" descr=""/>
          <p:cNvPicPr/>
          <p:nvPr/>
        </p:nvPicPr>
        <p:blipFill>
          <a:blip r:embed="rId2"/>
          <a:stretch/>
        </p:blipFill>
        <p:spPr>
          <a:xfrm>
            <a:off x="249120" y="3724200"/>
            <a:ext cx="8388360" cy="3152880"/>
          </a:xfrm>
          <a:prstGeom prst="rect">
            <a:avLst/>
          </a:prstGeom>
          <a:ln w="0">
            <a:noFill/>
          </a:ln>
        </p:spPr>
      </p:pic>
      <p:sp>
        <p:nvSpPr>
          <p:cNvPr id="637" name="">
            <a:hlinkClick r:id="" action="ppaction://hlinkshowjump?jump=previousslide"/>
          </p:cNvPr>
          <p:cNvSpPr/>
          <p:nvPr/>
        </p:nvSpPr>
        <p:spPr>
          <a:xfrm>
            <a:off x="0" y="6219720"/>
            <a:ext cx="649440" cy="638280"/>
          </a:xfrm>
          <a:custGeom>
            <a:avLst/>
            <a:gdLst>
              <a:gd name="textAreaLeft" fmla="*/ 41040 w 649440"/>
              <a:gd name="textAreaRight" fmla="*/ 608400 w 649440"/>
              <a:gd name="textAreaTop" fmla="*/ 41040 h 638280"/>
              <a:gd name="textAreaBottom" fmla="*/ 597240 h 638280"/>
            </a:gdLst>
            <a:ahLst/>
            <a:rect l="textAreaLeft" t="textAreaTop" r="textAreaRight" b="textAreaBottom"/>
            <a:pathLst>
              <a:path w="21977" h="21600">
                <a:moveTo>
                  <a:pt x="0" y="0"/>
                </a:moveTo>
                <a:lnTo>
                  <a:pt x="21977" y="0"/>
                </a:lnTo>
                <a:lnTo>
                  <a:pt x="21977" y="21600"/>
                </a:lnTo>
                <a:lnTo>
                  <a:pt x="0" y="21600"/>
                </a:lnTo>
                <a:close/>
              </a:path>
              <a:path fill="lightenLess" w="21977" h="21600">
                <a:moveTo>
                  <a:pt x="0" y="0"/>
                </a:moveTo>
                <a:lnTo>
                  <a:pt x="21977" y="0"/>
                </a:lnTo>
                <a:lnTo>
                  <a:pt x="20577" y="1400"/>
                </a:lnTo>
                <a:lnTo>
                  <a:pt x="1400" y="1400"/>
                </a:lnTo>
                <a:close/>
              </a:path>
              <a:path fill="darken" w="21977" h="21600">
                <a:moveTo>
                  <a:pt x="21977" y="0"/>
                </a:moveTo>
                <a:lnTo>
                  <a:pt x="21977" y="21600"/>
                </a:lnTo>
                <a:lnTo>
                  <a:pt x="20577" y="20200"/>
                </a:lnTo>
                <a:lnTo>
                  <a:pt x="20577" y="1400"/>
                </a:lnTo>
                <a:close/>
              </a:path>
              <a:path fill="darkenLess" w="21977" h="21600">
                <a:moveTo>
                  <a:pt x="21977" y="21600"/>
                </a:moveTo>
                <a:lnTo>
                  <a:pt x="0" y="21600"/>
                </a:lnTo>
                <a:lnTo>
                  <a:pt x="1400" y="20200"/>
                </a:lnTo>
                <a:lnTo>
                  <a:pt x="20577" y="20200"/>
                </a:lnTo>
                <a:close/>
              </a:path>
              <a:path fill="lighten" w="21977" h="21600">
                <a:moveTo>
                  <a:pt x="0" y="21600"/>
                </a:moveTo>
                <a:lnTo>
                  <a:pt x="0" y="0"/>
                </a:lnTo>
                <a:lnTo>
                  <a:pt x="1400" y="1400"/>
                </a:lnTo>
                <a:lnTo>
                  <a:pt x="1400" y="20200"/>
                </a:lnTo>
                <a:close/>
              </a:path>
              <a:path fill="darken" w="21977" h="21600">
                <a:moveTo>
                  <a:pt x="3982" y="10800"/>
                </a:moveTo>
                <a:lnTo>
                  <a:pt x="17995" y="3794"/>
                </a:lnTo>
                <a:lnTo>
                  <a:pt x="17995"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638" name="">
            <a:hlinkClick r:id="" action="ppaction://hlinkshowjump?jump=nextslide"/>
          </p:cNvPr>
          <p:cNvSpPr/>
          <p:nvPr/>
        </p:nvSpPr>
        <p:spPr>
          <a:xfrm>
            <a:off x="125892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4263" y="3794"/>
                </a:moveTo>
                <a:lnTo>
                  <a:pt x="18276" y="10800"/>
                </a:lnTo>
                <a:lnTo>
                  <a:pt x="4263" y="17806"/>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
        <p:nvSpPr>
          <p:cNvPr id="639" name="">
            <a:hlinkClick r:id="" action="ppaction://hlinkshowjump?jump=firstslide"/>
          </p:cNvPr>
          <p:cNvSpPr/>
          <p:nvPr/>
        </p:nvSpPr>
        <p:spPr>
          <a:xfrm>
            <a:off x="61128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11270" y="3837"/>
                </a:moveTo>
                <a:lnTo>
                  <a:pt x="13846" y="6448"/>
                </a:lnTo>
                <a:lnTo>
                  <a:pt x="13846" y="4707"/>
                </a:lnTo>
                <a:lnTo>
                  <a:pt x="15621" y="4707"/>
                </a:lnTo>
                <a:lnTo>
                  <a:pt x="15621" y="8224"/>
                </a:lnTo>
                <a:lnTo>
                  <a:pt x="18233" y="10800"/>
                </a:lnTo>
                <a:lnTo>
                  <a:pt x="16579" y="10800"/>
                </a:lnTo>
                <a:lnTo>
                  <a:pt x="16579" y="17989"/>
                </a:lnTo>
                <a:lnTo>
                  <a:pt x="5960" y="17989"/>
                </a:lnTo>
                <a:lnTo>
                  <a:pt x="5960" y="10800"/>
                </a:lnTo>
                <a:lnTo>
                  <a:pt x="4307" y="10800"/>
                </a:lnTo>
                <a:close/>
              </a:path>
              <a:path fill="darkenLess" w="22539" h="21600">
                <a:moveTo>
                  <a:pt x="13846" y="6448"/>
                </a:moveTo>
                <a:lnTo>
                  <a:pt x="13846" y="4707"/>
                </a:lnTo>
                <a:lnTo>
                  <a:pt x="15621" y="4707"/>
                </a:lnTo>
                <a:lnTo>
                  <a:pt x="15621" y="8224"/>
                </a:lnTo>
                <a:close/>
              </a:path>
              <a:path fill="darkenLess" w="22539" h="21600">
                <a:moveTo>
                  <a:pt x="10347" y="14299"/>
                </a:moveTo>
                <a:lnTo>
                  <a:pt x="12192" y="14299"/>
                </a:lnTo>
                <a:lnTo>
                  <a:pt x="12192" y="17989"/>
                </a:lnTo>
                <a:lnTo>
                  <a:pt x="16579" y="17989"/>
                </a:lnTo>
                <a:lnTo>
                  <a:pt x="16579" y="10800"/>
                </a:lnTo>
                <a:lnTo>
                  <a:pt x="5960" y="10800"/>
                </a:lnTo>
                <a:lnTo>
                  <a:pt x="5960" y="17989"/>
                </a:lnTo>
                <a:lnTo>
                  <a:pt x="10347" y="17989"/>
                </a:lnTo>
                <a:close/>
              </a:path>
            </a:pathLst>
          </a:custGeom>
          <a:solidFill>
            <a:srgbClr val="ff38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ndara"/>
            </a:endParaRPr>
          </a:p>
        </p:txBody>
      </p:sp>
    </p:spTree>
  </p:cSld>
  <p:transition spd="slow">
    <p:wheel spokes="1"/>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21T18:29:05Z</dcterms:created>
  <dc:creator>emre</dc:creator>
  <dc:description/>
  <dc:language>en-US</dc:language>
  <cp:lastModifiedBy>KEDİ</cp:lastModifiedBy>
  <dcterms:modified xsi:type="dcterms:W3CDTF">2011-01-05T21:21:53Z</dcterms:modified>
  <cp:revision>22</cp:revision>
  <dc:subject/>
  <dc:title>PowerPoint Sunusu</dc:title>
</cp:coreProperties>
</file>